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cashreg.wav" ContentType="audio/x-wav"/>
  <Override PartName="/ppt/media/image8.gif" ContentType="image/gif"/>
  <Override PartName="/ppt/media/image6.gif" ContentType="image/gif"/>
  <Override PartName="/ppt/media/chimes.wav" ContentType="audio/x-wav"/>
  <Override PartName="/ppt/media/image11.jpeg" ContentType="image/jpeg"/>
  <Override PartName="/ppt/media/image7.png" ContentType="image/png"/>
  <Override PartName="/ppt/media/image10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A0C4-AE9F-490D-8585-FF1FCF785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D10F-388B-4DFC-8801-B33E892C4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24E4F4-C3AF-45D8-AFCB-C7171DC60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2DF927-7EA0-49DB-B2FD-706FAFBBA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B90864-30F0-465F-801D-1F158393D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88AB17-21C8-46B2-B153-D5B15C41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E1878D-0CF6-455B-A05A-CAEF16F6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89903B-1653-4B66-B8D9-6AEAAD44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621187-D2D7-4D09-B1A5-9EA0B9E56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103181-D510-43FB-AA89-5082466EE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E28AC6-9CB1-4C10-B1BA-A34FE7519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D2717A-71A9-4798-B180-262BBD125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0396-889A-48FA-A9EA-BFA59225D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58F027-0A4D-4364-9DAB-CB388B7F7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491221-98EE-43DF-999E-71C20B911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575D2C-BF6C-4DE4-AAEF-8688666DC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B21E88-7659-4E55-A060-01F427C96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A1538D-20AB-404D-91E9-BFF4B71F0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982F5D-0273-4416-8DC0-0E058905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4462D3-54E6-4786-965C-E6B1C244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D70D3C-64C8-4D91-8962-C9E4CBBC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66EA0C-ABCC-47D3-95CB-A6EF0267D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A5BBDC-59E1-4DC2-89C1-049C1CD04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3AEA-49F6-4E4A-9EE5-C36F78839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AE9D09-85B6-40CC-BCD4-4FAF798B5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52F2E3-83CD-460E-9BF1-F8E566E4E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EFFA20-317C-4B99-A774-C953396C8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6658AE-848F-4C29-A15C-3D8A1A82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C3BF9E-2398-4860-A14A-D3C54C12A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FBCEFC-7EE2-4F1A-8605-C1A137D5A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4EFD5B-185D-4B5C-B48A-E2018FDC3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3DB657-8536-4155-92B4-5122664C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3608A1-4C88-4046-8FDB-50664997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0B3D88-0AAA-4D19-AC79-E6B23CDB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038BC-A94F-46A4-8265-2422A9469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DE307A-B053-487A-B7C7-40DF1B55B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B9A48B-2DBA-4A1A-B993-CB55D3BBB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4D9A13-4EA9-4198-966D-21A0F2348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3A9E58-6DE4-4F5E-86DB-877140F30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D9A4F2-435E-4857-87C2-4CC4AF785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C149A3-CBF5-4E22-9C3C-E918498D6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09F29F-7D33-4870-B72B-7719B4437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04A8FB-17EC-4A5C-8821-2D83FAFFB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6E8F8B-F952-4511-8BDA-A7FCA81BC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D334E1-89F7-46A1-A5D6-76FA8C2C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D82E6-FE60-44D0-B09B-DEBD148F8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C4C95B-FF46-4C1E-9753-A994DF84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9C7ED8-B5CB-4E22-91DD-B61246A3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3E2F09-FC18-4498-962C-4112E4104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F75F7B-26BF-48B9-B200-3D7F50E04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A6BC95-C1CB-4A80-B354-F8649BD49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EB0454-26C9-4665-8CF2-84F967081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268053-577F-4B5A-A076-E9EFBFC67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51ADC9-10B6-4B61-87D5-FA170EAB8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7261A9-9D8E-4113-A42B-5917EA02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DB1D02-39BC-4643-8B5D-274345EC9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CD96A-9EF3-48FD-B555-8903D6195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BBC85F-96F7-40C6-A8FC-9C36AEE31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426807-4F8B-42E0-875A-E66DE53D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23B7DE-3ACA-4987-BBA5-8EDF1B97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57B5B4-AD5E-4024-B3AD-1F32F2D0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9FC82C-1CD7-4DAA-9779-3FE2FC1F3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EE4BBE-6ACD-4C1F-9EA7-2D4C796E4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63F543-DC5C-4B91-9DE3-4F4507AAA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8268E-469F-434D-BCBD-C66396AA2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93C01-CDC1-437D-BDEC-87C0167FF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CAE9C-4980-4F0A-B4A4-8FDE916B1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A0ADD-EEDF-4681-909A-C06E5D8D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22AF-3652-47D7-BC19-42B178945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4EB65-9CC1-45B8-8B68-57768BF9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F2D92-001E-4418-B9D5-FD4EAFAF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91BED-753F-4197-87BC-2E1D3CEA3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4F5A9-95E9-4A5F-A41A-088B01B35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BAB89-437B-4293-BF8C-08A5CF5DD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D5004-CB97-45B5-AAFD-0A37FFBAC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65348-36DB-4701-8397-FEAFC711D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D9BCC-4E2A-4631-B6D9-187A178D9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5A67F-C182-42AD-A0A8-967C5B27D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643C3-8688-4395-AC27-31764FBF8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8368-4560-4F41-8DF0-DA4A67927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CCCBD-4FB6-43CD-AEE7-7F47E2936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3159D-D063-4255-BCA3-9AC70019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8F5E0-C547-42C3-8E9C-DE45E760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09D59-C866-47FF-B644-C4425BF9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5A4F9-E09B-4F62-BDCF-AE5C15B0B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984D2-FB44-4498-9E85-1B67B0195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9B830-752A-4F72-90D7-4B9E9E9F8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2DF4B-D831-483D-B70E-7E287B170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208E2-B640-46D2-9D60-15DDA8416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B0EEB-279E-43DE-9D9A-B328051FD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B9E9-845D-4A3C-8FF8-422B3A5AF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F46C5-776E-4981-A08A-37877C8AF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A4DAE-165B-48BA-B1DC-5B895B2CD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5C43E-6210-45B7-8BE9-D7857FCEB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4588D-E444-43B3-9972-D55FF3AF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E1112-BED0-48CF-BC50-0E9B3842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8317F-75F7-452B-B894-639FD241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FC3DB-AF3E-4AF7-9696-33A76008F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9F3C1-1726-498A-BC39-6D044E426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7B88F-BB33-4F5C-83B8-F6B9BDE81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724F6-9F46-4592-AA7F-7CF7474D4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CB86-4849-4D8B-8590-1EEBA2B40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D561A-5259-425C-BA44-57F741F8A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D33F2-2D28-4EEF-A4F6-2F187FE66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DAD66-B492-4D5B-A7DD-85933F57C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8BF6F-DAAF-41A9-9261-5ADB73990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354A8-95C5-45D1-8230-9770ED87E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F78DC-CAEF-4403-8E15-1EB7110A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A4121-E2AE-4C12-99E4-4D1BC93E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3CD6E-6156-4A3E-AD6C-8D0A4122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66DDD-72BD-4D01-9516-8C8BEC7C3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A1C11-30BB-465E-99BC-5F478BCDF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91EB-D736-4377-B575-F59597A79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FC07F-2120-426D-92E3-E37189AD4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1CE84-E602-4E0F-893E-0ED865F7C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E22C52-CF03-4EE6-8EAC-16B906CDE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43446-0D4E-4C4D-B87E-93A55515B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97B393-13F0-4B9C-85DE-9AB3A78B9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213FCC-7757-4F21-8074-D9DDE0D56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D3B9E-A507-46F5-AFA6-29540ACA9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2D2468-B7E0-4E70-871C-0194B378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650EEB-4CE4-45B8-A4FB-E4803464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423EFC-7AFD-4B4C-A886-65EE6844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FCF5-1773-4294-AAE4-FC0F53EC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70D44-1575-4B0A-B5B1-F65151930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B2EA4-8C79-48DC-959D-16CC750EA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8F6D15-C7A3-40AD-8303-A839B67AA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FA3F1-538D-4B29-8D0E-34609E147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9DA179-08F2-4BC4-8020-B027E337A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F1668-DCDD-4ED7-8E91-00C1A6021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CB6D7-7E6F-4777-A3B8-BF94E2FFC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18EEFC-630B-4510-ACE3-02E07C577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9426C-8E52-4C4F-B388-03534A8B2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9DC8B-79E6-4AEA-9AA1-DC973F95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D5A9-C300-48DB-9D16-9FA26A7E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F9129-585E-4D4F-A547-624C20D0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C3E38-223B-41A7-BE61-01EEB3B5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6D638C-D612-4CB6-92A8-ED235EEE3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717593-C108-48BB-BC62-4C567EB7D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1CA7DB-2678-4181-A842-E8997D505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543F3F-5DE7-4CF9-936C-6F5808DD9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6BCB9C-8054-47EE-9125-3DE85072C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06F9DC-2AE3-4170-A290-6A4190CE9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D60134-109F-4279-9D41-7993467EE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7B2D7F-F67D-4659-AB7B-6C629E702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A451-5123-4CA0-A5E6-F464542C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7C46E-6E11-4148-A28A-DD7D2D321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AA493C-9447-4019-A195-686FAD66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25103D-FF2F-4560-AC1B-84317332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1453C2-F9C7-41F2-B83F-C3675C3D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3B179B-74B0-4372-8B30-9E84C579E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5D9902-0BEB-42A0-8E85-AD4D67279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361ECE-8FAD-479C-B7DA-3D91C6DE0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36DA1F-91A5-45D4-BCE4-C31E25543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82CD84-67C1-4280-AED6-4F90D8E47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B1702A-A130-4388-8FD4-9953CB426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E76EE-98CE-4066-9615-CD0F0634DC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3A2C4-F132-4079-AAD4-7BDC7AFA3F1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10185-46BD-4489-AB71-C6CD21F09F0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076E1-27CF-49F5-A571-E9453D86DEB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03692-E400-4964-A92A-5F931281C60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7C74A-044C-4C19-ADD1-E7A12C9B74E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FF27E-AA47-4934-B1B2-77EAFC60D2D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15D95-87F5-45FF-BF63-67EB379F2AC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ECA69-BE81-461A-8EEB-D88FA7CBB11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FF213-C5AD-49A2-8918-871D34EA832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E163-2069-4A89-8B8F-DC2EBAA8DD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D9496-11A6-43D3-BF18-32573BC541E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EC8C3-18EE-4BC0-9886-78968EEDA36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11428-C195-451D-97A0-300442EF410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C591B-71E9-490E-8764-00FF18347B7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75D93-81D5-4683-BAEF-64BB4284194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F40DD-D205-4F1B-A46F-2F84B5AE356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D06D0-6945-4F2B-A287-D2564152684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D8B9D-BA91-43EE-A1A4-7F27DE226D3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E6515-286B-4238-9885-CCA5D76C376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0820B-8345-4C29-BA32-810390B91E7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F316B-6D76-4150-8AD0-AC642A8FACC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28F9A-1B0F-4E79-84DE-6DFBFC8CCAF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EC65D-47A7-4E97-B78D-0A066BCEE7F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4651E-1539-468E-9424-15A3895DD60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3" descr="E:\0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73740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4" descr="E:\002.jpg"/>
          <p:cNvPicPr/>
          <p:nvPr/>
        </p:nvPicPr>
        <p:blipFill>
          <a:blip r:embed="rId2"/>
          <a:stretch/>
        </p:blipFill>
        <p:spPr>
          <a:xfrm>
            <a:off x="0" y="120600"/>
            <a:ext cx="9144000" cy="6737400"/>
          </a:xfrm>
          <a:prstGeom prst="rect">
            <a:avLst/>
          </a:prstGeom>
          <a:ln w="0">
            <a:noFill/>
          </a:ln>
        </p:spPr>
      </p:pic>
      <p:pic>
        <p:nvPicPr>
          <p:cNvPr id="535" name="Rectangle 5" descr=""/>
          <p:cNvPicPr/>
          <p:nvPr/>
        </p:nvPicPr>
        <p:blipFill>
          <a:blip r:embed="rId3"/>
          <a:stretch/>
        </p:blipFill>
        <p:spPr>
          <a:xfrm>
            <a:off x="901800" y="1700280"/>
            <a:ext cx="719928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C:\WINDOWS\Desktop\未标题-2 副本.jpg"/>
          <p:cNvPicPr/>
          <p:nvPr/>
        </p:nvPicPr>
        <p:blipFill>
          <a:blip r:embed="rId1"/>
          <a:stretch/>
        </p:blipFill>
        <p:spPr>
          <a:xfrm>
            <a:off x="457200" y="0"/>
            <a:ext cx="8686800" cy="60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5" descr="E:\素材\课件图片素材\自然素材\风景\FJ_006.gif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562" name="Text Box 2"/>
          <p:cNvSpPr/>
          <p:nvPr/>
        </p:nvSpPr>
        <p:spPr>
          <a:xfrm>
            <a:off x="2243160" y="2438280"/>
            <a:ext cx="475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Times New Roman"/>
              </a:rPr>
              <a:t>假设种葫芦的人第二年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Times New Roman"/>
              </a:rPr>
              <a:t>又种了一棵葫芦，他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Times New Roman"/>
              </a:rPr>
              <a:t>怎么做呢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1697760" y="53352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Times New Roman"/>
              </a:rPr>
              <a:t>思维拓展：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4" name="Picture 4" descr="E:\素材\课件动画素材\人文\小孩\RX_004.gif"/>
          <p:cNvPicPr/>
          <p:nvPr/>
        </p:nvPicPr>
        <p:blipFill>
          <a:blip r:embed="rId2"/>
          <a:stretch/>
        </p:blipFill>
        <p:spPr>
          <a:xfrm>
            <a:off x="6705720" y="0"/>
            <a:ext cx="14364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3" descr="C:\My Documents\图片集\34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6" name="Text Box 2"/>
          <p:cNvSpPr/>
          <p:nvPr/>
        </p:nvSpPr>
        <p:spPr>
          <a:xfrm>
            <a:off x="2151000" y="2666880"/>
            <a:ext cx="475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Times New Roman"/>
              </a:rPr>
              <a:t>学了这课之后，你从中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Times New Roman"/>
              </a:rPr>
              <a:t>明白了什么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4"/>
          <p:cNvSpPr/>
          <p:nvPr/>
        </p:nvSpPr>
        <p:spPr>
          <a:xfrm>
            <a:off x="609480" y="60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5"/>
          <p:cNvSpPr/>
          <p:nvPr/>
        </p:nvSpPr>
        <p:spPr>
          <a:xfrm>
            <a:off x="1113480" y="68256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ff"/>
                </a:solidFill>
                <a:latin typeface="Times New Roman"/>
                <a:ea typeface="华文行楷"/>
              </a:rPr>
              <a:t>启迪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9" name="Picture 6" descr="D:\素材大全\课件动画素材\人文\天使\RT_002.gif"/>
          <p:cNvPicPr/>
          <p:nvPr/>
        </p:nvPicPr>
        <p:blipFill>
          <a:blip r:embed="rId2"/>
          <a:stretch/>
        </p:blipFill>
        <p:spPr>
          <a:xfrm>
            <a:off x="6858000" y="609480"/>
            <a:ext cx="20113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7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2"/>
          <p:cNvSpPr/>
          <p:nvPr/>
        </p:nvSpPr>
        <p:spPr>
          <a:xfrm>
            <a:off x="991800" y="4572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课件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3"/>
          <p:cNvSpPr/>
          <p:nvPr/>
        </p:nvSpPr>
        <p:spPr>
          <a:xfrm>
            <a:off x="441360" y="1773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4"/>
          <p:cNvSpPr/>
          <p:nvPr/>
        </p:nvSpPr>
        <p:spPr>
          <a:xfrm>
            <a:off x="1739160" y="1447920"/>
            <a:ext cx="5392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6600"/>
                </a:solidFill>
                <a:latin typeface="Times New Roman"/>
              </a:rPr>
              <a:t>先让同学们观察两幅图有什么不同，让学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6600"/>
                </a:solidFill>
                <a:latin typeface="Times New Roman"/>
              </a:rPr>
              <a:t>自由说，然后由此导入课题，解决生字后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6600"/>
                </a:solidFill>
                <a:latin typeface="Times New Roman"/>
              </a:rPr>
              <a:t>然后以小组为单位进行合作探究，在抓重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6600"/>
                </a:solidFill>
                <a:latin typeface="Times New Roman"/>
              </a:rPr>
              <a:t>句子进行朗读指导，处理完课文内容后，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6600"/>
                </a:solidFill>
                <a:latin typeface="Times New Roman"/>
              </a:rPr>
              <a:t>进行思维拓展，最后归纳，让学生体会文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6600"/>
                </a:solidFill>
                <a:latin typeface="Times New Roman"/>
              </a:rPr>
              <a:t>的含义，从中受到启发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矩形 7"/>
          <p:cNvSpPr/>
          <p:nvPr/>
        </p:nvSpPr>
        <p:spPr>
          <a:xfrm>
            <a:off x="1908000" y="5284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Picture 2" descr="C:\WINDOWS\Desktop\未标题-1 副本.jpg"/>
          <p:cNvPicPr/>
          <p:nvPr/>
        </p:nvPicPr>
        <p:blipFill>
          <a:blip r:embed="rId1"/>
          <a:stretch/>
        </p:blipFill>
        <p:spPr>
          <a:xfrm>
            <a:off x="0" y="304920"/>
            <a:ext cx="4800600" cy="426708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3" descr="C:\WINDOWS\Desktop\未标题-2 副本.jpg"/>
          <p:cNvPicPr/>
          <p:nvPr/>
        </p:nvPicPr>
        <p:blipFill>
          <a:blip r:embed="rId2"/>
          <a:stretch/>
        </p:blipFill>
        <p:spPr>
          <a:xfrm>
            <a:off x="4495680" y="304920"/>
            <a:ext cx="4648320" cy="4267080"/>
          </a:xfrm>
          <a:prstGeom prst="rect">
            <a:avLst/>
          </a:prstGeom>
          <a:ln w="0">
            <a:noFill/>
          </a:ln>
        </p:spPr>
      </p:pic>
      <p:sp>
        <p:nvSpPr>
          <p:cNvPr id="542" name="Text Box 4"/>
          <p:cNvSpPr/>
          <p:nvPr/>
        </p:nvSpPr>
        <p:spPr>
          <a:xfrm>
            <a:off x="4212360" y="510552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66"/>
                </a:solidFill>
                <a:latin typeface="Times New Roman"/>
              </a:rPr>
              <a:t>你发现两幅图有什么不一样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2" descr="C:\My Documents\hdk\蒲春燕1 copy.jpg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164280"/>
          </a:xfrm>
          <a:prstGeom prst="rect">
            <a:avLst/>
          </a:prstGeom>
          <a:ln w="0">
            <a:noFill/>
          </a:ln>
        </p:spPr>
      </p:pic>
      <p:sp>
        <p:nvSpPr>
          <p:cNvPr id="544" name="Text Box 3"/>
          <p:cNvSpPr/>
          <p:nvPr/>
        </p:nvSpPr>
        <p:spPr>
          <a:xfrm>
            <a:off x="3948840" y="2514600"/>
            <a:ext cx="1474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14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、我要的是葫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5" name="Picture 4" descr="gif008"/>
          <p:cNvPicPr/>
          <p:nvPr/>
        </p:nvPicPr>
        <p:blipFill>
          <a:blip r:embed="rId2"/>
          <a:stretch/>
        </p:blipFill>
        <p:spPr>
          <a:xfrm>
            <a:off x="0" y="0"/>
            <a:ext cx="1679400" cy="14968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1026"/>
          <p:cNvSpPr/>
          <p:nvPr/>
        </p:nvSpPr>
        <p:spPr>
          <a:xfrm>
            <a:off x="3216960" y="83808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0" spc="-1" strike="noStrike">
                <a:solidFill>
                  <a:srgbClr val="ff0066"/>
                </a:solidFill>
                <a:latin typeface="Times New Roman"/>
              </a:rPr>
              <a:t>葫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1027"/>
          <p:cNvSpPr/>
          <p:nvPr/>
        </p:nvSpPr>
        <p:spPr>
          <a:xfrm>
            <a:off x="2438280" y="782640"/>
            <a:ext cx="457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0" spc="-1" strike="noStrike">
                <a:solidFill>
                  <a:srgbClr val="ff00ff"/>
                </a:solidFill>
                <a:latin typeface="Times New Roman"/>
              </a:rPr>
              <a:t>芦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1028"/>
          <p:cNvSpPr/>
          <p:nvPr/>
        </p:nvSpPr>
        <p:spPr>
          <a:xfrm>
            <a:off x="3216960" y="53352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0" spc="-1" strike="noStrike">
                <a:solidFill>
                  <a:srgbClr val="336600"/>
                </a:solidFill>
                <a:latin typeface="Times New Roman"/>
              </a:rPr>
              <a:t>藤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1029"/>
          <p:cNvSpPr/>
          <p:nvPr/>
        </p:nvSpPr>
        <p:spPr>
          <a:xfrm>
            <a:off x="3141000" y="68580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0" spc="-1" strike="noStrike">
                <a:solidFill>
                  <a:srgbClr val="0000cc"/>
                </a:solidFill>
                <a:latin typeface="Times New Roman"/>
              </a:rPr>
              <a:t>哇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1030"/>
          <p:cNvSpPr/>
          <p:nvPr/>
        </p:nvSpPr>
        <p:spPr>
          <a:xfrm>
            <a:off x="3293280" y="129528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0" spc="-1" strike="noStrike">
                <a:solidFill>
                  <a:srgbClr val="ff3399"/>
                </a:solidFill>
                <a:latin typeface="Times New Roman"/>
              </a:rPr>
              <a:t>盯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1031"/>
          <p:cNvSpPr/>
          <p:nvPr/>
        </p:nvSpPr>
        <p:spPr>
          <a:xfrm>
            <a:off x="3141000" y="137160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0" spc="-1" strike="noStrike">
                <a:solidFill>
                  <a:srgbClr val="cc0000"/>
                </a:solidFill>
                <a:latin typeface="Times New Roman"/>
              </a:rPr>
              <a:t>邻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2"/>
          <p:cNvSpPr/>
          <p:nvPr/>
        </p:nvSpPr>
        <p:spPr>
          <a:xfrm>
            <a:off x="838080" y="3657600"/>
            <a:ext cx="6585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00"/>
                </a:solidFill>
                <a:latin typeface="Times New Roman"/>
              </a:rPr>
              <a:t>3</a:t>
            </a:r>
            <a:r>
              <a:rPr b="0" lang="zh-CN" sz="4800" spc="-1" strike="noStrike">
                <a:solidFill>
                  <a:srgbClr val="336600"/>
                </a:solidFill>
                <a:latin typeface="Times New Roman"/>
              </a:rPr>
              <a:t>、</a:t>
            </a:r>
            <a:r>
              <a:rPr b="1" lang="zh-CN" sz="4800" spc="-1" strike="noStrike">
                <a:solidFill>
                  <a:srgbClr val="336600"/>
                </a:solidFill>
                <a:latin typeface="Times New Roman"/>
              </a:rPr>
              <a:t>种葫芦的人看到小葫芦都落了，会想些什么呢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3"/>
          <p:cNvSpPr/>
          <p:nvPr/>
        </p:nvSpPr>
        <p:spPr>
          <a:xfrm>
            <a:off x="2719440" y="1305000"/>
            <a:ext cx="3106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zh-CN" sz="4800" spc="-1" strike="noStrike">
                <a:solidFill>
                  <a:srgbClr val="0000cc"/>
                </a:solidFill>
                <a:latin typeface="Times New Roman"/>
              </a:rPr>
              <a:t>、葫芦开始长得怎么样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Times New Roman"/>
              </a:rPr>
              <a:t>后来有什么变化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99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ff3399"/>
                </a:solidFill>
                <a:latin typeface="Times New Roman"/>
              </a:rPr>
              <a:t>、小葫芦为什么会落呢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4"/>
          <p:cNvSpPr/>
          <p:nvPr/>
        </p:nvSpPr>
        <p:spPr>
          <a:xfrm>
            <a:off x="1334160" y="34920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讨论交流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2"/>
          <p:cNvSpPr/>
          <p:nvPr/>
        </p:nvSpPr>
        <p:spPr>
          <a:xfrm>
            <a:off x="1688760" y="990720"/>
            <a:ext cx="5423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ff"/>
                </a:solidFill>
                <a:latin typeface="Times New Roman"/>
              </a:rPr>
              <a:t>邻居</a:t>
            </a:r>
            <a:r>
              <a:rPr b="1" lang="zh-CN" sz="5400" spc="-1" strike="noStrike">
                <a:solidFill>
                  <a:srgbClr val="3333cc"/>
                </a:solidFill>
                <a:latin typeface="Times New Roman"/>
              </a:rPr>
              <a:t>：</a:t>
            </a:r>
            <a:r>
              <a:rPr b="1" lang="zh-CN" sz="5400" spc="-1" strike="noStrike">
                <a:solidFill>
                  <a:srgbClr val="ff3399"/>
                </a:solidFill>
                <a:latin typeface="Times New Roman"/>
              </a:rPr>
              <a:t>“你别光盯着葫芦了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99"/>
                </a:solidFill>
                <a:latin typeface="Times New Roman"/>
              </a:rPr>
              <a:t>叶子上生了蚜虫，快治一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99"/>
                </a:solidFill>
                <a:latin typeface="Times New Roman"/>
              </a:rPr>
              <a:t>吧！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3"/>
          <p:cNvSpPr/>
          <p:nvPr/>
        </p:nvSpPr>
        <p:spPr>
          <a:xfrm>
            <a:off x="1688760" y="3505320"/>
            <a:ext cx="5423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ff"/>
                </a:solidFill>
                <a:latin typeface="Times New Roman"/>
              </a:rPr>
              <a:t>种葫芦人：</a:t>
            </a:r>
            <a:r>
              <a:rPr b="1" lang="zh-CN" sz="5400" spc="-1" strike="noStrike">
                <a:solidFill>
                  <a:srgbClr val="ff3399"/>
                </a:solidFill>
                <a:latin typeface="Times New Roman"/>
              </a:rPr>
              <a:t>“什么？叶子上的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99"/>
                </a:solidFill>
                <a:latin typeface="Times New Roman"/>
              </a:rPr>
              <a:t>虫还用治？我要的是葫芦。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 Box 1026"/>
          <p:cNvSpPr/>
          <p:nvPr/>
        </p:nvSpPr>
        <p:spPr>
          <a:xfrm>
            <a:off x="762120" y="1447920"/>
            <a:ext cx="7315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00"/>
                </a:solidFill>
                <a:latin typeface="Times New Roman"/>
              </a:rPr>
              <a:t>种葫芦的人看到小葫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00"/>
                </a:solidFill>
                <a:latin typeface="Times New Roman"/>
              </a:rPr>
              <a:t>一个一个都落了，他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00"/>
                </a:solidFill>
                <a:latin typeface="Times New Roman"/>
              </a:rPr>
              <a:t>可能会</a:t>
            </a:r>
            <a:r>
              <a:rPr b="1" lang="en-US" sz="5400" spc="-1" strike="noStrike">
                <a:solidFill>
                  <a:srgbClr val="336600"/>
                </a:solidFill>
                <a:latin typeface="Times New Roman"/>
              </a:rPr>
              <a:t>———</a:t>
            </a:r>
            <a:r>
              <a:rPr b="1" lang="zh-CN" sz="5400" spc="-1" strike="noStrike">
                <a:solidFill>
                  <a:srgbClr val="336600"/>
                </a:solidFill>
                <a:latin typeface="Times New Roman"/>
              </a:rPr>
              <a:t>地说</a:t>
            </a:r>
            <a:r>
              <a:rPr b="1" lang="en-US" sz="5400" spc="-1" strike="noStrike">
                <a:solidFill>
                  <a:srgbClr val="336600"/>
                </a:solidFill>
                <a:latin typeface="Times New Roman"/>
              </a:rPr>
              <a:t>———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00"/>
                </a:solidFill>
                <a:latin typeface="Times New Roman"/>
              </a:rPr>
              <a:t>————</a:t>
            </a:r>
            <a:r>
              <a:rPr b="1" lang="zh-CN" sz="5400" spc="-1" strike="noStrike">
                <a:solidFill>
                  <a:srgbClr val="336600"/>
                </a:solidFill>
                <a:latin typeface="Times New Roman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1027"/>
          <p:cNvSpPr/>
          <p:nvPr/>
        </p:nvSpPr>
        <p:spPr>
          <a:xfrm>
            <a:off x="1830240" y="8244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发挥想象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2" descr="C:\WINDOWS\Desktop\未标题-1 副本.jpg"/>
          <p:cNvPicPr/>
          <p:nvPr/>
        </p:nvPicPr>
        <p:blipFill>
          <a:blip r:embed="rId1"/>
          <a:stretch/>
        </p:blipFill>
        <p:spPr>
          <a:xfrm>
            <a:off x="0" y="28440"/>
            <a:ext cx="9144000" cy="68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7T06:11:42Z</dcterms:created>
  <dc:creator>第一PPT模板网-WWW.1PPT.COM</dc:creator>
  <dc:description>第一PPT模板网-WWW.1PPT.COM
</dc:description>
  <cp:keywords>第一PPT模板网-WWW.1PPT.COM</cp:keywords>
  <dc:language>en-US</dc:language>
  <cp:lastModifiedBy>a</cp:lastModifiedBy>
  <dcterms:modified xsi:type="dcterms:W3CDTF">2015-03-16T09:55:02Z</dcterms:modified>
  <cp:revision>49</cp:revision>
  <dc:subject>第一PPT模板网-WWW.1PPT.COM</dc:subject>
  <dc:title>第一PPT模板网-WWW.1PPT.COM</dc:title>
</cp:coreProperties>
</file>