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media/image8.jpeg" ContentType="image/jpeg"/>
  <Override PartName="/ppt/media/image9.gif" ContentType="image/gif"/>
  <Override PartName="/ppt/media/image10.gif" ContentType="image/gif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817-239F-44BB-81F4-93CF0F82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D29-98BA-40B0-9569-5819D003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2E72A-D536-40A8-8873-94FE2287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9B688-8A01-40B0-B757-B9EF8323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E9E22-6460-4497-BEAE-7397DBBF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59C0A-F3E8-4645-9A46-D2AB7981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CB648-A96A-4B7B-90E8-AFD1597C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2B457-2283-4299-8EE3-18A8B23E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2BE9E-4D27-4C35-9512-9CE74AC5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471D7-87F1-4F2A-A1FA-D1F8B72C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75EC5-D92E-4551-8342-333C32C4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8577A-0A00-4C76-8DB1-1A459646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AFB-E0FC-40C8-844F-D0FB9D5C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E4EAD-22FE-41E6-A951-4EAC94BA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08182-F9D9-421C-A3FE-11A2EB08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8A4DE-8AAA-4E24-AB04-EF87AA84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EEDA5-A6E2-4711-8A0F-23405A82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8350A-2295-42C3-9FFA-3E51350B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CD42E-5E4A-40A7-B86D-2A87154C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8DB84-3E5F-411D-BC0A-0F85D6E4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35B6E-D6E2-40EE-A2F8-421431D7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99D22-AC42-4301-866E-4F673B43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36339-D616-4401-8A3E-B7E2DD55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8AB-05B6-4685-BE49-B8E42F15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1BF49-F808-44B2-BC2A-46964485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8D33E-9DD2-441A-A024-53963962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B1CF9-13D3-4934-BC8A-6DB0E403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78CC1-C305-4D06-B60E-5FEB5EB5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02792-D16B-493A-8294-91AC23A9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B9695-61D1-4606-8419-214D5775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ADAB6-28DC-437E-82AE-3D962F1A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9B90C-3121-4891-AF5E-671B24BE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F89DE-CDF5-44F5-AE25-0E4991BE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302A6-72B1-4387-A66F-0272C699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9FF9-EEDA-42CF-A28C-E5E98B4A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B8273-506A-4A3E-A2D8-BACB0F7D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922BC-F658-42EB-BC10-7F8B2DA0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3F73B-1F56-42E1-87FE-992572ED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8F726-EE6D-4F2B-AF44-47DFA498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B8B80-246B-4300-8EA1-608CDFE8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B2D3D-EC22-46D3-92B6-97D1D966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7B584-36DE-450A-BBA4-3FABC0B4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05007-2B1A-4362-91BB-CE6C8FE2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77C0C-9375-401D-996C-97F9B9A5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EA730-4ADE-40E6-A8DC-D102827A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AE9E-4274-460F-BEFB-5A8A5F09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40B01-D99A-4730-BE4F-7CABF8AB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5EB16-6535-446B-B79E-78936120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02B20-94F3-404B-BC40-4E840CF7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E3CD6-694C-45E7-86D1-BAD7E284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7AE7A-1BFD-4F89-81C0-E5E994F1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DC57A-1D9A-4D80-B909-FDEA3BA3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8728A-EE07-4190-A6DA-FB086251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D4317-2B13-453B-AFE0-931A471B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71E3A-542A-4FE0-B21B-4F3BAE07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47850-5F76-4AC9-B6AC-6B74D18B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4867-552E-4BC0-93F4-B6633C32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3A3EA-6189-49B0-B193-ACB593FB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F5EFA-4B42-471F-81F5-A0486A70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8A19D-012B-412A-B8E9-B1463F83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1ACCE-5A9C-4B4B-972D-C54F1D09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90FA0-5E71-4A6C-8932-4878DBE1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55847-2E66-4D66-9A8C-A5A446AB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1F8DE-C7E2-44DC-B451-5105078E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E6DC-79DE-4440-888A-06F3F8A7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CEDE-E548-455E-ACF8-0CACFC6B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1D08-A970-403E-91BD-278F0E04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5C2C-F009-4554-A382-3AA25881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721-5822-4C9D-AB92-353EF32F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8B95-1A86-472C-9614-A58DD13E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DD00-2685-47D2-B4C0-EE382333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28F5-CFF0-4751-89DD-33CC4BF0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2CD4-7F2F-4B7E-B1B2-2C6B25F5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E1D2-F789-46CA-9548-E927702B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40C5-3CB2-4765-9D21-64056D08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903B7-8A08-4FFE-90F0-A856AEF3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D81B-F9C5-4CB6-9663-10FEC1FC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EFD97-2033-49A9-B815-E9C04F04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256D-2D50-4037-93B4-9C67AF79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D1A-9F2F-4CC9-B0AA-F111A2FE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524D-950C-46C5-A84F-3ED83E71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C729D-E78E-4345-BD83-8A801E40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96CEE-48A2-495C-97A1-25895572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F452-294D-428B-949F-C5EF39C8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59B8-5CD1-445E-B602-3C04B254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17883-0E1D-4F0D-A4F7-7D3EF198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0CCD5-4FFC-4301-AFB6-F6D21DCD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13E68-A4E2-4169-9A62-60A47803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60BE0-14F0-43B4-BE85-E0F7D96A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A409E-B6A0-44EB-8BA6-C32C3303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0A9-40A0-4A41-9C8C-5F193FE2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385F4-C059-4601-8CB3-42CC808E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48B96-8263-4A3F-B84E-4AF2F8C7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0BBC7-9FBC-475B-96CD-A39FA984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3C0C0-531B-4BE9-8B06-4D2001E4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E6EC8-6701-4A75-8F2B-9878786C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3AECC-26B0-4D68-9D27-55C85B4F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E1168-BC8B-4B72-89C6-BFDAF730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E6389-45D5-4FF0-BB32-67BED910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60A5A-9F8E-40B4-B8EC-FFC70BC8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BF50E-A5B3-46C6-8CED-F12851EB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5BE-83A0-4C75-B4E5-22A47388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5AB1B-0E9B-4584-8B02-4F519441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6D7B9-39D7-4FC8-A526-DB8FB74A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6478B-D061-4422-A5D4-DDA61CA5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FC2AD-81B1-42C5-8795-D8EF8D13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76A49-2E5D-40DA-8C5E-5AE4B674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12B72-C81A-4EAA-8768-EA521DDF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86A57-E757-42AA-8DC0-D9AA783D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ABEA2-4787-4403-B0A2-F2388E86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28322-641F-4C35-AA3B-93B81AA5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CC6C9-7846-4D57-A187-441777C0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FB7-C000-4AAD-8CDF-8FF54E67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DA0B2-DE2B-4FF3-89D9-C6A8F655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82F95-A12F-4463-9A19-6D5F66A6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F2477-A9EB-41D9-B57F-8DB81ABD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1DFFA-7911-410B-A07D-4C3E30AB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BCA3C-D3E3-4714-BDDC-FE0CC289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DF48C-D132-4639-B47B-AED6D92C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5AE1C-26BE-4F55-B2A7-4F67BD6E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274A2-5019-4330-86DD-64D4E55E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B376C-CE64-49D3-A020-9E1981B8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B8B79-73DE-4A6B-946B-1F393E0C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7E6-F509-4996-9FFE-78AC7F81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5A0AC-5EC9-4C0B-801E-43B208AF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16A4C-07DE-469F-96AA-6A5267FF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42660-7623-4C38-B3F8-06D6B39B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5A7DE-A58A-4AAB-817E-302EA3C6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06814-847B-435F-BFAF-72307F68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557FF-C093-46DC-9076-786131CA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4F27A-9A99-472C-B091-6578AA0B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5BDC3-F83F-4861-BAAF-E701437A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66CCC-66CD-478B-80E2-A0718D62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00D25-7FCC-49F1-BE49-EBF4D8B4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144-B4B4-40C8-A669-820EEAA9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0B434-68F2-46A4-BB0C-76236E75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F7F22-9A2E-4A6E-9AD4-FD6BD7A5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F0BC6-72B3-4D49-923F-B784C431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ABD49-FD72-4B18-AE96-1E8AC440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59362-C51A-467E-A619-A091467C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8FB61-A998-4689-A07F-E56AA49E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67464-EC2A-44A1-9E1F-A48B69EF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4A4CC-5039-4C8C-8C84-9C22D29B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6C1DD-13F9-4021-A581-A19E208D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972F1-F924-42CD-B8BE-FA01C02F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A50-65E3-4DD6-B772-5553D509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7F2BD-DB07-46DF-A2DD-16C5AA86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ACC49-B869-40FE-8EAF-048C83A7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DA764-DCF3-4645-A815-2DED2FB1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6A20C-6323-490A-BC75-EDDE4C14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37627-0BB8-426A-9CDF-3D7CDBDF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41310-2B78-4B05-9183-F5305298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D5811-ABE1-4A81-8F42-5584F800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55AE4-E782-4D81-8B1E-156B60E6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535CD-3BAF-4AE1-91BD-9BD88507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F7BE7-DE96-4E97-BA59-A31E4F39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B63F-9D5D-41AB-8A72-8AA0187E9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6CA0-5538-4678-85D1-79F79BC8709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3551-2A09-4BAF-8FA9-B70E491CF4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ED40-B1C9-46F1-8983-7B3E6C1E974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246A-4C23-42C3-B730-F015440F50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8496-2144-4A5C-8D34-4B5711A553B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77E1-FE55-43FA-961B-EE8476B3A3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C311-1624-4DA0-9681-7A6ED8DECD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8543-36A3-44CA-8DD4-A2580EC7EE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8FA6-59A8-4977-99AF-92B6CB30EB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76AB-3526-40A4-8152-F0E9BF0D5D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A262-7F38-4FE1-8090-D2FDBE4BB5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CCAB-1182-4147-9049-91C85A2D06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E5D2-7F84-40CE-8F2A-F2D3A74173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BFEB-0423-4EFB-A5A4-26A0C0CE9F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4BF7-891F-4534-A977-5A003EA4BFA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52AE-2F06-4E77-B279-41BFBFEBF3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1B8B-A911-4F22-9EEC-BAAB6ACAAF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3866-649F-4BC8-A8ED-1DCC22077C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BEE4-8E14-47A7-A1C6-657BF9328D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EDF9-626A-4EAD-A5D3-48DEFD5207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41F8-EC3B-4DFE-9A89-442FB416E5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3D88-E795-4779-BC11-AB518FC313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68FF-69DC-4DC9-966F-D0609646CA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0C88-4553-4ED2-8949-04FA466991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7"/>
          <p:cNvGrpSpPr/>
          <p:nvPr/>
        </p:nvGrpSpPr>
        <p:grpSpPr>
          <a:xfrm>
            <a:off x="2849400" y="779400"/>
            <a:ext cx="5867280" cy="4647960"/>
            <a:chOff x="2849400" y="779400"/>
            <a:chExt cx="5867280" cy="4647960"/>
          </a:xfrm>
        </p:grpSpPr>
        <p:pic>
          <p:nvPicPr>
            <p:cNvPr id="534" name="Picture 4" descr="闻一多与七子之歌"/>
            <p:cNvPicPr/>
            <p:nvPr/>
          </p:nvPicPr>
          <p:blipFill>
            <a:blip r:embed="rId1"/>
            <a:stretch/>
          </p:blipFill>
          <p:spPr>
            <a:xfrm>
              <a:off x="2849400" y="779400"/>
              <a:ext cx="5867280" cy="4647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535" name="Rectangle 6"/>
            <p:cNvSpPr/>
            <p:nvPr/>
          </p:nvSpPr>
          <p:spPr>
            <a:xfrm>
              <a:off x="2849400" y="793800"/>
              <a:ext cx="5867280" cy="45838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Text Box 9"/>
          <p:cNvSpPr/>
          <p:nvPr/>
        </p:nvSpPr>
        <p:spPr>
          <a:xfrm>
            <a:off x="363960" y="457200"/>
            <a:ext cx="248544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         </a:t>
            </a:r>
            <a:r>
              <a:rPr b="1" lang="zh-CN" sz="6000" spc="-1" strike="noStrike">
                <a:solidFill>
                  <a:srgbClr val="000066"/>
                </a:solidFill>
                <a:latin typeface="Times New Roman"/>
                <a:ea typeface="华文隶书"/>
              </a:rPr>
              <a:t>说和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Times New Roman"/>
                <a:ea typeface="华文隶书"/>
              </a:rPr>
              <a:t>闻一多先生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152280" y="287280"/>
            <a:ext cx="2057400" cy="1693800"/>
            <a:chOff x="152280" y="287280"/>
            <a:chExt cx="2057400" cy="1693800"/>
          </a:xfrm>
        </p:grpSpPr>
        <p:pic>
          <p:nvPicPr>
            <p:cNvPr id="613" name="Picture 3" descr="12]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190512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 Box 2"/>
            <p:cNvSpPr/>
            <p:nvPr/>
          </p:nvSpPr>
          <p:spPr>
            <a:xfrm>
              <a:off x="152280" y="3049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Times New Roman"/>
                  <a:ea typeface="华文隶书"/>
                </a:rPr>
                <a:t>品读课文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Text Box 5"/>
          <p:cNvSpPr/>
          <p:nvPr/>
        </p:nvSpPr>
        <p:spPr>
          <a:xfrm>
            <a:off x="2438280" y="45720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         </a:t>
            </a:r>
            <a:r>
              <a:rPr b="1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闻一多前期和后期的思想品格上的主要特征，前后期有什么变化，又有什么共同的地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533520" y="2209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前期为了探索救国救民的出路而潜心学术，不畏艰辛，废寝忘食，十数年如一日，终于在学术上取得累累硕果。后期则投身于民主运动，敢于为人民讲话，面对凶残的敌人无所畏惧，视死如归，体现出民主战士的大勇，成为中国革命知识分子的楷模。但作为一名卓越的学者，一名伟大的爱国者，一名言行一致的志士仁人，他却是始终如一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"/>
          <p:cNvSpPr/>
          <p:nvPr/>
        </p:nvSpPr>
        <p:spPr>
          <a:xfrm>
            <a:off x="685800" y="8683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文章标题为什么取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闻一多先生的说和做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762120" y="1744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闻一多先生的说和做与众不同。作为卓越学者的他是做了再说，做了不说，表现他谦虚美德和实干精神、严谨的治学态度；作为革命家的他是说了就做，言行一致，表现他英勇无畏的英雄气概。文章从说和做两个方面，高度赞扬了闻一多先生的崇高品格和革命精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12"/>
          <p:cNvSpPr/>
          <p:nvPr/>
        </p:nvSpPr>
        <p:spPr>
          <a:xfrm>
            <a:off x="7308720" y="198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179280" y="716040"/>
            <a:ext cx="6019920" cy="5000760"/>
            <a:chOff x="179280" y="716040"/>
            <a:chExt cx="6019920" cy="5000760"/>
          </a:xfrm>
        </p:grpSpPr>
        <p:sp>
          <p:nvSpPr>
            <p:cNvPr id="539" name="Text Box 2"/>
            <p:cNvSpPr/>
            <p:nvPr/>
          </p:nvSpPr>
          <p:spPr>
            <a:xfrm>
              <a:off x="179280" y="716040"/>
              <a:ext cx="6019920" cy="44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华文隶书"/>
                  <a:ea typeface="华文隶书"/>
                </a:rPr>
                <a:t>澳门 你可知</a:t>
              </a: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华文隶书"/>
                </a:rPr>
                <a:t>“</a:t>
              </a:r>
              <a:r>
                <a:rPr b="1" lang="zh-CN" sz="2800" spc="-1" strike="noStrike">
                  <a:solidFill>
                    <a:srgbClr val="000080"/>
                  </a:solidFill>
                  <a:latin typeface="华文隶书"/>
                  <a:ea typeface="华文隶书"/>
                </a:rPr>
                <a:t>妈港</a:t>
              </a: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华文隶书"/>
                </a:rPr>
                <a:t>”</a:t>
              </a:r>
              <a:r>
                <a:rPr b="1" lang="zh-CN" sz="2800" spc="-1" strike="noStrike">
                  <a:solidFill>
                    <a:srgbClr val="000080"/>
                  </a:solidFill>
                  <a:latin typeface="华文隶书"/>
                  <a:ea typeface="华文隶书"/>
                </a:rPr>
                <a:t>不是我真姓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80"/>
                  </a:solidFill>
                  <a:latin typeface="Times New Roman"/>
                  <a:ea typeface="华文隶书"/>
                </a:rPr>
                <a:t>……</a:t>
              </a:r>
              <a:r>
                <a:rPr b="1" lang="en-US" sz="2800" spc="-1" strike="noStrike">
                  <a:solidFill>
                    <a:srgbClr val="000080"/>
                  </a:solidFill>
                  <a:latin typeface="华文隶书"/>
                  <a:ea typeface="华文隶书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华文隶书"/>
                  <a:ea typeface="华文隶书"/>
                </a:rPr>
                <a:t>我离开你的襁褓太久了，母亲！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华文隶书"/>
                  <a:ea typeface="华文隶书"/>
                </a:rPr>
                <a:t>但是他们掳去的是我的肉体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华文隶书"/>
                  <a:ea typeface="华文隶书"/>
                </a:rPr>
                <a:t> </a:t>
              </a:r>
              <a:r>
                <a:rPr b="1" lang="zh-CN" sz="2800" spc="-1" strike="noStrike">
                  <a:solidFill>
                    <a:srgbClr val="000080"/>
                  </a:solidFill>
                  <a:latin typeface="华文隶书"/>
                  <a:ea typeface="华文隶书"/>
                </a:rPr>
                <a:t>你依然保管着我内心的灵魂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华文隶书"/>
                  <a:ea typeface="华文隶书"/>
                </a:rPr>
                <a:t>三百年来梦寐不忘的生母啊！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华文隶书"/>
                  <a:ea typeface="华文隶书"/>
                </a:rPr>
                <a:t>请叫儿的乳名，叫我一声</a:t>
              </a:r>
              <a:r>
                <a:rPr b="1" lang="en-US" sz="2800" spc="-1" strike="noStrike">
                  <a:solidFill>
                    <a:srgbClr val="000080"/>
                  </a:solidFill>
                  <a:latin typeface="华文隶书"/>
                  <a:ea typeface="华文隶书"/>
                </a:rPr>
                <a:t>[</a:t>
              </a:r>
              <a:r>
                <a:rPr b="1" lang="zh-CN" sz="2800" spc="-1" strike="noStrike">
                  <a:solidFill>
                    <a:srgbClr val="000080"/>
                  </a:solidFill>
                  <a:latin typeface="华文隶书"/>
                  <a:ea typeface="华文隶书"/>
                </a:rPr>
                <a:t>澳门</a:t>
              </a:r>
              <a:r>
                <a:rPr b="1" lang="en-US" sz="2800" spc="-1" strike="noStrike">
                  <a:solidFill>
                    <a:srgbClr val="000080"/>
                  </a:solidFill>
                  <a:latin typeface="华文隶书"/>
                  <a:ea typeface="华文隶书"/>
                </a:rPr>
                <a:t>]</a:t>
              </a:r>
              <a:r>
                <a:rPr b="1" lang="zh-CN" sz="2800" spc="-1" strike="noStrike">
                  <a:solidFill>
                    <a:srgbClr val="000080"/>
                  </a:solidFill>
                  <a:latin typeface="华文隶书"/>
                  <a:ea typeface="华文隶书"/>
                </a:rPr>
                <a:t>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6"/>
            <p:cNvSpPr/>
            <p:nvPr/>
          </p:nvSpPr>
          <p:spPr>
            <a:xfrm>
              <a:off x="960840" y="5135400"/>
              <a:ext cx="263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华文隶书"/>
                  <a:ea typeface="华文隶书"/>
                </a:rPr>
                <a:t>母亲！我要回来，母亲！</a:t>
              </a:r>
              <a:r>
                <a:rPr b="1" lang="zh-CN" sz="3200" spc="-1" strike="noStrike">
                  <a:solidFill>
                    <a:srgbClr val="000080"/>
                  </a:solidFill>
                  <a:latin typeface="华文隶书"/>
                  <a:ea typeface="华文隶书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12"/>
          <p:cNvGrpSpPr/>
          <p:nvPr/>
        </p:nvGrpSpPr>
        <p:grpSpPr>
          <a:xfrm>
            <a:off x="5181480" y="1676520"/>
            <a:ext cx="3733920" cy="3492360"/>
            <a:chOff x="5181480" y="1676520"/>
            <a:chExt cx="3733920" cy="3492360"/>
          </a:xfrm>
        </p:grpSpPr>
        <p:grpSp>
          <p:nvGrpSpPr>
            <p:cNvPr id="542" name="Group 8"/>
            <p:cNvGrpSpPr/>
            <p:nvPr/>
          </p:nvGrpSpPr>
          <p:grpSpPr>
            <a:xfrm>
              <a:off x="5181480" y="1676520"/>
              <a:ext cx="3733560" cy="3492360"/>
              <a:chOff x="5181480" y="1676520"/>
              <a:chExt cx="3733560" cy="3492360"/>
            </a:xfrm>
          </p:grpSpPr>
          <p:pic>
            <p:nvPicPr>
              <p:cNvPr id="543" name="Picture 4" descr="闻一多与七子之歌"/>
              <p:cNvPicPr/>
              <p:nvPr/>
            </p:nvPicPr>
            <p:blipFill>
              <a:blip r:embed="rId1"/>
              <a:stretch/>
            </p:blipFill>
            <p:spPr>
              <a:xfrm>
                <a:off x="5181480" y="1676520"/>
                <a:ext cx="3733560" cy="293832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544" name="Text Box 5"/>
              <p:cNvSpPr/>
              <p:nvPr/>
            </p:nvSpPr>
            <p:spPr>
              <a:xfrm>
                <a:off x="5562360" y="4648320"/>
                <a:ext cx="31240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800000"/>
                    </a:solidFill>
                    <a:latin typeface="Times New Roman"/>
                    <a:ea typeface="华文隶书"/>
                  </a:rPr>
                  <a:t>闻一多与七子之歌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Rectangle 11"/>
            <p:cNvSpPr/>
            <p:nvPr/>
          </p:nvSpPr>
          <p:spPr>
            <a:xfrm>
              <a:off x="5181480" y="1676520"/>
              <a:ext cx="3733920" cy="2895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13"/>
          <p:cNvGrpSpPr/>
          <p:nvPr/>
        </p:nvGrpSpPr>
        <p:grpSpPr>
          <a:xfrm>
            <a:off x="5334120" y="152280"/>
            <a:ext cx="3124080" cy="5107320"/>
            <a:chOff x="5334120" y="152280"/>
            <a:chExt cx="3124080" cy="5107320"/>
          </a:xfrm>
        </p:grpSpPr>
        <p:pic>
          <p:nvPicPr>
            <p:cNvPr id="548" name="Picture 5" descr="闻一多"/>
            <p:cNvPicPr/>
            <p:nvPr/>
          </p:nvPicPr>
          <p:blipFill>
            <a:blip r:embed="rId1"/>
            <a:stretch/>
          </p:blipFill>
          <p:spPr>
            <a:xfrm>
              <a:off x="5334120" y="152280"/>
              <a:ext cx="2997000" cy="4496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549" name="Text Box 6"/>
            <p:cNvSpPr/>
            <p:nvPr/>
          </p:nvSpPr>
          <p:spPr>
            <a:xfrm>
              <a:off x="5334120" y="4678200"/>
              <a:ext cx="3124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660066"/>
                  </a:solidFill>
                  <a:latin typeface="Times New Roman"/>
                  <a:ea typeface="华文隶书"/>
                </a:rPr>
                <a:t>闻一多先生画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2"/>
          <p:cNvGrpSpPr/>
          <p:nvPr/>
        </p:nvGrpSpPr>
        <p:grpSpPr>
          <a:xfrm>
            <a:off x="533520" y="3759120"/>
            <a:ext cx="8305560" cy="2946600"/>
            <a:chOff x="533520" y="3759120"/>
            <a:chExt cx="8305560" cy="2946600"/>
          </a:xfrm>
        </p:grpSpPr>
        <p:pic>
          <p:nvPicPr>
            <p:cNvPr id="551" name="Picture 2" descr="闻一多纪念馆"/>
            <p:cNvPicPr/>
            <p:nvPr/>
          </p:nvPicPr>
          <p:blipFill>
            <a:blip r:embed="rId2"/>
            <a:stretch/>
          </p:blipFill>
          <p:spPr>
            <a:xfrm>
              <a:off x="533520" y="3759120"/>
              <a:ext cx="4419360" cy="29466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552" name="Text Box 7"/>
            <p:cNvSpPr/>
            <p:nvPr/>
          </p:nvSpPr>
          <p:spPr>
            <a:xfrm>
              <a:off x="5029200" y="5791320"/>
              <a:ext cx="38098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660066"/>
                  </a:solidFill>
                  <a:latin typeface="Times New Roman"/>
                  <a:ea typeface="华文隶书"/>
                </a:rPr>
                <a:t>闻一多先生纪念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Group 10"/>
          <p:cNvGrpSpPr/>
          <p:nvPr/>
        </p:nvGrpSpPr>
        <p:grpSpPr>
          <a:xfrm>
            <a:off x="533520" y="304920"/>
            <a:ext cx="3809880" cy="3324600"/>
            <a:chOff x="533520" y="304920"/>
            <a:chExt cx="3809880" cy="3324600"/>
          </a:xfrm>
        </p:grpSpPr>
        <p:pic>
          <p:nvPicPr>
            <p:cNvPr id="554" name="Picture 4" descr="闻一多像"/>
            <p:cNvPicPr/>
            <p:nvPr/>
          </p:nvPicPr>
          <p:blipFill>
            <a:blip r:embed="rId3"/>
            <a:stretch/>
          </p:blipFill>
          <p:spPr>
            <a:xfrm>
              <a:off x="533520" y="304920"/>
              <a:ext cx="3809880" cy="2763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555" name="Text Box 8"/>
            <p:cNvSpPr/>
            <p:nvPr/>
          </p:nvSpPr>
          <p:spPr>
            <a:xfrm>
              <a:off x="838080" y="3048120"/>
              <a:ext cx="31244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660066"/>
                  </a:solidFill>
                  <a:latin typeface="Times New Roman"/>
                  <a:ea typeface="华文隶书"/>
                </a:rPr>
                <a:t>闻一多先生雕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609480" y="380880"/>
            <a:ext cx="5029200" cy="703440"/>
          </a:xfrm>
          <a:prstGeom prst="rect">
            <a:avLst/>
          </a:prstGeom>
          <a:noFill/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需要掌握的字的读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衰微   赫然   迭起   锲而不舍  卓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609480" y="33829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沥尽心血   潜心贯注   慷慨淋漓   小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609480" y="4678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气冲斗牛  迥乎不同  目不窥园  兀兀穷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533520" y="17064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shuāi  h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è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    di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é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   qi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è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      zhu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609480" y="30020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l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ì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       qi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á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n       kāngkăil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í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nl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í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  <a:ea typeface="Tahoma"/>
              </a:rPr>
              <a:t>k</a:t>
            </a:r>
            <a:r>
              <a:rPr b="0" lang="en-US" sz="3200" spc="-1" strike="noStrike">
                <a:solidFill>
                  <a:srgbClr val="cc0000"/>
                </a:solidFill>
                <a:latin typeface="宋体"/>
                <a:ea typeface="Tahoma"/>
              </a:rPr>
              <a:t>ă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  <a:ea typeface="Tahoma"/>
              </a:rPr>
              <a:t>i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609480" y="42670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q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ì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       jiŏng         kuī   w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9"/>
          <p:cNvGrpSpPr/>
          <p:nvPr/>
        </p:nvGrpSpPr>
        <p:grpSpPr>
          <a:xfrm>
            <a:off x="228600" y="1325520"/>
            <a:ext cx="2438280" cy="3629520"/>
            <a:chOff x="228600" y="1325520"/>
            <a:chExt cx="2438280" cy="3629520"/>
          </a:xfrm>
        </p:grpSpPr>
        <p:sp>
          <p:nvSpPr>
            <p:cNvPr id="566" name="Text Box 2"/>
            <p:cNvSpPr/>
            <p:nvPr/>
          </p:nvSpPr>
          <p:spPr>
            <a:xfrm>
              <a:off x="228600" y="132552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华文新魏"/>
                </a:rPr>
                <a:t>目不窥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4"/>
            <p:cNvSpPr/>
            <p:nvPr/>
          </p:nvSpPr>
          <p:spPr>
            <a:xfrm>
              <a:off x="228600" y="3078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华文新魏"/>
                </a:rPr>
                <a:t>诗兴不作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5"/>
            <p:cNvSpPr/>
            <p:nvPr/>
          </p:nvSpPr>
          <p:spPr>
            <a:xfrm>
              <a:off x="228600" y="437364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华文新魏"/>
                </a:rPr>
                <a:t>一反既往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Text Box 6"/>
          <p:cNvSpPr/>
          <p:nvPr/>
        </p:nvSpPr>
        <p:spPr>
          <a:xfrm>
            <a:off x="2057400" y="1295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窥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从小孔或缝隙里偷偷地看。眼睛从不暗中看一看家里的园圃，即专心致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2057400" y="31240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作”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起的意思。诗兴不作，不是不做诗，而是写诗的兴致不起、不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2057400" y="44197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既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已经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既往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过去。与过去完全不一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380880" y="304920"/>
            <a:ext cx="2514600" cy="703440"/>
          </a:xfrm>
          <a:prstGeom prst="rect">
            <a:avLst/>
          </a:prstGeom>
          <a:noFill/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词语积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10"/>
          <p:cNvGrpSpPr/>
          <p:nvPr/>
        </p:nvGrpSpPr>
        <p:grpSpPr>
          <a:xfrm>
            <a:off x="762120" y="906480"/>
            <a:ext cx="2819160" cy="3256200"/>
            <a:chOff x="762120" y="906480"/>
            <a:chExt cx="2819160" cy="3256200"/>
          </a:xfrm>
        </p:grpSpPr>
        <p:sp>
          <p:nvSpPr>
            <p:cNvPr id="575" name="Text Box 2"/>
            <p:cNvSpPr/>
            <p:nvPr/>
          </p:nvSpPr>
          <p:spPr>
            <a:xfrm>
              <a:off x="762120" y="9064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华文新魏"/>
                </a:rPr>
                <a:t>衰微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3"/>
            <p:cNvSpPr/>
            <p:nvPr/>
          </p:nvSpPr>
          <p:spPr>
            <a:xfrm>
              <a:off x="762120" y="182880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华文新魏"/>
                </a:rPr>
                <a:t>赫然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4"/>
            <p:cNvSpPr/>
            <p:nvPr/>
          </p:nvSpPr>
          <p:spPr>
            <a:xfrm>
              <a:off x="762120" y="2743200"/>
              <a:ext cx="259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华文新魏"/>
                </a:rPr>
                <a:t>潜心贯注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5"/>
            <p:cNvSpPr/>
            <p:nvPr/>
          </p:nvSpPr>
          <p:spPr>
            <a:xfrm>
              <a:off x="762120" y="358128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华文新魏"/>
                </a:rPr>
                <a:t>慷慨淋漓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Text Box 6"/>
          <p:cNvSpPr/>
          <p:nvPr/>
        </p:nvSpPr>
        <p:spPr>
          <a:xfrm>
            <a:off x="1600200" y="9144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（国家、民族等）衰落，不兴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1828800" y="18288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形容令人惊讶的事物突然呈现的样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2590920" y="27432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用心专注而深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2666880" y="35812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形容情绪、语调十分激动，说法十分畅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11" descr="106"/>
          <p:cNvPicPr/>
          <p:nvPr/>
        </p:nvPicPr>
        <p:blipFill>
          <a:blip r:embed="rId1"/>
          <a:stretch/>
        </p:blipFill>
        <p:spPr>
          <a:xfrm>
            <a:off x="7391520" y="4648320"/>
            <a:ext cx="140328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"/>
          <p:cNvSpPr/>
          <p:nvPr/>
        </p:nvSpPr>
        <p:spPr>
          <a:xfrm>
            <a:off x="685800" y="533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你能区分下列字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Group 15"/>
          <p:cNvGrpSpPr/>
          <p:nvPr/>
        </p:nvGrpSpPr>
        <p:grpSpPr>
          <a:xfrm>
            <a:off x="3962520" y="3657600"/>
            <a:ext cx="1752120" cy="2064600"/>
            <a:chOff x="3962520" y="3657600"/>
            <a:chExt cx="1752120" cy="2064600"/>
          </a:xfrm>
        </p:grpSpPr>
        <p:sp>
          <p:nvSpPr>
            <p:cNvPr id="587" name="AutoShape 3"/>
            <p:cNvSpPr/>
            <p:nvPr/>
          </p:nvSpPr>
          <p:spPr>
            <a:xfrm>
              <a:off x="3962520" y="3809880"/>
              <a:ext cx="152280" cy="1828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7520 h 1828440"/>
                <a:gd name="textAreaBottom" fmla="*/ 178092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5"/>
            <p:cNvSpPr/>
            <p:nvPr/>
          </p:nvSpPr>
          <p:spPr>
            <a:xfrm>
              <a:off x="4190760" y="3657600"/>
              <a:ext cx="152388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幼圆"/>
                </a:rPr>
                <a:t>暇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幼圆"/>
                </a:rPr>
                <a:t>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幼圆"/>
                </a:rPr>
                <a:t>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18"/>
          <p:cNvGrpSpPr/>
          <p:nvPr/>
        </p:nvGrpSpPr>
        <p:grpSpPr>
          <a:xfrm>
            <a:off x="1752480" y="3657600"/>
            <a:ext cx="1219320" cy="2064600"/>
            <a:chOff x="1752480" y="3657600"/>
            <a:chExt cx="1219320" cy="2064600"/>
          </a:xfrm>
        </p:grpSpPr>
        <p:sp>
          <p:nvSpPr>
            <p:cNvPr id="590" name="AutoShape 6"/>
            <p:cNvSpPr/>
            <p:nvPr/>
          </p:nvSpPr>
          <p:spPr>
            <a:xfrm>
              <a:off x="1752480" y="3809880"/>
              <a:ext cx="152280" cy="1828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7"/>
            <p:cNvSpPr/>
            <p:nvPr/>
          </p:nvSpPr>
          <p:spPr>
            <a:xfrm>
              <a:off x="1904760" y="3657600"/>
              <a:ext cx="106704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幼圆"/>
                </a:rPr>
                <a:t>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幼圆"/>
                </a:rPr>
                <a:t>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幼圆"/>
                </a:rPr>
                <a:t>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Group 16"/>
          <p:cNvGrpSpPr/>
          <p:nvPr/>
        </p:nvGrpSpPr>
        <p:grpSpPr>
          <a:xfrm>
            <a:off x="990720" y="1600200"/>
            <a:ext cx="1447200" cy="1447560"/>
            <a:chOff x="990720" y="1600200"/>
            <a:chExt cx="1447200" cy="1447560"/>
          </a:xfrm>
        </p:grpSpPr>
        <p:sp>
          <p:nvSpPr>
            <p:cNvPr id="593" name="AutoShape 8"/>
            <p:cNvSpPr/>
            <p:nvPr/>
          </p:nvSpPr>
          <p:spPr>
            <a:xfrm>
              <a:off x="990720" y="1600200"/>
              <a:ext cx="152280" cy="1447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9"/>
            <p:cNvSpPr/>
            <p:nvPr/>
          </p:nvSpPr>
          <p:spPr>
            <a:xfrm>
              <a:off x="1143000" y="1668240"/>
              <a:ext cx="12949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幼圆"/>
                </a:rPr>
                <a:t>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幼圆"/>
                </a:rPr>
                <a:t>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Group 17"/>
          <p:cNvGrpSpPr/>
          <p:nvPr/>
        </p:nvGrpSpPr>
        <p:grpSpPr>
          <a:xfrm>
            <a:off x="2895480" y="1600200"/>
            <a:ext cx="990360" cy="1447560"/>
            <a:chOff x="2895480" y="1600200"/>
            <a:chExt cx="990360" cy="1447560"/>
          </a:xfrm>
        </p:grpSpPr>
        <p:sp>
          <p:nvSpPr>
            <p:cNvPr id="596" name="AutoShape 11"/>
            <p:cNvSpPr/>
            <p:nvPr/>
          </p:nvSpPr>
          <p:spPr>
            <a:xfrm>
              <a:off x="2895480" y="1600200"/>
              <a:ext cx="131760" cy="144756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12"/>
            <p:cNvSpPr/>
            <p:nvPr/>
          </p:nvSpPr>
          <p:spPr>
            <a:xfrm>
              <a:off x="3027240" y="1668240"/>
              <a:ext cx="8586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幼圆"/>
                </a:rPr>
                <a:t>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幼圆"/>
                </a:rPr>
                <a:t>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Group 19"/>
          <p:cNvGrpSpPr/>
          <p:nvPr/>
        </p:nvGrpSpPr>
        <p:grpSpPr>
          <a:xfrm>
            <a:off x="4800600" y="1600200"/>
            <a:ext cx="1219320" cy="1447560"/>
            <a:chOff x="4800600" y="1600200"/>
            <a:chExt cx="1219320" cy="1447560"/>
          </a:xfrm>
        </p:grpSpPr>
        <p:sp>
          <p:nvSpPr>
            <p:cNvPr id="599" name="AutoShape 13"/>
            <p:cNvSpPr/>
            <p:nvPr/>
          </p:nvSpPr>
          <p:spPr>
            <a:xfrm>
              <a:off x="4800600" y="1600200"/>
              <a:ext cx="152280" cy="1447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 Box 14"/>
            <p:cNvSpPr/>
            <p:nvPr/>
          </p:nvSpPr>
          <p:spPr>
            <a:xfrm>
              <a:off x="4952880" y="1660320"/>
              <a:ext cx="106704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幼圆"/>
                </a:rPr>
                <a:t>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Times New Roman"/>
                  <a:ea typeface="幼圆"/>
                </a:rPr>
                <a:t>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1" name="Picture 20" descr="13"/>
          <p:cNvPicPr/>
          <p:nvPr/>
        </p:nvPicPr>
        <p:blipFill>
          <a:blip r:embed="rId1"/>
          <a:stretch/>
        </p:blipFill>
        <p:spPr>
          <a:xfrm>
            <a:off x="6248520" y="4495680"/>
            <a:ext cx="213336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2"/>
          <p:cNvSpPr/>
          <p:nvPr/>
        </p:nvSpPr>
        <p:spPr>
          <a:xfrm>
            <a:off x="380880" y="2286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初读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457200" y="762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理清课文层次，把握课文内容（指出两部分之间的过度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4419720" y="1295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7—8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533520" y="1905120"/>
          <a:ext cx="8229600" cy="4673520"/>
        </p:xfrm>
        <a:graphic>
          <a:graphicData uri="http://schemas.openxmlformats.org/drawingml/2006/table">
            <a:tbl>
              <a:tblPr/>
              <a:tblGrid>
                <a:gridCol w="990360"/>
                <a:gridCol w="4388040"/>
                <a:gridCol w="2851200"/>
              </a:tblGrid>
              <a:tr h="5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结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第一部分（</a:t>
                      </a: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—7</a:t>
                      </a: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第二部分（</a:t>
                      </a: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8—20</a:t>
                      </a: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作为学者的闻一多的说和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作为革命家的闻一多的说和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特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做”了再“说”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做”了不“说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说”了就“做”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既“说”又“做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155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从唐诗入手，几年辛苦，凝结成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唐诗杂论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》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的硕果；十年艰辛撰写了楚词“补校”；又向“古典新义”迈进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起草政治传单；在李公仆先生的追悼会上作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最后一次讲演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》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，壮烈献身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82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目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要给我们衰微的民族开一剂救济的文化药方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献身民主事业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38"/>
          <p:cNvSpPr/>
          <p:nvPr/>
        </p:nvSpPr>
        <p:spPr>
          <a:xfrm>
            <a:off x="685800" y="10666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本文的中心思想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9"/>
          <p:cNvSpPr/>
          <p:nvPr/>
        </p:nvSpPr>
        <p:spPr>
          <a:xfrm>
            <a:off x="609480" y="213372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本文记叙了闻一多先生的主要事略，表现他作为一名卓越的学者，一名革命家的崇高品格，高度赞扬了他的革命精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41" descr="smile12"/>
          <p:cNvPicPr/>
          <p:nvPr/>
        </p:nvPicPr>
        <p:blipFill>
          <a:blip r:embed="rId1"/>
          <a:stretch/>
        </p:blipFill>
        <p:spPr>
          <a:xfrm>
            <a:off x="5867280" y="44956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9:49:47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5:47:57Z</dcterms:modified>
  <cp:revision>36</cp:revision>
  <dc:subject>第一PPT模板网-WWW.1PPT.COM</dc:subject>
  <dc:title>第一PPT模板网-WWW.1PPT.COM</dc:title>
</cp:coreProperties>
</file>