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8.wmf" ContentType="image/x-wmf"/>
  <Override PartName="/ppt/media/image13.png" ContentType="image/png"/>
  <Override PartName="/ppt/media/image11.jpeg" ContentType="image/jpeg"/>
  <Override PartName="/ppt/media/chimes.wav" ContentType="audio/x-wav"/>
  <Override PartName="/ppt/media/image16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18.png" ContentType="image/png"/>
  <Override PartName="/ppt/media/image7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948E-72C7-411B-A9C4-89D06BD6DF52}" type="slidenum">
              <a:rPr b="0" lang="en-US" sz="12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04B0-474B-4DFB-B3F7-F0F67BFDE7D4}" type="slidenum">
              <a:rPr b="0" lang="en-US" sz="12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老山羊在地里收白菜，小白兔和小灰兔来帮忙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BA7C-F12E-4BAA-962D-1560393D4E48}" type="slidenum">
              <a:rPr b="0" lang="en-US" sz="12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收完白菜，老山羊把一车白菜送给小灰兔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小灰兔收下了，说：“谢谢您！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老山羊又把一车白菜送给小白兔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小白兔说：“我不要白菜，请您给我一些菜子吧。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老山羊送给小白兔一包菜子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EA5A-CEEE-463A-9C3C-8C5363369E42}" type="slidenum">
              <a:rPr b="0" lang="en-US" sz="12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小白兔回到家里，把地翻松了，种上菜子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过了几天，白菜长出来了。小白兔常常给白菜浇水，施肥，拔草，捉虫。白菜很快就长大了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7CFB-1349-46AD-A1EB-C6FFEF6A0377}" type="slidenum">
              <a:rPr b="0" lang="en-US" sz="12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认一认，读一读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E414-40EB-4487-AE46-0EB002EE61EA}" type="slidenum">
              <a:rPr b="0" lang="en-US" sz="12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连连看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653E-1EF6-4374-967E-DF0BA405B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6BBC-1DBA-4513-80BE-172F1D6C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38F05-F770-40B1-BA0B-C0978B80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60164-3726-4895-8512-0EF80339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032FF-AFE2-402F-AE6F-7B235289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4BAC1-8859-42E8-BDE0-5964024A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1DD00-34D9-4827-BFE9-F25311EB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E1AA3-7696-40BE-8801-B5A638D0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346F53-280D-4ACA-8F68-BC23FF6C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9A597-2F71-43B4-9B1B-F835647A1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AFDFB-F39B-415D-B7A6-BD7B36995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793BC-9C97-4C5F-9F9E-0C762721D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4CAB-523A-4ABD-A53E-A9836E7C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A5C068-0833-4C00-A8AF-CDF024FF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257B28-2E79-4C08-91AD-8C712A6A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E1609-6E5C-4575-B7AF-F198CFAC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9EB4E-D385-4315-BCCD-DAAB81EC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412D8-EDA8-45F4-9690-C17F2079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099F3-B9AC-4ABD-A680-C0C89440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62E1D9-5A7A-450E-ACAE-A30A4DD1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318E4-B703-45EB-AEA6-D198669A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996F2-900E-437A-A52F-214DB700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222C73-0B8E-4E52-BD96-20BCFBDFC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1288-C36F-4F6C-8805-F3B335115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C9E946-9BE7-4B1D-8464-FCEC92E20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8EE28-80C5-4B29-A818-58688FEBB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E8938-21AC-4ADE-AB1C-AF556238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D9F9F-FDED-414D-8A7F-39E7DAC5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CA258-F707-4F2E-97CE-12E8665E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483F6-F388-48D5-8E03-221B1E58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E14C0-F20F-4D38-B25A-44DC1952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10140-85F2-467D-98BA-A6B69451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46F31-57A4-43B9-89DF-CC42FF52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ED91B-5C35-4092-9F0C-5CE01FA6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C007-B5AC-4B0C-8028-640F1C427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53B85-2995-4440-B5CC-A181F4BD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8825C-E4CE-4B54-A421-BB221C92F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D0580-AE95-4C65-AFCD-CA412E25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BB7596-C52B-441D-AFEA-8F42DB6EC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BD2B82-07F3-4607-9E8B-7CCE1BBF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0C2BB8-5405-4697-B7F2-925226BE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A43A00-06B0-43ED-A2F1-9727D516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08E2B-E314-435C-9FEA-C52F03CD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3A6066-EB1E-4AFA-BF37-8C2DAD08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777E32-FC82-4CE4-8C4E-97F0DE0B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B990-0484-4EDD-B151-251BB913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63642-BB59-435E-91B5-0B973E4C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17F62-67A6-493B-B066-65630130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CB3767-14DB-45EB-8129-53FBF807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8463D-38E2-4903-9B58-6E2CE551A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4EC328-B1EA-4FA1-9655-223F651E8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EDF942-5FAC-4EB6-9423-8D4AB66EE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4C8CBF-470E-4F8F-A888-C8FE932B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C05E5E-769C-4B87-85D2-337AC05D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A2D0B9-F605-4724-AC6F-2551CB72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9E81B2-4D24-4912-8B6B-C45EA4FE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8024-9B85-4238-8F26-BFC3E1EF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6C073D-F888-4B4A-B17F-0BFF5CEA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C61F9F-3C29-4A7D-92FC-AC4AFAA4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A5AB7E-0042-4B26-AB25-E96A9CEC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BEAB51-53D6-4A9F-9FF7-1CCD891B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2044C0-C0A8-44F4-807C-9CAFA47E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F9BD07-BC46-4677-8743-3075AE5CB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02D523-B51A-4007-A1E7-A195E8331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B045-2BE0-4A69-A56A-37D923DC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6598-5268-4232-BC6B-5055162E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626A-4F99-4C95-89D0-4EDABA54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D5C0-63D0-4976-87CC-4D1D5AF3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A196-E369-4DF6-B07A-C520BE80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3798-1D8B-415E-8D34-DA716AF7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E8B7-C520-424C-973A-569EF4E4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02B0-1491-424F-AD33-1DF300DB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5D15-93F5-4051-A32F-A66092B52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C276-16AE-4376-B7C7-D3AA04631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85EA7-410F-4AD4-83D2-F3F65C46F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40D60-7977-495A-9D52-542C9205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502D2-A597-4A75-8502-84471753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2792C-6D71-478E-87E7-0448664E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17A1A-464B-41D1-8A1B-70D7244D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4544-AC9E-4D54-AA6E-98FE0663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CA051-21F4-4D6B-9939-665D97A8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041A9-7EDC-415C-9F1B-CF43B4E7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15D1F-77E8-4E9B-B3A5-2132554D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E51A1-77B3-44A0-B5E6-21F853E9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95546-37AE-4BFB-9205-63ECED05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35E66-633C-4391-8520-7056E6B0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DE909-51E6-4B74-8F1B-A62C709A8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86AB9-C9C2-4CCA-8BF0-0792A7F1D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9911B-7007-4ED5-A9CC-F2218B34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9BFB6-7AAF-4B9B-AD55-815B29FE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C726-8BF5-442D-8F57-7D0F2F29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8E5CA-BE30-4372-A4E5-2C6835FE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CE845-D483-43A9-A255-E83A9DC8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FA8C8-3DBA-4EB5-9163-CA10C47F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EE836-70FE-43C5-B88B-313CF997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332FD-91F1-4799-9C5E-8988343F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B4345-BFBC-4EBA-B180-F0F2D945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16772-95A4-47D3-A654-6AD0527C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16097-D157-4122-9DFF-4E34F928B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B49E5-ED01-4A3B-A6AE-34CAB725F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B646F-E51C-4947-A8C7-B2FD88B5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82DA-9462-4DC5-B8AD-1B16FE4D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A2E2D-8CA0-4A47-A919-CBBEA33C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026A3-7C98-4BD5-A5AF-0D6F6800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0277D-A7BB-4AFE-AE69-6F674C2C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EC7DA-5626-434A-98E6-3C9111E1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0144D-F834-4987-8991-19385E1F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CADB4-5375-45F3-B475-DEB98993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DBD19-BB40-492F-8E34-2B70FBD2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CC6B1-943D-44CB-81F9-069B9DE1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346D3-89C6-4526-A8F3-00ECB5AD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21707-0A17-48B4-BEC9-36547DFD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38E5-424E-4018-8469-5FF6C778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DBB9C-30C0-4F16-B769-F564BC58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9C3F5-3622-4C0B-9470-A8885C4CF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EABA9-C0BE-4508-BADE-D1487FD8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AAC88-71CB-46B2-A3C6-B71EE52C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204DE-DDCC-45E9-89C9-16811DDB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1BC20-42F9-43C9-B8ED-3E41862B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047A4-D863-4E27-A275-BED4BB3C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5664C-2141-40EE-B1E5-689841B4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8ABB6-1492-496F-9D37-9134FECB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49178-D4BC-4090-BB87-08DB6FB7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D2F8-A4FA-4278-9D75-F06026AB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A009F-6592-4456-87FC-57207589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75D3D-EDAF-4FAD-B5AD-A854CEAD4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68B99-638F-46BB-8CDE-FED4FB6FF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835A2-0D78-42B2-9C4E-895417E31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79B83-7798-4D6D-9DAD-10F21481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93C55-CC83-498C-8E6C-952381CC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64D4E-1CAB-44AF-8E80-EE92ADC9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50BC3-F43A-4AFA-B5E9-0ED9C5AA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AC9B8-BC2A-40D9-848B-F03F9241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A9006-48E8-43B2-9AE6-11420D24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A697-7E04-4F92-A4B0-B9B202C9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1EC62-3C5D-41E2-A124-F6D2669E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62D9A-178A-4605-A14A-32E70461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BBC5A-3C0A-49C5-99EF-7CC1F953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3C91C-0B21-46C9-9232-D90A3A479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ABE32-CD6A-41A1-873F-ADB4B2E27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F9382-B568-4F9D-A690-DC53F6295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72D0A-5C52-4B55-B16A-394BF5BD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34CA3-1A86-4E87-8989-D8369F91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A144F-7884-4DFF-ACC8-1A67D57C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A90D4-8A40-42DA-A380-33634A50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046F-71B4-48AD-BCE1-37CA8EC4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F3CEC-2B69-4909-BD93-698D9607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EFFE0-6F78-4FBC-A625-5D093A72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2D014-1E2F-444F-8BD3-1A566943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63FA0-E466-48FF-AD8F-DB626A2A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18266-BEA4-4E78-8087-F4120A43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CF034-BE01-4C9D-B21F-F0049C27A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81813-C9A5-445A-AD50-FECA3113C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D9D65-8247-4B3C-9B01-F804EAB95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140BA-A263-4D77-8DDC-B8931327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8F28B-7759-4B97-A026-BAEDFCDE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0F9D-EC4E-48AE-A6F2-D29FBF09A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AA3C-7C6B-49EA-9993-FD1E5E5075CB}" type="datetime">
              <a:rPr b="0" lang="zh-CN" sz="1400" spc="-1" strike="noStrike">
                <a:solidFill>
                  <a:srgbClr val="000000"/>
                </a:solidFill>
                <a:latin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9A25-400F-435A-876C-8D19D2FED6F2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9403-946B-49E7-8215-5636C10F0F8C}" type="datetime">
              <a:rPr b="0" lang="zh-CN" sz="1400" spc="-1" strike="noStrike">
                <a:solidFill>
                  <a:srgbClr val="000000"/>
                </a:solidFill>
                <a:latin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5959-40BC-4BFB-A36A-5A757C4C3725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AC26-0F05-4A87-927B-F2BCD40B4995}" type="datetime">
              <a:rPr b="0" lang="zh-CN" sz="1400" spc="-1" strike="noStrike">
                <a:solidFill>
                  <a:srgbClr val="000000"/>
                </a:solidFill>
                <a:latin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9F70-7112-4D66-B35B-DD472E6F96EA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D524-B79D-40BA-AA8F-12178362A41B}" type="datetime">
              <a:rPr b="0" lang="zh-CN" sz="1400" spc="-1" strike="noStrike">
                <a:solidFill>
                  <a:srgbClr val="000000"/>
                </a:solidFill>
                <a:latin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9A4E-DFD1-4EDD-9B7A-4772D19CCEBD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5750-C4AE-44B5-875F-9F9BA705089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5B7C-6CB7-4163-8408-CE6B9860EB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2556-6E5D-4E85-A108-6EC267A75D24}" type="datetime">
              <a:rPr b="0" lang="zh-CN" sz="1400" spc="-1" strike="noStrike">
                <a:solidFill>
                  <a:srgbClr val="000000"/>
                </a:solidFill>
                <a:latin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9619-31F9-4760-910D-C947BD46A083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B038-48DC-46C8-94FE-51848598BB1B}" type="datetime">
              <a:rPr b="0" lang="zh-CN" sz="1400" spc="-1" strike="noStrike">
                <a:solidFill>
                  <a:srgbClr val="000000"/>
                </a:solidFill>
                <a:latin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23ED-A20B-4893-BECC-524496AA1B66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F7F8-E575-4450-AA37-57F81C7F7D98}" type="datetime">
              <a:rPr b="0" lang="zh-CN" sz="1400" spc="-1" strike="noStrike">
                <a:solidFill>
                  <a:srgbClr val="000000"/>
                </a:solidFill>
                <a:latin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8F18-AEB1-4200-8674-5AF86F6AAC47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2ACB-F819-456D-A47F-806705FF5E65}" type="datetime">
              <a:rPr b="0" lang="zh-CN" sz="1400" spc="-1" strike="noStrike">
                <a:solidFill>
                  <a:srgbClr val="000000"/>
                </a:solidFill>
                <a:latin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33A3-4083-4BFB-943D-DAADDF88D7DB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196F-7D27-4717-8D4F-E49FC898B20E}" type="datetime">
              <a:rPr b="0" lang="zh-CN" sz="1400" spc="-1" strike="noStrike">
                <a:solidFill>
                  <a:srgbClr val="000000"/>
                </a:solidFill>
                <a:latin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810E-C085-4138-A23E-2DD14AA8525A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2B86-8D0B-4756-B77A-20084F3089EA}" type="datetime">
              <a:rPr b="0" lang="zh-CN" sz="1400" spc="-1" strike="noStrike">
                <a:solidFill>
                  <a:srgbClr val="000000"/>
                </a:solidFill>
                <a:latin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6232-863F-45F5-A5FD-64CBBAB9C389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FFA5-EF6C-4606-A7E5-1FD994DCA722}" type="datetime">
              <a:rPr b="0" lang="zh-CN" sz="1400" spc="-1" strike="noStrike">
                <a:solidFill>
                  <a:srgbClr val="000000"/>
                </a:solidFill>
                <a:latin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5BEE-FF62-4CDD-984E-81BF0214152A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8.wmf"/><Relationship Id="rId10" Type="http://schemas.openxmlformats.org/officeDocument/2006/relationships/image" Target="../media/image9.png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Line 2"/>
          <p:cNvSpPr/>
          <p:nvPr/>
        </p:nvSpPr>
        <p:spPr>
          <a:xfrm>
            <a:off x="228600" y="1143000"/>
            <a:ext cx="6400800" cy="0"/>
          </a:xfrm>
          <a:prstGeom prst="line">
            <a:avLst/>
          </a:prstGeom>
          <a:ln w="5724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762120" y="609480"/>
            <a:ext cx="4419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九年义务教育小学语文第二册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2362320" y="5867280"/>
            <a:ext cx="5867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温州市广场路小学  “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课时锦囊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”开发小组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3" name="Text Box 5"/>
          <p:cNvSpPr/>
          <p:nvPr/>
        </p:nvSpPr>
        <p:spPr>
          <a:xfrm>
            <a:off x="2743200" y="5410080"/>
            <a:ext cx="5181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教学设计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卓小平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课件制作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卓小平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44" name="WordArt 6" descr=""/>
          <p:cNvPicPr/>
          <p:nvPr/>
        </p:nvPicPr>
        <p:blipFill>
          <a:blip r:embed="rId1"/>
          <a:stretch/>
        </p:blipFill>
        <p:spPr>
          <a:xfrm>
            <a:off x="981000" y="2200320"/>
            <a:ext cx="7132680" cy="10000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8" descr="F:\资料\素材大全\图片\吴瑞施tupian\HOMEANIM\AG00370_.GIF"/>
          <p:cNvPicPr/>
          <p:nvPr/>
        </p:nvPicPr>
        <p:blipFill>
          <a:blip r:embed="rId2"/>
          <a:stretch/>
        </p:blipFill>
        <p:spPr>
          <a:xfrm>
            <a:off x="762120" y="5257800"/>
            <a:ext cx="148572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C:\Documents and Settings\diy\My Documents\My Pictures\边框\小山.BMP"/>
          <p:cNvPicPr/>
          <p:nvPr/>
        </p:nvPicPr>
        <p:blipFill>
          <a:blip r:embed="rId1"/>
          <a:stretch/>
        </p:blipFill>
        <p:spPr>
          <a:xfrm>
            <a:off x="1447920" y="0"/>
            <a:ext cx="7696080" cy="685800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3" descr=""/>
          <p:cNvPicPr/>
          <p:nvPr/>
        </p:nvPicPr>
        <p:blipFill>
          <a:blip r:embed="rId2"/>
          <a:stretch/>
        </p:blipFill>
        <p:spPr>
          <a:xfrm>
            <a:off x="1143000" y="5943600"/>
            <a:ext cx="739800" cy="914400"/>
          </a:xfrm>
          <a:prstGeom prst="rect">
            <a:avLst/>
          </a:prstGeom>
          <a:ln w="0">
            <a:noFill/>
          </a:ln>
        </p:spPr>
      </p:pic>
      <p:sp>
        <p:nvSpPr>
          <p:cNvPr id="647" name="Text Box 4"/>
          <p:cNvSpPr/>
          <p:nvPr/>
        </p:nvSpPr>
        <p:spPr>
          <a:xfrm>
            <a:off x="1403640" y="49528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施肥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8" name="Text Box 5"/>
          <p:cNvSpPr/>
          <p:nvPr/>
        </p:nvSpPr>
        <p:spPr>
          <a:xfrm>
            <a:off x="687600" y="38862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饿了的时候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9" name="Text Box 6"/>
          <p:cNvSpPr/>
          <p:nvPr/>
        </p:nvSpPr>
        <p:spPr>
          <a:xfrm>
            <a:off x="2546640" y="3048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翻松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0" name="Text Box 7"/>
          <p:cNvSpPr/>
          <p:nvPr/>
        </p:nvSpPr>
        <p:spPr>
          <a:xfrm>
            <a:off x="4101120" y="2666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挑着担子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1" name="Text Box 8"/>
          <p:cNvSpPr/>
          <p:nvPr/>
        </p:nvSpPr>
        <p:spPr>
          <a:xfrm>
            <a:off x="4876920" y="40384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浇水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3" descr="{B61CBCEC-C34C-4F67-99C9-A6730EEA88A3}0"/>
          <p:cNvPicPr/>
          <p:nvPr/>
        </p:nvPicPr>
        <p:blipFill>
          <a:blip r:embed="rId1"/>
          <a:stretch/>
        </p:blipFill>
        <p:spPr>
          <a:xfrm>
            <a:off x="2133720" y="228600"/>
            <a:ext cx="4800600" cy="3522600"/>
          </a:xfrm>
          <a:prstGeom prst="rect">
            <a:avLst/>
          </a:prstGeom>
          <a:ln w="0">
            <a:noFill/>
          </a:ln>
        </p:spPr>
      </p:pic>
      <p:sp>
        <p:nvSpPr>
          <p:cNvPr id="653" name="Text Box 7"/>
          <p:cNvSpPr/>
          <p:nvPr/>
        </p:nvSpPr>
        <p:spPr>
          <a:xfrm>
            <a:off x="457200" y="4114800"/>
            <a:ext cx="8686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山羊在地里收白菜，小</a:t>
            </a:r>
            <a:endParaRPr b="0" lang="en-US" sz="4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兔和小灰兔来帮忙。</a:t>
            </a:r>
            <a:endParaRPr b="0" lang="en-US" sz="4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4" name="Oval 8"/>
          <p:cNvSpPr/>
          <p:nvPr/>
        </p:nvSpPr>
        <p:spPr>
          <a:xfrm>
            <a:off x="5715000" y="4876920"/>
            <a:ext cx="22860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4" descr="{60255E64-9AE7-45E9-97E3-8BA7DDDC0C20}0"/>
          <p:cNvPicPr/>
          <p:nvPr/>
        </p:nvPicPr>
        <p:blipFill>
          <a:blip r:embed="rId1"/>
          <a:stretch/>
        </p:blipFill>
        <p:spPr>
          <a:xfrm>
            <a:off x="2209680" y="0"/>
            <a:ext cx="4876920" cy="371952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0" descr="BD14581_"/>
          <p:cNvPicPr/>
          <p:nvPr/>
        </p:nvPicPr>
        <p:blipFill>
          <a:blip r:embed="rId2"/>
          <a:stretch/>
        </p:blipFill>
        <p:spPr>
          <a:xfrm>
            <a:off x="9144000" y="5959440"/>
            <a:ext cx="1066680" cy="898560"/>
          </a:xfrm>
          <a:prstGeom prst="rect">
            <a:avLst/>
          </a:prstGeom>
          <a:ln w="0">
            <a:noFill/>
          </a:ln>
        </p:spPr>
      </p:pic>
      <p:sp>
        <p:nvSpPr>
          <p:cNvPr id="657" name="Text Box 12"/>
          <p:cNvSpPr/>
          <p:nvPr/>
        </p:nvSpPr>
        <p:spPr>
          <a:xfrm>
            <a:off x="0" y="3657600"/>
            <a:ext cx="9144000" cy="12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完白菜，老山羊把一车白菜送给小灰兔。小灰兔收下了，说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谢您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山羊又把一车白菜送给小白兔。小白兔说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不要白菜，请您给我一些菜子吧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山羊送给小白兔一包菜子。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8" name="Oval 13"/>
          <p:cNvSpPr/>
          <p:nvPr/>
        </p:nvSpPr>
        <p:spPr>
          <a:xfrm>
            <a:off x="2819520" y="4648320"/>
            <a:ext cx="15228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9" name="Oval 14"/>
          <p:cNvSpPr/>
          <p:nvPr/>
        </p:nvSpPr>
        <p:spPr>
          <a:xfrm>
            <a:off x="1981080" y="5638680"/>
            <a:ext cx="152640" cy="15264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4" descr="{5A224B1E-D030-4025-80C2-B3B052C832CD}0"/>
          <p:cNvPicPr/>
          <p:nvPr/>
        </p:nvPicPr>
        <p:blipFill>
          <a:blip r:embed="rId1"/>
          <a:stretch/>
        </p:blipFill>
        <p:spPr>
          <a:xfrm>
            <a:off x="1905120" y="0"/>
            <a:ext cx="5029200" cy="371016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12"/>
          <p:cNvSpPr/>
          <p:nvPr/>
        </p:nvSpPr>
        <p:spPr>
          <a:xfrm>
            <a:off x="304920" y="3733920"/>
            <a:ext cx="8458200" cy="20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白兔回到家里，把地翻松了，种上菜子。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了几天，白菜长出来了。小白兔常常给白菜浇水，施肥，拔草，捉虫。白菜很快就长大了。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2" name="Oval 13"/>
          <p:cNvSpPr/>
          <p:nvPr/>
        </p:nvSpPr>
        <p:spPr>
          <a:xfrm>
            <a:off x="5562720" y="4343400"/>
            <a:ext cx="15228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3" name="Oval 14"/>
          <p:cNvSpPr/>
          <p:nvPr/>
        </p:nvSpPr>
        <p:spPr>
          <a:xfrm>
            <a:off x="5943600" y="4343400"/>
            <a:ext cx="15228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4" name="Oval 15"/>
          <p:cNvSpPr/>
          <p:nvPr/>
        </p:nvSpPr>
        <p:spPr>
          <a:xfrm>
            <a:off x="1371600" y="5410080"/>
            <a:ext cx="152280" cy="15264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5" name="Oval 16"/>
          <p:cNvSpPr/>
          <p:nvPr/>
        </p:nvSpPr>
        <p:spPr>
          <a:xfrm>
            <a:off x="1676520" y="5410080"/>
            <a:ext cx="152280" cy="15264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6" name="Oval 17"/>
          <p:cNvSpPr/>
          <p:nvPr/>
        </p:nvSpPr>
        <p:spPr>
          <a:xfrm>
            <a:off x="2514600" y="5410080"/>
            <a:ext cx="152280" cy="15264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7" name="Oval 18"/>
          <p:cNvSpPr/>
          <p:nvPr/>
        </p:nvSpPr>
        <p:spPr>
          <a:xfrm>
            <a:off x="2895480" y="5410080"/>
            <a:ext cx="152640" cy="15264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8" name="Oval 19"/>
          <p:cNvSpPr/>
          <p:nvPr/>
        </p:nvSpPr>
        <p:spPr>
          <a:xfrm>
            <a:off x="3733920" y="5410080"/>
            <a:ext cx="152280" cy="15264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9" name="Oval 20"/>
          <p:cNvSpPr/>
          <p:nvPr/>
        </p:nvSpPr>
        <p:spPr>
          <a:xfrm>
            <a:off x="4114800" y="5410080"/>
            <a:ext cx="152280" cy="15264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0" name="Oval 21"/>
          <p:cNvSpPr/>
          <p:nvPr/>
        </p:nvSpPr>
        <p:spPr>
          <a:xfrm>
            <a:off x="5029200" y="5410080"/>
            <a:ext cx="152280" cy="15264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1" name="Oval 22"/>
          <p:cNvSpPr/>
          <p:nvPr/>
        </p:nvSpPr>
        <p:spPr>
          <a:xfrm>
            <a:off x="5410080" y="5410080"/>
            <a:ext cx="152640" cy="15264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Picture 3" descr="边框-07"/>
          <p:cNvPicPr/>
          <p:nvPr/>
        </p:nvPicPr>
        <p:blipFill>
          <a:blip r:embed="rId1"/>
          <a:stretch/>
        </p:blipFill>
        <p:spPr>
          <a:xfrm>
            <a:off x="0" y="0"/>
            <a:ext cx="9144000" cy="696276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2"/>
          <p:cNvSpPr/>
          <p:nvPr/>
        </p:nvSpPr>
        <p:spPr>
          <a:xfrm>
            <a:off x="1143000" y="167652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有自己种，才有吃不完的菜。</a:t>
            </a:r>
            <a:endParaRPr b="0" lang="en-US" sz="6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99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2"/>
          <p:cNvSpPr/>
          <p:nvPr/>
        </p:nvSpPr>
        <p:spPr>
          <a:xfrm>
            <a:off x="2719440" y="22860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温州市广场路小学提供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5" name="Text Box 3"/>
          <p:cNvSpPr/>
          <p:nvPr/>
        </p:nvSpPr>
        <p:spPr>
          <a:xfrm>
            <a:off x="3830400" y="137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课时锦囊</a:t>
            </a:r>
            <a:endParaRPr b="0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6" name="Text Box 4"/>
          <p:cNvSpPr/>
          <p:nvPr/>
        </p:nvSpPr>
        <p:spPr>
          <a:xfrm>
            <a:off x="3256560" y="34527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教学设计：卓小平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3256560" y="40528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课件制作：卓小平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3177360" y="4662360"/>
            <a:ext cx="20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总  审  核：吴孔裕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8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68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8" descr="{C7CA0664-9956-4DA6-B70B-4BD0AECDFE51}0"/>
          <p:cNvPicPr/>
          <p:nvPr/>
        </p:nvPicPr>
        <p:blipFill>
          <a:blip r:embed="rId1"/>
          <a:stretch/>
        </p:blipFill>
        <p:spPr>
          <a:xfrm>
            <a:off x="685800" y="533520"/>
            <a:ext cx="3886200" cy="106668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11"/>
          <p:cNvSpPr/>
          <p:nvPr/>
        </p:nvSpPr>
        <p:spPr>
          <a:xfrm>
            <a:off x="685800" y="91440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翻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8" name="Rectangle 12"/>
          <p:cNvSpPr/>
          <p:nvPr/>
        </p:nvSpPr>
        <p:spPr>
          <a:xfrm>
            <a:off x="1828800" y="380880"/>
            <a:ext cx="16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      ）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9" name="Rectangle 13"/>
          <p:cNvSpPr/>
          <p:nvPr/>
        </p:nvSpPr>
        <p:spPr>
          <a:xfrm>
            <a:off x="3048120" y="990720"/>
            <a:ext cx="19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　）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50" name="Picture 14" descr="{C7CA0664-9956-4DA6-B70B-4BD0AECDFE51}0"/>
          <p:cNvPicPr/>
          <p:nvPr/>
        </p:nvPicPr>
        <p:blipFill>
          <a:blip r:embed="rId2"/>
          <a:stretch/>
        </p:blipFill>
        <p:spPr>
          <a:xfrm>
            <a:off x="4572000" y="533520"/>
            <a:ext cx="3657600" cy="106668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17"/>
          <p:cNvSpPr/>
          <p:nvPr/>
        </p:nvSpPr>
        <p:spPr>
          <a:xfrm>
            <a:off x="4572000" y="990720"/>
            <a:ext cx="9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浇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2" name="Rectangle 18"/>
          <p:cNvSpPr/>
          <p:nvPr/>
        </p:nvSpPr>
        <p:spPr>
          <a:xfrm>
            <a:off x="5562720" y="3808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　）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3" name="Rectangle 19"/>
          <p:cNvSpPr/>
          <p:nvPr/>
        </p:nvSpPr>
        <p:spPr>
          <a:xfrm>
            <a:off x="6705720" y="914400"/>
            <a:ext cx="19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　）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54" name="Picture 20" descr="{C7CA0664-9956-4DA6-B70B-4BD0AECDFE51}0"/>
          <p:cNvPicPr/>
          <p:nvPr/>
        </p:nvPicPr>
        <p:blipFill>
          <a:blip r:embed="rId3"/>
          <a:stretch/>
        </p:blipFill>
        <p:spPr>
          <a:xfrm>
            <a:off x="685800" y="1905120"/>
            <a:ext cx="3962520" cy="103824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21"/>
          <p:cNvSpPr/>
          <p:nvPr/>
        </p:nvSpPr>
        <p:spPr>
          <a:xfrm>
            <a:off x="762120" y="2362320"/>
            <a:ext cx="88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施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6" name="Rectangle 22"/>
          <p:cNvSpPr/>
          <p:nvPr/>
        </p:nvSpPr>
        <p:spPr>
          <a:xfrm>
            <a:off x="1752480" y="1752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　  ）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7" name="Rectangle 23"/>
          <p:cNvSpPr/>
          <p:nvPr/>
        </p:nvSpPr>
        <p:spPr>
          <a:xfrm>
            <a:off x="3124080" y="2438280"/>
            <a:ext cx="178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　）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58" name="Picture 24" descr="{C7CA0664-9956-4DA6-B70B-4BD0AECDFE51}0"/>
          <p:cNvPicPr/>
          <p:nvPr/>
        </p:nvPicPr>
        <p:blipFill>
          <a:blip r:embed="rId4"/>
          <a:stretch/>
        </p:blipFill>
        <p:spPr>
          <a:xfrm>
            <a:off x="4648320" y="1905120"/>
            <a:ext cx="3581280" cy="104112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25"/>
          <p:cNvSpPr/>
          <p:nvPr/>
        </p:nvSpPr>
        <p:spPr>
          <a:xfrm>
            <a:off x="4724280" y="2362320"/>
            <a:ext cx="10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肥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0" name="Rectangle 26"/>
          <p:cNvSpPr/>
          <p:nvPr/>
        </p:nvSpPr>
        <p:spPr>
          <a:xfrm>
            <a:off x="5562720" y="1752480"/>
            <a:ext cx="170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　）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1" name="Rectangle 30"/>
          <p:cNvSpPr/>
          <p:nvPr/>
        </p:nvSpPr>
        <p:spPr>
          <a:xfrm>
            <a:off x="6705720" y="2362320"/>
            <a:ext cx="224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　）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62" name="Picture 31" descr="{C7CA0664-9956-4DA6-B70B-4BD0AECDFE51}0"/>
          <p:cNvPicPr/>
          <p:nvPr/>
        </p:nvPicPr>
        <p:blipFill>
          <a:blip r:embed="rId5"/>
          <a:stretch/>
        </p:blipFill>
        <p:spPr>
          <a:xfrm>
            <a:off x="685800" y="3276720"/>
            <a:ext cx="3962520" cy="1066680"/>
          </a:xfrm>
          <a:prstGeom prst="rect">
            <a:avLst/>
          </a:prstGeom>
          <a:ln w="0">
            <a:noFill/>
          </a:ln>
        </p:spPr>
      </p:pic>
      <p:sp>
        <p:nvSpPr>
          <p:cNvPr id="563" name="Rectangle 33"/>
          <p:cNvSpPr/>
          <p:nvPr/>
        </p:nvSpPr>
        <p:spPr>
          <a:xfrm>
            <a:off x="762120" y="3733920"/>
            <a:ext cx="67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饿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4" name="Rectangle 34"/>
          <p:cNvSpPr/>
          <p:nvPr/>
        </p:nvSpPr>
        <p:spPr>
          <a:xfrm>
            <a:off x="1828800" y="3124080"/>
            <a:ext cx="18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Times New Roman"/>
              </a:rPr>
              <a:t>（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660033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5" name="Rectangle 35"/>
          <p:cNvSpPr/>
          <p:nvPr/>
        </p:nvSpPr>
        <p:spPr>
          <a:xfrm>
            <a:off x="3124080" y="3886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Times New Roman"/>
              </a:rPr>
              <a:t>（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660033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66" name="Picture 36" descr="{C7CA0664-9956-4DA6-B70B-4BD0AECDFE51}0"/>
          <p:cNvPicPr/>
          <p:nvPr/>
        </p:nvPicPr>
        <p:blipFill>
          <a:blip r:embed="rId6"/>
          <a:stretch/>
        </p:blipFill>
        <p:spPr>
          <a:xfrm>
            <a:off x="4648320" y="3276720"/>
            <a:ext cx="3581280" cy="10666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7" descr="{C7CA0664-9956-4DA6-B70B-4BD0AECDFE51}0"/>
          <p:cNvPicPr/>
          <p:nvPr/>
        </p:nvPicPr>
        <p:blipFill>
          <a:blip r:embed="rId7"/>
          <a:stretch/>
        </p:blipFill>
        <p:spPr>
          <a:xfrm>
            <a:off x="685800" y="4800600"/>
            <a:ext cx="3962520" cy="106668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38" descr="{C7CA0664-9956-4DA6-B70B-4BD0AECDFE51}0"/>
          <p:cNvPicPr/>
          <p:nvPr/>
        </p:nvPicPr>
        <p:blipFill>
          <a:blip r:embed="rId8"/>
          <a:stretch/>
        </p:blipFill>
        <p:spPr>
          <a:xfrm>
            <a:off x="4648320" y="4800600"/>
            <a:ext cx="3581280" cy="106668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39"/>
          <p:cNvSpPr/>
          <p:nvPr/>
        </p:nvSpPr>
        <p:spPr>
          <a:xfrm>
            <a:off x="5638680" y="31240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     ）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0" name="Rectangle 40"/>
          <p:cNvSpPr/>
          <p:nvPr/>
        </p:nvSpPr>
        <p:spPr>
          <a:xfrm>
            <a:off x="6781680" y="3809880"/>
            <a:ext cx="16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      ）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1" name="Rectangle 42"/>
          <p:cNvSpPr/>
          <p:nvPr/>
        </p:nvSpPr>
        <p:spPr>
          <a:xfrm>
            <a:off x="3124080" y="5334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      ）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2" name="Rectangle 43"/>
          <p:cNvSpPr/>
          <p:nvPr/>
        </p:nvSpPr>
        <p:spPr>
          <a:xfrm>
            <a:off x="5715000" y="46483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）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3" name="Rectangle 44"/>
          <p:cNvSpPr/>
          <p:nvPr/>
        </p:nvSpPr>
        <p:spPr>
          <a:xfrm>
            <a:off x="6781680" y="5334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      ）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4" name="Rectangle 45"/>
          <p:cNvSpPr/>
          <p:nvPr/>
        </p:nvSpPr>
        <p:spPr>
          <a:xfrm>
            <a:off x="4807440" y="3733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侯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5" name="Rectangle 46"/>
          <p:cNvSpPr/>
          <p:nvPr/>
        </p:nvSpPr>
        <p:spPr>
          <a:xfrm>
            <a:off x="844920" y="5257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挑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6" name="Rectangle 47"/>
          <p:cNvSpPr/>
          <p:nvPr/>
        </p:nvSpPr>
        <p:spPr>
          <a:xfrm>
            <a:off x="4883400" y="5257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担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77" name="Picture 48" descr="BD00028_"/>
          <p:cNvPicPr/>
          <p:nvPr/>
        </p:nvPicPr>
        <p:blipFill>
          <a:blip r:embed="rId9"/>
          <a:stretch/>
        </p:blipFill>
        <p:spPr>
          <a:xfrm>
            <a:off x="0" y="0"/>
            <a:ext cx="861840" cy="84456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49" descr="BD14581_"/>
          <p:cNvPicPr/>
          <p:nvPr/>
        </p:nvPicPr>
        <p:blipFill>
          <a:blip r:embed="rId10"/>
          <a:stretch/>
        </p:blipFill>
        <p:spPr>
          <a:xfrm>
            <a:off x="7620120" y="5730840"/>
            <a:ext cx="1218960" cy="1127160"/>
          </a:xfrm>
          <a:prstGeom prst="rect">
            <a:avLst/>
          </a:prstGeom>
          <a:ln w="0">
            <a:noFill/>
          </a:ln>
        </p:spPr>
      </p:pic>
      <p:sp>
        <p:nvSpPr>
          <p:cNvPr id="579" name="AutoShape 50"/>
          <p:cNvSpPr/>
          <p:nvPr/>
        </p:nvSpPr>
        <p:spPr>
          <a:xfrm>
            <a:off x="6858000" y="0"/>
            <a:ext cx="2286000" cy="990720"/>
          </a:xfrm>
          <a:prstGeom prst="cloudCallout">
            <a:avLst>
              <a:gd name="adj1" fmla="val -70416"/>
              <a:gd name="adj2" fmla="val 12387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0" name="Rectangle 51"/>
          <p:cNvSpPr/>
          <p:nvPr/>
        </p:nvSpPr>
        <p:spPr>
          <a:xfrm>
            <a:off x="6934320" y="304920"/>
            <a:ext cx="191124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黑体"/>
              </a:rPr>
              <a:t>认一认，读一读！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1" name="Text Box 52"/>
          <p:cNvSpPr/>
          <p:nvPr/>
        </p:nvSpPr>
        <p:spPr>
          <a:xfrm>
            <a:off x="1905120" y="4572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   ）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C:\Documents and Settings\郑志胜\桌面\日月明\田字格.jpg"/>
          <p:cNvPicPr/>
          <p:nvPr/>
        </p:nvPicPr>
        <p:blipFill>
          <a:blip r:embed="rId2"/>
          <a:stretch/>
        </p:blipFill>
        <p:spPr>
          <a:xfrm>
            <a:off x="609480" y="914400"/>
            <a:ext cx="1930680" cy="19558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" descr="C:\Documents and Settings\郑志胜\桌面\日月明\田字格.jpg"/>
          <p:cNvPicPr/>
          <p:nvPr/>
        </p:nvPicPr>
        <p:blipFill>
          <a:blip r:embed="rId3"/>
          <a:stretch/>
        </p:blipFill>
        <p:spPr>
          <a:xfrm>
            <a:off x="2666880" y="914400"/>
            <a:ext cx="1930680" cy="19558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4" descr="C:\Documents and Settings\郑志胜\桌面\日月明\田字格.jpg"/>
          <p:cNvPicPr/>
          <p:nvPr/>
        </p:nvPicPr>
        <p:blipFill>
          <a:blip r:embed="rId4"/>
          <a:stretch/>
        </p:blipFill>
        <p:spPr>
          <a:xfrm>
            <a:off x="4699080" y="914400"/>
            <a:ext cx="1930320" cy="19558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5" descr="C:\Documents and Settings\郑志胜\桌面\日月明\田字格.jpg"/>
          <p:cNvPicPr/>
          <p:nvPr/>
        </p:nvPicPr>
        <p:blipFill>
          <a:blip r:embed="rId5"/>
          <a:stretch/>
        </p:blipFill>
        <p:spPr>
          <a:xfrm>
            <a:off x="609480" y="2895480"/>
            <a:ext cx="1930680" cy="19558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C:\Documents and Settings\郑志胜\桌面\日月明\田字格.jpg"/>
          <p:cNvPicPr/>
          <p:nvPr/>
        </p:nvPicPr>
        <p:blipFill>
          <a:blip r:embed="rId6"/>
          <a:stretch/>
        </p:blipFill>
        <p:spPr>
          <a:xfrm>
            <a:off x="2717640" y="2895480"/>
            <a:ext cx="1930680" cy="19558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7" descr="C:\Documents and Settings\郑志胜\桌面\日月明\田字格.jpg"/>
          <p:cNvPicPr/>
          <p:nvPr/>
        </p:nvPicPr>
        <p:blipFill>
          <a:blip r:embed="rId7"/>
          <a:stretch/>
        </p:blipFill>
        <p:spPr>
          <a:xfrm>
            <a:off x="4724280" y="2895480"/>
            <a:ext cx="1930680" cy="195588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8"/>
          <p:cNvSpPr/>
          <p:nvPr/>
        </p:nvSpPr>
        <p:spPr>
          <a:xfrm>
            <a:off x="112716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9" name="Text Box 9"/>
          <p:cNvSpPr/>
          <p:nvPr/>
        </p:nvSpPr>
        <p:spPr>
          <a:xfrm>
            <a:off x="1119240" y="11430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拉</a:t>
            </a:r>
            <a:endParaRPr b="0" lang="en-US" sz="8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0" name="Text Box 10"/>
          <p:cNvSpPr/>
          <p:nvPr/>
        </p:nvSpPr>
        <p:spPr>
          <a:xfrm>
            <a:off x="2971800" y="1143000"/>
            <a:ext cx="1200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给</a:t>
            </a:r>
            <a:endParaRPr b="0" lang="en-US" sz="8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1" name="Text Box 11"/>
          <p:cNvSpPr/>
          <p:nvPr/>
        </p:nvSpPr>
        <p:spPr>
          <a:xfrm>
            <a:off x="5157720" y="11430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种</a:t>
            </a:r>
            <a:endParaRPr b="0" lang="en-US" sz="8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2" name="Text Box 12"/>
          <p:cNvSpPr/>
          <p:nvPr/>
        </p:nvSpPr>
        <p:spPr>
          <a:xfrm>
            <a:off x="1042920" y="3124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</a:t>
            </a:r>
            <a:endParaRPr b="0" lang="en-US" sz="8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3176640" y="3124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活</a:t>
            </a:r>
            <a:endParaRPr b="0" lang="en-US" sz="8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4" name="Text Box 14"/>
          <p:cNvSpPr/>
          <p:nvPr/>
        </p:nvSpPr>
        <p:spPr>
          <a:xfrm>
            <a:off x="5157720" y="3124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吃</a:t>
            </a:r>
            <a:endParaRPr b="0" lang="en-US" sz="8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C:\Documents and Settings\郑志胜\桌面\日月明\田字格.jpg"/>
          <p:cNvPicPr/>
          <p:nvPr/>
        </p:nvPicPr>
        <p:blipFill>
          <a:blip r:embed="rId2"/>
          <a:stretch/>
        </p:blipFill>
        <p:spPr>
          <a:xfrm>
            <a:off x="609480" y="914400"/>
            <a:ext cx="1930680" cy="195588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" descr="C:\Documents and Settings\郑志胜\桌面\日月明\田字格.jpg"/>
          <p:cNvPicPr/>
          <p:nvPr/>
        </p:nvPicPr>
        <p:blipFill>
          <a:blip r:embed="rId3"/>
          <a:stretch/>
        </p:blipFill>
        <p:spPr>
          <a:xfrm>
            <a:off x="2666880" y="914400"/>
            <a:ext cx="1930680" cy="195588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4" descr="C:\Documents and Settings\郑志胜\桌面\日月明\田字格.jpg"/>
          <p:cNvPicPr/>
          <p:nvPr/>
        </p:nvPicPr>
        <p:blipFill>
          <a:blip r:embed="rId4"/>
          <a:stretch/>
        </p:blipFill>
        <p:spPr>
          <a:xfrm>
            <a:off x="4699080" y="914400"/>
            <a:ext cx="1930320" cy="19558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5" descr="C:\Documents and Settings\郑志胜\桌面\日月明\田字格.jpg"/>
          <p:cNvPicPr/>
          <p:nvPr/>
        </p:nvPicPr>
        <p:blipFill>
          <a:blip r:embed="rId5"/>
          <a:stretch/>
        </p:blipFill>
        <p:spPr>
          <a:xfrm>
            <a:off x="609480" y="2895480"/>
            <a:ext cx="1930680" cy="19558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6" descr="C:\Documents and Settings\郑志胜\桌面\日月明\田字格.jpg"/>
          <p:cNvPicPr/>
          <p:nvPr/>
        </p:nvPicPr>
        <p:blipFill>
          <a:blip r:embed="rId6"/>
          <a:stretch/>
        </p:blipFill>
        <p:spPr>
          <a:xfrm>
            <a:off x="2717640" y="2895480"/>
            <a:ext cx="1930680" cy="195588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7" descr="C:\Documents and Settings\郑志胜\桌面\日月明\田字格.jpg"/>
          <p:cNvPicPr/>
          <p:nvPr/>
        </p:nvPicPr>
        <p:blipFill>
          <a:blip r:embed="rId7"/>
          <a:stretch/>
        </p:blipFill>
        <p:spPr>
          <a:xfrm>
            <a:off x="4724280" y="2895480"/>
            <a:ext cx="1930680" cy="195588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8"/>
          <p:cNvSpPr/>
          <p:nvPr/>
        </p:nvSpPr>
        <p:spPr>
          <a:xfrm>
            <a:off x="112716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02" name="Picture 9" descr="C:\Documents and Settings\diy\My Documents\My Pictures\边框\拉.bmp"/>
          <p:cNvPicPr/>
          <p:nvPr/>
        </p:nvPicPr>
        <p:blipFill>
          <a:blip r:embed="rId8"/>
          <a:stretch/>
        </p:blipFill>
        <p:spPr>
          <a:xfrm>
            <a:off x="838080" y="1143000"/>
            <a:ext cx="1222560" cy="13366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0" descr="C:\Documents and Settings\diy\My Documents\My Pictures\边框\给.bmp"/>
          <p:cNvPicPr/>
          <p:nvPr/>
        </p:nvPicPr>
        <p:blipFill>
          <a:blip r:embed="rId9"/>
          <a:stretch/>
        </p:blipFill>
        <p:spPr>
          <a:xfrm>
            <a:off x="2895480" y="1143000"/>
            <a:ext cx="1222560" cy="13366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1" descr="C:\Documents and Settings\diy\My Documents\My Pictures\边框\种.bmp"/>
          <p:cNvPicPr/>
          <p:nvPr/>
        </p:nvPicPr>
        <p:blipFill>
          <a:blip r:embed="rId10"/>
          <a:stretch/>
        </p:blipFill>
        <p:spPr>
          <a:xfrm>
            <a:off x="4952880" y="1219320"/>
            <a:ext cx="1168560" cy="12776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2" descr="C:\Documents and Settings\diy\My Documents\My Pictures\边框\把.bmp"/>
          <p:cNvPicPr/>
          <p:nvPr/>
        </p:nvPicPr>
        <p:blipFill>
          <a:blip r:embed="rId11"/>
          <a:stretch/>
        </p:blipFill>
        <p:spPr>
          <a:xfrm>
            <a:off x="914400" y="3124080"/>
            <a:ext cx="1222200" cy="13366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3" descr="C:\Documents and Settings\diy\My Documents\My Pictures\边框\活.bmp"/>
          <p:cNvPicPr/>
          <p:nvPr/>
        </p:nvPicPr>
        <p:blipFill>
          <a:blip r:embed="rId12"/>
          <a:stretch/>
        </p:blipFill>
        <p:spPr>
          <a:xfrm>
            <a:off x="2971800" y="3200400"/>
            <a:ext cx="1168560" cy="12780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4" descr="C:\Documents and Settings\diy\My Documents\My Pictures\边框\吃.bmp"/>
          <p:cNvPicPr/>
          <p:nvPr/>
        </p:nvPicPr>
        <p:blipFill>
          <a:blip r:embed="rId13"/>
          <a:stretch/>
        </p:blipFill>
        <p:spPr>
          <a:xfrm>
            <a:off x="4952880" y="3124080"/>
            <a:ext cx="122256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2" descr="{9BC5ED10-4E20-11D9-9B47-00E04CFF79F2}0"/>
          <p:cNvPicPr/>
          <p:nvPr/>
        </p:nvPicPr>
        <p:blipFill>
          <a:blip r:embed="rId1"/>
          <a:stretch/>
        </p:blipFill>
        <p:spPr>
          <a:xfrm>
            <a:off x="380880" y="2286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3"/>
          <p:cNvSpPr/>
          <p:nvPr/>
        </p:nvSpPr>
        <p:spPr>
          <a:xfrm>
            <a:off x="380880" y="4038480"/>
            <a:ext cx="125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候</a:t>
            </a:r>
            <a:endParaRPr b="0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459360" y="1676520"/>
            <a:ext cx="6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i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11" name="Picture 5" descr="{9BC5ED10-4E20-11D9-9B47-00E04CFF79F2}0"/>
          <p:cNvPicPr/>
          <p:nvPr/>
        </p:nvPicPr>
        <p:blipFill>
          <a:blip r:embed="rId2"/>
          <a:stretch/>
        </p:blipFill>
        <p:spPr>
          <a:xfrm>
            <a:off x="1295280" y="228600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612" name="Rectangle 6"/>
          <p:cNvSpPr/>
          <p:nvPr/>
        </p:nvSpPr>
        <p:spPr>
          <a:xfrm>
            <a:off x="1295280" y="16765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iao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2438280" y="1676520"/>
            <a:ext cx="7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i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4" name="Rectangle 8"/>
          <p:cNvSpPr/>
          <p:nvPr/>
        </p:nvSpPr>
        <p:spPr>
          <a:xfrm>
            <a:off x="3505320" y="1676520"/>
            <a:ext cx="86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u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5" name="Rectangle 9"/>
          <p:cNvSpPr/>
          <p:nvPr/>
        </p:nvSpPr>
        <p:spPr>
          <a:xfrm>
            <a:off x="5638680" y="1676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iao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6" name="Rectangle 10"/>
          <p:cNvSpPr/>
          <p:nvPr/>
        </p:nvSpPr>
        <p:spPr>
          <a:xfrm>
            <a:off x="4650120" y="167652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n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7" name="Rectangle 11"/>
          <p:cNvSpPr/>
          <p:nvPr/>
        </p:nvSpPr>
        <p:spPr>
          <a:xfrm>
            <a:off x="6781680" y="1676520"/>
            <a:ext cx="84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n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8" name="Rectangle 12"/>
          <p:cNvSpPr/>
          <p:nvPr/>
        </p:nvSpPr>
        <p:spPr>
          <a:xfrm>
            <a:off x="8002800" y="16765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9" name="Rectangle 13"/>
          <p:cNvSpPr/>
          <p:nvPr/>
        </p:nvSpPr>
        <p:spPr>
          <a:xfrm>
            <a:off x="2590920" y="4038480"/>
            <a:ext cx="69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担</a:t>
            </a:r>
            <a:endParaRPr b="0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0" name="Rectangle 14"/>
          <p:cNvSpPr/>
          <p:nvPr/>
        </p:nvSpPr>
        <p:spPr>
          <a:xfrm>
            <a:off x="1523880" y="4038480"/>
            <a:ext cx="7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挑</a:t>
            </a:r>
            <a:endParaRPr b="0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1" name="Rectangle 15"/>
          <p:cNvSpPr/>
          <p:nvPr/>
        </p:nvSpPr>
        <p:spPr>
          <a:xfrm>
            <a:off x="3760920" y="40384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肥</a:t>
            </a:r>
            <a:endParaRPr b="0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2" name="Rectangle 16"/>
          <p:cNvSpPr/>
          <p:nvPr/>
        </p:nvSpPr>
        <p:spPr>
          <a:xfrm>
            <a:off x="4903920" y="3962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浇</a:t>
            </a:r>
            <a:endParaRPr b="0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3" name="Rectangle 17"/>
          <p:cNvSpPr/>
          <p:nvPr/>
        </p:nvSpPr>
        <p:spPr>
          <a:xfrm>
            <a:off x="8028000" y="3962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饿</a:t>
            </a:r>
            <a:endParaRPr b="0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4" name="Rectangle 18"/>
          <p:cNvSpPr/>
          <p:nvPr/>
        </p:nvSpPr>
        <p:spPr>
          <a:xfrm>
            <a:off x="7086600" y="3962520"/>
            <a:ext cx="69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翻</a:t>
            </a:r>
            <a:endParaRPr b="0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25" name="Picture 19" descr="{9BC5ED10-4E20-11D9-9B47-00E04CFF79F2}0"/>
          <p:cNvPicPr/>
          <p:nvPr/>
        </p:nvPicPr>
        <p:blipFill>
          <a:blip r:embed="rId3"/>
          <a:stretch/>
        </p:blipFill>
        <p:spPr>
          <a:xfrm>
            <a:off x="2438280" y="2286000"/>
            <a:ext cx="1067040" cy="91440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20" descr="{9BC5ED10-4E20-11D9-9B47-00E04CFF79F2}0"/>
          <p:cNvPicPr/>
          <p:nvPr/>
        </p:nvPicPr>
        <p:blipFill>
          <a:blip r:embed="rId4"/>
          <a:stretch/>
        </p:blipFill>
        <p:spPr>
          <a:xfrm>
            <a:off x="3505320" y="2286000"/>
            <a:ext cx="1066680" cy="9144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21" descr="{9BC5ED10-4E20-11D9-9B47-00E04CFF79F2}0"/>
          <p:cNvPicPr/>
          <p:nvPr/>
        </p:nvPicPr>
        <p:blipFill>
          <a:blip r:embed="rId5"/>
          <a:stretch/>
        </p:blipFill>
        <p:spPr>
          <a:xfrm>
            <a:off x="4572000" y="2286000"/>
            <a:ext cx="1066680" cy="914400"/>
          </a:xfrm>
          <a:prstGeom prst="rect">
            <a:avLst/>
          </a:prstGeom>
          <a:ln w="0">
            <a:noFill/>
          </a:ln>
        </p:spPr>
      </p:pic>
      <p:sp>
        <p:nvSpPr>
          <p:cNvPr id="628" name="Rectangle 22"/>
          <p:cNvSpPr/>
          <p:nvPr/>
        </p:nvSpPr>
        <p:spPr>
          <a:xfrm>
            <a:off x="6019920" y="3962520"/>
            <a:ext cx="99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施</a:t>
            </a:r>
            <a:endParaRPr b="0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29" name="Picture 23" descr="{9BC5ED10-4E20-11D9-9B47-00E04CFF79F2}0"/>
          <p:cNvPicPr/>
          <p:nvPr/>
        </p:nvPicPr>
        <p:blipFill>
          <a:blip r:embed="rId6"/>
          <a:stretch/>
        </p:blipFill>
        <p:spPr>
          <a:xfrm>
            <a:off x="5638680" y="2286000"/>
            <a:ext cx="1067040" cy="9144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24" descr="{9BC5ED10-4E20-11D9-9B47-00E04CFF79F2}0"/>
          <p:cNvPicPr/>
          <p:nvPr/>
        </p:nvPicPr>
        <p:blipFill>
          <a:blip r:embed="rId7"/>
          <a:stretch/>
        </p:blipFill>
        <p:spPr>
          <a:xfrm>
            <a:off x="6705720" y="2286000"/>
            <a:ext cx="1066680" cy="9144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25" descr="{9BC5ED10-4E20-11D9-9B47-00E04CFF79F2}0"/>
          <p:cNvPicPr/>
          <p:nvPr/>
        </p:nvPicPr>
        <p:blipFill>
          <a:blip r:embed="rId8"/>
          <a:stretch/>
        </p:blipFill>
        <p:spPr>
          <a:xfrm>
            <a:off x="7772400" y="2286000"/>
            <a:ext cx="91440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2" name=""/>
          <p:cNvGraphicFramePr/>
          <p:nvPr/>
        </p:nvGraphicFramePr>
        <p:xfrm>
          <a:off x="762120" y="2133720"/>
          <a:ext cx="3124080" cy="2286000"/>
        </p:xfrm>
        <a:graphic>
          <a:graphicData uri="http://schemas.openxmlformats.org/drawingml/2006/table">
            <a:tbl>
              <a:tblPr/>
              <a:tblGrid>
                <a:gridCol w="3124080"/>
              </a:tblGrid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3" name=""/>
          <p:cNvGraphicFramePr/>
          <p:nvPr/>
        </p:nvGraphicFramePr>
        <p:xfrm>
          <a:off x="2971800" y="2209320"/>
          <a:ext cx="4191120" cy="2210400"/>
        </p:xfrm>
        <a:graphic>
          <a:graphicData uri="http://schemas.openxmlformats.org/drawingml/2006/table">
            <a:tbl>
              <a:tblPr/>
              <a:tblGrid>
                <a:gridCol w="4191120"/>
              </a:tblGrid>
              <a:tr h="221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4" name=""/>
          <p:cNvGraphicFramePr/>
          <p:nvPr/>
        </p:nvGraphicFramePr>
        <p:xfrm>
          <a:off x="1905120" y="2133720"/>
          <a:ext cx="4114800" cy="228600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5" name=""/>
          <p:cNvGraphicFramePr/>
          <p:nvPr/>
        </p:nvGraphicFramePr>
        <p:xfrm>
          <a:off x="8078760" y="2286000"/>
          <a:ext cx="415800" cy="19810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440">
                      <a:solidFill>
                        <a:srgbClr val="66ff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6" name=""/>
          <p:cNvGraphicFramePr/>
          <p:nvPr/>
        </p:nvGraphicFramePr>
        <p:xfrm>
          <a:off x="2971800" y="2133720"/>
          <a:ext cx="3352680" cy="220968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22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7" name=""/>
          <p:cNvGraphicFramePr/>
          <p:nvPr/>
        </p:nvGraphicFramePr>
        <p:xfrm>
          <a:off x="5181480" y="2209680"/>
          <a:ext cx="2210040" cy="2133720"/>
        </p:xfrm>
        <a:graphic>
          <a:graphicData uri="http://schemas.openxmlformats.org/drawingml/2006/table">
            <a:tbl>
              <a:tblPr/>
              <a:tblGrid>
                <a:gridCol w="2210040"/>
              </a:tblGrid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8" name="AutoShape 224"/>
          <p:cNvSpPr/>
          <p:nvPr/>
        </p:nvSpPr>
        <p:spPr>
          <a:xfrm>
            <a:off x="6172200" y="0"/>
            <a:ext cx="2971800" cy="990720"/>
          </a:xfrm>
          <a:prstGeom prst="cloudCallout">
            <a:avLst>
              <a:gd name="adj1" fmla="val -62981"/>
              <a:gd name="adj2" fmla="val 12531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9" name="Rectangle 225"/>
          <p:cNvSpPr/>
          <p:nvPr/>
        </p:nvSpPr>
        <p:spPr>
          <a:xfrm>
            <a:off x="7066800" y="228600"/>
            <a:ext cx="12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连连看！</a:t>
            </a:r>
            <a:r>
              <a:rPr b="1" i="1" lang="zh-CN" sz="2800" spc="-1" strike="noStrike">
                <a:solidFill>
                  <a:srgbClr val="ff9933"/>
                </a:solidFill>
                <a:latin typeface="Times New Roman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0" name="AutoShape 226"/>
          <p:cNvSpPr/>
          <p:nvPr/>
        </p:nvSpPr>
        <p:spPr>
          <a:xfrm>
            <a:off x="8229600" y="152280"/>
            <a:ext cx="609480" cy="533520"/>
          </a:xfrm>
          <a:prstGeom prst="smileyFace">
            <a:avLst>
              <a:gd name="adj" fmla="val 92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41" name="Picture 231" descr="BD14710_"/>
          <p:cNvPicPr/>
          <p:nvPr/>
        </p:nvPicPr>
        <p:blipFill>
          <a:blip r:embed="rId9"/>
          <a:stretch/>
        </p:blipFill>
        <p:spPr>
          <a:xfrm>
            <a:off x="685800" y="5246640"/>
            <a:ext cx="8229600" cy="13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2" name=""/>
          <p:cNvGraphicFramePr/>
          <p:nvPr/>
        </p:nvGraphicFramePr>
        <p:xfrm>
          <a:off x="685800" y="2133720"/>
          <a:ext cx="3276720" cy="2209680"/>
        </p:xfrm>
        <a:graphic>
          <a:graphicData uri="http://schemas.openxmlformats.org/drawingml/2006/table">
            <a:tbl>
              <a:tblPr/>
              <a:tblGrid>
                <a:gridCol w="3276720"/>
              </a:tblGrid>
              <a:tr h="22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3" name=""/>
          <p:cNvGraphicFramePr/>
          <p:nvPr/>
        </p:nvGraphicFramePr>
        <p:xfrm>
          <a:off x="1828800" y="1981080"/>
          <a:ext cx="3276720" cy="2286000"/>
        </p:xfrm>
        <a:graphic>
          <a:graphicData uri="http://schemas.openxmlformats.org/drawingml/2006/table">
            <a:tbl>
              <a:tblPr/>
              <a:tblGrid>
                <a:gridCol w="3276720"/>
              </a:tblGrid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4" name="Picture 269" descr="{38D0F6AF-6296-41C0-B5C8-AD8F716E3C31}0"/>
          <p:cNvPicPr/>
          <p:nvPr/>
        </p:nvPicPr>
        <p:blipFill>
          <a:blip r:embed="rId10"/>
          <a:stretch/>
        </p:blipFill>
        <p:spPr>
          <a:xfrm>
            <a:off x="7221600" y="5257800"/>
            <a:ext cx="16174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15:29:59Z</dcterms:created>
  <dc:creator>陈泽滨</dc:creator>
  <dc:description/>
  <dc:language>en-US</dc:language>
  <cp:lastModifiedBy>a</cp:lastModifiedBy>
  <dcterms:modified xsi:type="dcterms:W3CDTF">2015-03-18T05:45:40Z</dcterms:modified>
  <cp:revision>19</cp:revision>
  <dc:subject/>
  <dc:title> </dc:title>
</cp:coreProperties>
</file>