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gif" ContentType="image/gif"/>
  <Override PartName="/ppt/media/image8.jpeg" ContentType="image/jpeg"/>
  <Override PartName="/ppt/media/image13.jpeg" ContentType="image/jpeg"/>
  <Override PartName="/ppt/media/image9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BE34-353A-48F4-9D0D-A9D620682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D45C-7E0A-4A60-B79B-EAB1A06C9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819561-4778-46B8-AEFA-664D20F6A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B9E520-7857-412E-A1CF-35496DA79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BFF41B-E331-4AD1-9E69-38697ABB7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307F8E-5739-4780-9743-AB3C3D5D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D03D50-C628-4248-9FE7-C2CDDF0A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1DE7BB-3B1D-4E95-A28F-51A727EB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5CAA60-39DF-466F-A3BA-1E6EDA01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F44FCD-3C39-4A3C-A233-1B1C99596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B62BB1-A792-45BD-9D9B-A93A9DCFC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238FC1-63BE-481F-82C7-19F51CA84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167F-9714-4D88-96A6-7003476EA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DCF302-2F3C-4FD9-8F54-FE0479FE2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53E00E-09ED-420F-95AE-4BD6C9501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8819F0-CBD2-4E09-91FC-2115452D5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F04B37-ECEA-464D-AAB5-4B48B841F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008C8F-86F5-4B7E-ABB7-8E078A8B9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9C172D-7A30-407C-8ACB-BF3C23E9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E1CC45-ECB0-414C-A0EC-D26D3877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2661BF-EEFB-47A4-96AF-D939B99B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57C321-4113-412F-863A-F81C1CC50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B2B9D1-EF6A-48DB-A28E-D5DF5FEA4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606C-8583-49AE-B38B-611819085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4D4202-29D6-444F-BDD4-D4FC91695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44F665-66C2-4EF0-AF53-089F09464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DA676A-C62A-4A0C-BE2F-B36DAD997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8ED698-FD8B-4A07-B843-8A19AC34E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9DC574-62EA-4796-9B82-E94A5F53D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796BAF-F20A-4D4B-8CB8-C0DA3800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90D4EE-0BE8-4F84-B6FC-59261D56E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4AB601-8289-4EA9-A803-46D0F0EC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D0F6C7-E9B9-4F5B-99B1-14FC2349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93D7C8-5127-4422-9E28-EC8E3E64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45569-EE24-481C-B6A6-F270AF9E5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2B1BFE-C9FC-4357-9683-1D762DC4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03C9BA-2910-4E2B-9059-EFD2356D8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D8E697-6D0C-4DC8-AB33-9D417B747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8660D3-D48A-4C26-881A-CB66508DE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094547-6902-4D66-A1B6-DE6559E78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02AF64-C138-4549-9EC0-B665D45EA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3E304D-E958-4CEB-85AC-A001313D3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4A028C-AD3F-4BF8-A25E-0CACE26AE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11C7F4-B5F3-4431-922A-89EA7F52E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5F2F23-BB7A-41F1-8D39-7EA3DF97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85567-FF19-4F81-BD0A-AE7A9D8C4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307F36-F376-4F55-ABA5-DE2495F2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4D48A0-6DAF-478D-9793-CC1E8627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E0E7E1-1156-436E-A6A8-4BF4A6134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1023D1-9274-49F1-A2A9-314404B03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F81FD7-495D-447B-A872-27F827AEF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F9B8ED-9927-412F-B342-9830CAF8F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B7965F-AA44-4C88-BC8F-9BC3D2859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0CF3BB-D675-4756-A973-9CC62F45D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C98B43-12F9-4DF1-9722-A7E90DD97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1B6DE4-E2D1-494F-A267-8D94A5C3D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D0518-6F6B-469E-9808-5D4098AF4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AB18D9-AEEC-412B-A83B-690A84F87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C4A6D8-34FD-4C0C-880C-C2E3A428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32F02D-4ED6-4E52-AC91-D4521779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183186-C2CA-4C83-9B0F-5512790D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55D9CA-3517-4D3A-AA64-04E336FA8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50C489-3F7F-4C30-8A36-BE94ED09F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5F96BB-5066-4650-9F37-1BC256160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C7F3B-10D0-4B31-8BFF-C43E3DD26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494FF-7D11-43F9-A8C3-3B069B4AC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B1892-525F-4407-B3C0-C6B72E24A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1BF12-4C52-495D-AA1A-998A2CB8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1ACB-B531-4CE8-9741-5E644514A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4FBBA-107B-4033-9854-015298E8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D8FC9-BA29-4095-B815-4C405814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76DCA-4BC1-42CF-B8E7-D33C12620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55618-6128-4BC6-9321-45D922895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F33BC-4F6E-4F85-A5CE-D7B601B70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3C107-ECE8-48A6-8A70-3E7ED5C9C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9B87F-18DD-41B3-8D94-A6BC90108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309A6-81FB-49F0-8C33-7B0C9B266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5F05C-FB90-42F9-85CF-8175123F2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64346-38F8-4B1F-A58A-6DDC75296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8BD0-82F4-41AB-902D-63DCA3ED9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2FA4D-FA63-4603-9698-41FEB127E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16D88-6369-48F8-8C31-6D3C567B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1B7E7-2C08-4C3E-9233-AB55D8A5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64827-A3A7-4871-A6C9-3B29CD76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28BC5-1072-4FC3-86FF-295406D98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8E1C6-7B7E-4A8E-B510-D52BC0CBE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7C5EB-47C1-4EC5-B84B-70A39982E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CE258-3FF0-4445-8E99-AD3B02C14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97669-5D96-4C78-9530-E2967E8D0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7B22F-FBD6-4546-94F0-0F6AA2177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99E7-B91A-44DC-9901-D29B6B448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4CD44-FB0A-4430-9DBB-B35F4C8E1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50730-DEEC-4023-8257-C8B94271A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70FE9-84EE-4D91-AA6A-7ADEDC973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3C8D8-4077-4CCE-82E8-8B052AE0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136A8-5E01-4556-8A49-04712B63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5376F-8ED4-4F82-AEC1-D0CD4808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33913-7A4D-4280-B3DF-B2F4B47A1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5C2FA-D070-453E-82D8-7C591DF9D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7E76A-64B1-4E18-B557-656622093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7603B-733B-4742-9C4F-743626707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88DB-B826-441B-88FF-5124B7A1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1EBA4-DA90-4DF5-A568-499F5ACD3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97BF1-82EA-4B68-8839-91DC2728D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66FB6-95DB-4954-843C-7B63B775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EEF25-8550-46FB-B991-9E70B689B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86C63-4513-4150-A995-D2B874244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650C3-776B-4FAF-85B3-E140B7C3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23289-CBDE-40C4-ABA5-BA3469AB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0504E-33EF-45CF-A953-6099F5D7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B6B5B-9D1E-4AD0-B838-35E6BE977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06112-23BD-4689-9647-BC4EA1191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99E9-084A-4856-A215-9C5A7144C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5AE99-0F2A-411A-BA93-450202077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D345D0-99D0-423E-ADFB-AF33D8976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2FC3D-4DCF-41B3-938E-4C493E2D4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557BF-D161-4E65-8986-20C0115FA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25611-1F19-4E3F-90CD-CCB047B56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596576-FD1E-4F8A-A935-B9F6979C7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3BABD-8258-4EB2-AE95-631194538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6CB13-9ED6-4851-879A-1814BB73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703B8-274D-42BD-917E-781B20FE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571FC-5DD3-4737-9209-CEB920DB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A49F-D4EC-4A53-954A-E0101376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D4F50-F414-4AB6-B3D3-FEFCE7659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A6EFD-1DD9-447A-A0F8-8C8E1983C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FACE5-0144-4BDE-ADCE-7FE503DF4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204B0-B1F3-423A-BF39-BE3A83952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FF127-2371-4DDB-BA25-5F3B3ACA8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1F584-BD9D-4ADC-8692-8F162678F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D2DCCA-104E-4AAA-B67A-852EB353F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236BCD-89D9-4A26-B576-D09967DD8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D97A0-0E32-4466-883E-67E0A8BB5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18A544-4628-48E6-9E6F-81A17B84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4995-2EB8-4DD6-8F06-58C6C25A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E93F7C-348E-4CEF-87C5-54FD0B9CF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79C0D-4F25-489B-8A1A-8E41C244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050AA-E90E-48B2-A931-BA7AAD0EF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DE6031-C94D-4045-9DC3-CBB5329B3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9EA4C5-CD3D-45D5-AB8E-732BDB235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728EF8-055E-4041-9392-BB7F0084A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041582-17F2-460D-85BB-31A4176EC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E68729-0F74-4D25-8974-6E5334541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3CF22B-12F1-4E54-A2D0-4E3D4C429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8A8290-0300-4602-B786-2CDEB69EB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77FF-FBD4-4755-967F-7C3BA7FB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C8AA8C-96E2-4995-9B72-FC78246C2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B6A181-7A8F-4FAE-AA06-3C593D69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BE6688-F9D8-482F-9023-3DC845D8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B38353-0E3A-441C-814A-69FBCBF4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CF4716-04BE-4652-8358-F745782DD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CFAFDD-7CB1-4554-ABB2-72EA20FC5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E5D248-D6F8-4638-9873-E7039D093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B236F7-EC4A-41CC-B41E-E8E60B779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5B204D-AA14-4065-B3D2-F2FD86D68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5599AD-A411-4C44-B684-0D80E4B52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487F2-4CBE-480C-92B5-A525CFDADD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AFE1F-F323-4777-B1DA-2EB42C1F294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2FBFA-3B72-40BC-B3F8-C2E02A31FE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E65C2-F67C-465F-AF04-EA2ACC3E8A0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107A1-AA79-4B8A-8776-3BD3E55271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081DE-0E0D-4981-BD36-A79F6E62BF7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E8D3E-D58D-4865-92CE-6E61591AE2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2A151-6417-41F1-8D0B-E74862828FB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4E124-9649-4F0C-B481-A32E75D473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E3DE0-0B08-4981-80E4-FFB95962D54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57175-A4FE-4EF4-A37B-AA7098C1E2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78700-DDCD-475D-B94F-95E0668F01F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EA6B1-B126-4C20-817A-AE8FC6D7D3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92C63-202D-4710-A708-3C19F2490B6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C3CC4-D16B-4609-A5C3-EEEABCBA2B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E46D7-9D7E-4116-9169-0549C669D24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8C57E-47C5-4D68-9249-49BA3030F7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8E9F7-3CEB-4C9C-A260-C374BF2014A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9260F-6447-492E-B234-14C0EEFBEF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A220B-AB02-4FC7-B172-916F2B798A5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8ACBA-347C-47AE-923D-5CB895FA4E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AB92B-67D6-44CD-980F-AD172A973C2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51BDE-7735-4E7F-A200-FD17BD9A88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616D-23B5-4A01-9D96-A9AEFA6BBAA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3CC1E-DE03-4ABD-B141-8024A30ABE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3" descr="图片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5" name="Rectangle 4"/>
          <p:cNvSpPr/>
          <p:nvPr/>
        </p:nvSpPr>
        <p:spPr>
          <a:xfrm>
            <a:off x="395280" y="1255680"/>
            <a:ext cx="84247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  <a:ea typeface="汉鼎繁颜体"/>
              </a:rPr>
              <a:t>      </a:t>
            </a: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汉鼎繁颜体"/>
              </a:rPr>
              <a:t>夏     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汉鼎繁颜体"/>
              </a:rPr>
              <a:t>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汉鼎繁颜体"/>
              </a:rPr>
              <a:t>作者：梁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44640"/>
          </a:xfrm>
          <a:prstGeom prst="rect">
            <a:avLst/>
          </a:prstGeom>
          <a:solidFill>
            <a:srgbClr val="ffff99">
              <a:alpha val="56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作者为我们展示的是北方的，具有男性风格的夏天，其实对于不同的地域和不同的观赏者来说，夏天的感觉是不尽相同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-360" y="1700280"/>
            <a:ext cx="8893080" cy="2549520"/>
          </a:xfrm>
          <a:prstGeom prst="rect">
            <a:avLst/>
          </a:prstGeom>
          <a:solidFill>
            <a:srgbClr val="ccffcc">
              <a:alpha val="5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荷才露尖尖角，早有蜻蜓立上头。 （舒缓，趣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接天莲叶无穷碧，映日荷花别样红。（美好，秀气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云收雨过波添，楼高水冷瓜甜，绿树阴垂画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夏日雨后的凉爽，惬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4"/>
          <p:cNvSpPr/>
          <p:nvPr/>
        </p:nvSpPr>
        <p:spPr>
          <a:xfrm>
            <a:off x="0" y="4508640"/>
            <a:ext cx="9144000" cy="764280"/>
          </a:xfrm>
          <a:prstGeom prst="rect">
            <a:avLst/>
          </a:prstGeom>
          <a:solidFill>
            <a:srgbClr val="ffcc99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描绘南方的夏天，我也来试试看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5"/>
          <p:cNvSpPr/>
          <p:nvPr/>
        </p:nvSpPr>
        <p:spPr>
          <a:xfrm>
            <a:off x="250920" y="5516640"/>
            <a:ext cx="8675640" cy="520560"/>
          </a:xfrm>
          <a:prstGeom prst="rect">
            <a:avLst/>
          </a:prstGeom>
          <a:solidFill>
            <a:srgbClr val="ccffcc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看看图片，结合你脑子里呈现出来的夏天，仿写一篇“夏感”（写在日记本上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7" descr="__scale__1_713775535"/>
          <p:cNvPicPr/>
          <p:nvPr/>
        </p:nvPicPr>
        <p:blipFill>
          <a:blip r:embed="rId1"/>
          <a:stretch/>
        </p:blipFill>
        <p:spPr>
          <a:xfrm>
            <a:off x="7020000" y="5715000"/>
            <a:ext cx="15127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5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2" descr="图片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3" descr="713426577"/>
          <p:cNvPicPr/>
          <p:nvPr/>
        </p:nvPicPr>
        <p:blipFill>
          <a:blip r:embed="rId2"/>
          <a:stretch/>
        </p:blipFill>
        <p:spPr>
          <a:xfrm>
            <a:off x="7380360" y="155736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4" descr="fi04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4" descr="bd23ee848b334eeebbe76c7060c50f6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4" descr="图片25"/>
          <p:cNvPicPr/>
          <p:nvPr/>
        </p:nvPicPr>
        <p:blipFill>
          <a:blip r:embed="rId1"/>
          <a:stretch/>
        </p:blipFill>
        <p:spPr>
          <a:xfrm>
            <a:off x="216000" y="115920"/>
            <a:ext cx="8820000" cy="66135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8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矩形 7"/>
          <p:cNvSpPr/>
          <p:nvPr/>
        </p:nvSpPr>
        <p:spPr>
          <a:xfrm>
            <a:off x="268200" y="60213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2" descr="ppt1290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538" name="Text Box 3"/>
          <p:cNvSpPr/>
          <p:nvPr/>
        </p:nvSpPr>
        <p:spPr>
          <a:xfrm>
            <a:off x="-1167480" y="0"/>
            <a:ext cx="21121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落实基础，整体感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4"/>
          <p:cNvSpPr/>
          <p:nvPr/>
        </p:nvSpPr>
        <p:spPr>
          <a:xfrm>
            <a:off x="971640" y="260280"/>
            <a:ext cx="8172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芊芊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细草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 qi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 qi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草木茂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黛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色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 dài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青黑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磅礴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 páng bó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气势盛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贮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满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 zhù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储存满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积蓄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匍匐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 pú f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爬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秋波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澹澹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dàn dàn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水波荡漾的样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作者对</a:t>
            </a:r>
            <a:r>
              <a:rPr b="1" lang="zh-CN" sz="6600" spc="-1" strike="noStrike">
                <a:solidFill>
                  <a:srgbClr val="ff0000"/>
                </a:solidFill>
                <a:latin typeface="黑体"/>
                <a:ea typeface="黑体"/>
              </a:rPr>
              <a:t>夏</a:t>
            </a:r>
            <a:r>
              <a:rPr b="1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季的总体</a:t>
            </a:r>
            <a:r>
              <a:rPr b="1" lang="zh-CN" sz="6600" spc="-1" strike="noStrike">
                <a:solidFill>
                  <a:srgbClr val="ff0000"/>
                </a:solidFill>
                <a:latin typeface="黑体"/>
                <a:ea typeface="黑体"/>
              </a:rPr>
              <a:t>感</a:t>
            </a:r>
            <a:r>
              <a:rPr b="1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受是什么</a:t>
            </a:r>
            <a:r>
              <a:rPr b="1" lang="en-US" sz="66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用文中的话回答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835200" y="3761640"/>
            <a:ext cx="7401240" cy="113472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紧张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热烈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急促的旋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/>
          </p:nvPr>
        </p:nvSpPr>
        <p:spPr>
          <a:xfrm>
            <a:off x="-181440" y="259920"/>
            <a:ext cx="93250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作者通过哪几方面具体可感的事物叙说他对夏天的感受</a:t>
            </a:r>
            <a:r>
              <a:rPr b="1" lang="en-US" sz="60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11"/>
          <p:cNvSpPr/>
          <p:nvPr/>
        </p:nvSpPr>
        <p:spPr>
          <a:xfrm flipV="1">
            <a:off x="826920" y="9954360"/>
            <a:ext cx="7993080" cy="459000"/>
          </a:xfrm>
          <a:prstGeom prst="foldedCorner">
            <a:avLst>
              <a:gd name="adj" fmla="val 12500"/>
            </a:avLst>
          </a:prstGeom>
          <a:solidFill>
            <a:srgbClr val="ffcc00">
              <a:alpha val="7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14" descr="705779209"/>
          <p:cNvPicPr/>
          <p:nvPr/>
        </p:nvPicPr>
        <p:blipFill>
          <a:blip r:embed="rId1"/>
          <a:stretch/>
        </p:blipFill>
        <p:spPr>
          <a:xfrm>
            <a:off x="250920" y="3645000"/>
            <a:ext cx="21463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734080"/>
          </a:xfrm>
          <a:prstGeom prst="rect">
            <a:avLst/>
          </a:prstGeom>
          <a:solidFill>
            <a:srgbClr val="ffcc00">
              <a:alpha val="73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夏之景：    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说说作者具体描写了夏天的哪些景物？</a:t>
            </a:r>
            <a:br>
              <a:rPr sz="5400"/>
            </a:br>
            <a:br>
              <a:rPr sz="5400"/>
            </a:b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   这些景象如何体现夏天紧张、热烈、急促的特点？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4"/>
          <p:cNvSpPr/>
          <p:nvPr/>
        </p:nvSpPr>
        <p:spPr>
          <a:xfrm>
            <a:off x="971640" y="5734080"/>
            <a:ext cx="7200720" cy="1123920"/>
          </a:xfrm>
          <a:custGeom>
            <a:avLst/>
            <a:gdLst>
              <a:gd name="textAreaLeft" fmla="*/ 1643760 w 7200720"/>
              <a:gd name="textAreaRight" fmla="*/ 5556960 w 7200720"/>
              <a:gd name="textAreaTop" fmla="*/ 256320 h 1123920"/>
              <a:gd name="textAreaBottom" fmla="*/ 867600 h 1123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比喻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形象生动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为什么作者说夏天是金黄色的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3" descr="图片4"/>
          <p:cNvPicPr/>
          <p:nvPr/>
        </p:nvPicPr>
        <p:blipFill>
          <a:blip r:embed="rId1"/>
          <a:stretch/>
        </p:blipFill>
        <p:spPr>
          <a:xfrm>
            <a:off x="324000" y="1341360"/>
            <a:ext cx="3313080" cy="217512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4" descr="图片13"/>
          <p:cNvPicPr/>
          <p:nvPr/>
        </p:nvPicPr>
        <p:blipFill>
          <a:blip r:embed="rId2"/>
          <a:stretch/>
        </p:blipFill>
        <p:spPr>
          <a:xfrm>
            <a:off x="5076720" y="1268280"/>
            <a:ext cx="3384720" cy="230364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5" descr="图片12"/>
          <p:cNvPicPr/>
          <p:nvPr/>
        </p:nvPicPr>
        <p:blipFill>
          <a:blip r:embed="rId3"/>
          <a:stretch/>
        </p:blipFill>
        <p:spPr>
          <a:xfrm>
            <a:off x="250920" y="4076640"/>
            <a:ext cx="3492360" cy="2619360"/>
          </a:xfrm>
          <a:prstGeom prst="rect">
            <a:avLst/>
          </a:prstGeom>
          <a:ln w="0">
            <a:noFill/>
          </a:ln>
        </p:spPr>
      </p:pic>
      <p:sp>
        <p:nvSpPr>
          <p:cNvPr id="551" name="Text Box 7"/>
          <p:cNvSpPr/>
          <p:nvPr/>
        </p:nvSpPr>
        <p:spPr>
          <a:xfrm>
            <a:off x="3995640" y="1484280"/>
            <a:ext cx="100800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收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希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8"/>
          <p:cNvSpPr/>
          <p:nvPr/>
        </p:nvSpPr>
        <p:spPr>
          <a:xfrm>
            <a:off x="8101080" y="6237360"/>
            <a:ext cx="86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12" descr="20070806_2401995967942d29f7934uKSH2GUTBZ2"/>
          <p:cNvPicPr/>
          <p:nvPr/>
        </p:nvPicPr>
        <p:blipFill>
          <a:blip r:embed="rId4"/>
          <a:stretch/>
        </p:blipFill>
        <p:spPr>
          <a:xfrm>
            <a:off x="5292720" y="4365720"/>
            <a:ext cx="3024360" cy="2303280"/>
          </a:xfrm>
          <a:prstGeom prst="rect">
            <a:avLst/>
          </a:prstGeom>
          <a:ln w="0">
            <a:noFill/>
          </a:ln>
        </p:spPr>
      </p:pic>
      <p:sp>
        <p:nvSpPr>
          <p:cNvPr id="554" name="Text Box 13"/>
          <p:cNvSpPr/>
          <p:nvPr/>
        </p:nvSpPr>
        <p:spPr>
          <a:xfrm>
            <a:off x="0" y="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夏之色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AutoShape 2"/>
          <p:cNvSpPr/>
          <p:nvPr/>
        </p:nvSpPr>
        <p:spPr>
          <a:xfrm>
            <a:off x="2843280" y="1773360"/>
            <a:ext cx="2449440" cy="151128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农人的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动有哪些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3"/>
          <p:cNvSpPr/>
          <p:nvPr/>
        </p:nvSpPr>
        <p:spPr>
          <a:xfrm>
            <a:off x="0" y="3068640"/>
            <a:ext cx="2879640" cy="1873080"/>
          </a:xfrm>
          <a:prstGeom prst="flowChartDecision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半夜听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观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AutoShape 4"/>
          <p:cNvSpPr/>
          <p:nvPr/>
        </p:nvSpPr>
        <p:spPr>
          <a:xfrm>
            <a:off x="5904000" y="2924280"/>
            <a:ext cx="3240000" cy="1728720"/>
          </a:xfrm>
          <a:prstGeom prst="flowChartDecision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给秋苗追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浇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5"/>
          <p:cNvSpPr/>
          <p:nvPr/>
        </p:nvSpPr>
        <p:spPr>
          <a:xfrm>
            <a:off x="0" y="692280"/>
            <a:ext cx="2305080" cy="1584360"/>
          </a:xfrm>
          <a:prstGeom prst="flowChartDecision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割麦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6"/>
          <p:cNvSpPr/>
          <p:nvPr/>
        </p:nvSpPr>
        <p:spPr>
          <a:xfrm>
            <a:off x="6156360" y="404640"/>
            <a:ext cx="2016000" cy="1656000"/>
          </a:xfrm>
          <a:prstGeom prst="flowChartDecision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打麦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0" name="AutoShape 7"/>
          <p:cNvCxnSpPr>
            <a:stCxn id="555" idx="1"/>
            <a:endCxn id="558" idx="2"/>
          </p:cNvCxnSpPr>
          <p:nvPr/>
        </p:nvCxnSpPr>
        <p:spPr>
          <a:xfrm flipH="1" flipV="1">
            <a:off x="1151640" y="2290320"/>
            <a:ext cx="1691640" cy="239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1" name="AutoShape 8"/>
          <p:cNvCxnSpPr>
            <a:stCxn id="555" idx="2"/>
            <a:endCxn id="556" idx="3"/>
          </p:cNvCxnSpPr>
          <p:nvPr/>
        </p:nvCxnSpPr>
        <p:spPr>
          <a:xfrm flipH="1">
            <a:off x="2893320" y="3284640"/>
            <a:ext cx="1175400" cy="72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2" name="AutoShape 9"/>
          <p:cNvCxnSpPr>
            <a:stCxn id="555" idx="3"/>
            <a:endCxn id="557" idx="1"/>
          </p:cNvCxnSpPr>
          <p:nvPr/>
        </p:nvCxnSpPr>
        <p:spPr>
          <a:xfrm>
            <a:off x="5292720" y="2528640"/>
            <a:ext cx="597600" cy="126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3" name="AutoShape 10"/>
          <p:cNvCxnSpPr>
            <a:stCxn id="555" idx="0"/>
            <a:endCxn id="559" idx="1"/>
          </p:cNvCxnSpPr>
          <p:nvPr/>
        </p:nvCxnSpPr>
        <p:spPr>
          <a:xfrm flipV="1">
            <a:off x="4068360" y="1233000"/>
            <a:ext cx="2073960" cy="5407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4" name="AutoShape 11"/>
          <p:cNvSpPr/>
          <p:nvPr/>
        </p:nvSpPr>
        <p:spPr>
          <a:xfrm>
            <a:off x="0" y="5084640"/>
            <a:ext cx="9144000" cy="1368720"/>
          </a:xfrm>
          <a:prstGeom prst="horizontalScroll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文中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快割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快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赶快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等字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表现了农人劳动的什么特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14"/>
          <p:cNvSpPr/>
          <p:nvPr/>
        </p:nvSpPr>
        <p:spPr>
          <a:xfrm>
            <a:off x="3276720" y="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夏之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896472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宋体"/>
              </a:rPr>
              <a:t>    </a:t>
            </a:r>
            <a:r>
              <a:rPr b="1" lang="zh-CN" sz="4800" spc="-1" strike="noStrike">
                <a:solidFill>
                  <a:srgbClr val="000066"/>
                </a:solidFill>
                <a:latin typeface="宋体"/>
              </a:rPr>
              <a:t>在作者笔下，夏天是如此的热烈、紧张、急促，那么作者对夏天是什么样的感情呢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79280" y="2637000"/>
            <a:ext cx="8569440" cy="217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热爱，赞美夏天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赞美夏天里辛苦劳作的人们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" dur="5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500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课堂小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-181080" y="112536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本文抓住夏天热烈、紧张、急促，收获已有而希望未尽的特点，描绘夏天金黄色的大地上暑气蒸腾、麦浪翻滚、万物蓬勃生长的景象，表达了对夏天的喜爱之情，深情赞美了辛勤劳作的农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6T10:54:22Z</dcterms:created>
  <dc:creator>第一PPT模板网-WWW.1PPT.COM</dc:creator>
  <dc:description>第一PPT模板网-WWW.1PPT.COM
</dc:description>
  <cp:keywords>第一PPT模板网-WWW.1PPT.COM</cp:keywords>
  <dc:language>en-US</dc:language>
  <cp:lastModifiedBy>a</cp:lastModifiedBy>
  <dcterms:modified xsi:type="dcterms:W3CDTF">2015-03-17T06:21:39Z</dcterms:modified>
  <cp:revision>6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e0a000000000001024120</vt:lpwstr>
  </property>
</Properties>
</file>