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36A-B783-4A9A-89EC-71A4ACD2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9A1-FAE2-445B-A09A-1E0EFE1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1B6FB-F426-4447-815A-1C01D187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C7823-AE19-4EF8-AC51-B5B139B1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17E6D-7DB7-427E-808C-28BF6EF6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FF95F-E4D8-4369-812C-B4E73F98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BF5F0-13DA-4D99-AC61-2178CF2A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327FA-063B-40D2-8788-65CA1BD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61413-9B2B-48E0-8FD0-BB4C5DBA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9B2D8-F471-466B-AF63-26C3C87A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CB343-4975-4D7F-BC45-E9FFE953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078F0-6532-4392-AE70-842D57EA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625-F2BB-4D48-B202-7CCF7F15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7B324-EB90-4B74-8365-40409A90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B744-2A3D-4E71-90FD-0A6D2EBF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FD781-C8C5-415E-84E5-2A52893B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D17FC-BABB-4E88-8754-A99C8D8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AAF67-C80B-45CF-9220-C1348FDA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2C107-4444-4575-9456-86E931F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52E3C-6EB2-4889-8652-0AD0A050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6EAC2-5179-40EB-B273-2D460DF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C98B3-3E48-4625-862B-81809F61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C86FD-C491-47C5-855B-ADF65489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9CA-08A8-4F2D-9EA9-7E315026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D7115-476E-41D8-B9D6-BC01358B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96597-253F-4357-B47E-8DD17693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10F26-3B31-4999-A962-0D958C39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B2B2-9829-4E14-90C9-BDB19EDA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0FF31-657D-4E24-AB7D-35860718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D60E2-F921-4C04-ACA5-D0A9D27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0D70B-18F0-4A81-BC77-2941B6F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7D44-19C2-4611-8852-545FB32A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02846-3341-420F-BE47-6A33247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DD4FE-3ACB-4990-98F0-84B359B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C144-2801-49B8-9299-8ACA6933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0716D-77BA-4874-9CD1-536820A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1ECAF-1E60-4581-AD3B-84CFCB1B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FF8E1-9E56-4076-AF2F-37B627B0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FFDE1-F717-4B44-888D-29DE62D0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FB684-5505-499A-8DCD-D0A39F07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16DA8-142D-4E0F-BC13-79E11034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F72AA-AFCE-4707-945E-2A31704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455B9-92C3-41A3-B897-1FE606B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6FFA2-4D46-4B18-9F88-42F20A35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80165-E537-451F-9F42-3B25330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E76-450E-41E3-8DA4-6E6D6AF6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EECD7-1412-48F5-9902-4EBD773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6BE87-17FC-4D4F-A862-6A7DF79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25115-367C-47A3-949F-B3B65FE4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0F02E-F98D-4840-9D58-C8DB75F8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B5CFA-E033-49B5-8EC3-827F5A83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EAEFB-A6A7-4598-9742-5183749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6516F-9EB8-4DEE-93D4-39FD8AD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51440-13E6-4CB0-8341-DDC2609F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98F8D-A6F4-48F1-A0F1-BE5E432C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B3264-D5A9-4A47-8569-AFD5E650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25C6-C53F-4120-AE8B-B526F8D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1D227-AF79-496B-93A4-7F3E55D6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2095A-AF01-45D3-98FF-4BBA84F4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C30F3-0DE6-4F8F-9C52-26467750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601D7-7DFD-4EEA-8DD7-636F72B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E887E-F05C-4CE0-8D54-61B42FFF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D7C28-C6F6-4A88-94F5-10480FD4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99C74-F07C-4B76-877E-141872AD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923E4-5855-410C-9444-3998813F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E4B55-16D4-4466-8188-DA872BB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19A2B-1BA4-4577-90F1-FBFF81F2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9D3E-AFCF-4578-A6C1-B80C048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0ADCD-F319-4992-B863-8D90C28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6DAE9-1CAD-43E9-8B5A-400574FD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00852-F31F-4FFB-A2B2-24DF1851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3B5E9-3B2C-44C9-BB0D-E1EE7DD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135CF-6621-4236-9200-CB8EAC3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D1DD4-64BF-4C1F-B2E7-95939041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26C1D-C199-4C98-AF99-5C2C143F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9773F-EBBC-49A6-B3B7-0FDC8D82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704BB-D6F2-4BC8-8581-2021BB2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7011-3D67-41E4-9083-5E95AF9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1C55-F248-4DD0-B602-FEDF8EE1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4DEE-EB6A-4A41-9589-B13747C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B5E-EC47-4C37-BFCA-07A10521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E589-F09C-4C7D-BBCA-4B95D54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A88D-0A8F-49F3-A2CE-341491A8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098B-9E4E-48DA-ABF8-7EE1D406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1894-E353-4EC7-9A7C-B5D30D13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7E1E-40FF-4389-A2E6-94F4F4CD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6AD9-FB25-4B78-837C-5AE8B9B5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2C7F-85AB-4C65-A062-B7F40D3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6356-A873-4135-A082-65956C87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2354-06FC-4496-AE2E-CE3A028A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A2D5-6655-4745-AB4B-EE09E2D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DFF-9033-4158-A1C6-8685984C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A2E3-53AE-4C3A-9A75-D395479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5F67-EDA9-4C31-A1CB-2A1227B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CBA4-815B-4685-AA22-5DA9F23D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0B8E-B01B-4CB2-86F4-333ABBF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FE74-2640-4F60-9B3F-7516524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7F07-3D0A-4359-8022-77223FB3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2764-05CF-47AC-AFA7-266CBF3E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7FAB-E9D6-44F1-AFA3-31821EBD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D2C7-A0BF-4560-82A1-A4FCA5B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8D7C-AED0-436A-9EED-4A2C856A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AFD-CE65-42F0-BB89-5AEB74D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33F0-D927-4237-98F2-7660DC1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8E04C-BF5A-4F44-A57A-E900F4DC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738D1-D839-4FCD-A824-6701C6B5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26CC-DD34-4992-9EDD-46C6C9B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FA98-BEFD-4A23-B60B-EDAA4AB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6BCE-820A-442E-A6A0-80D42F5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C5FB-E86C-4EC2-8B28-EDF92D7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E45BC-6E1F-4790-A7F8-584B3A9C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F6E1-8E0F-4CFA-A5DD-48EA32C7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8CFD-06A0-4194-8F85-D9566ABB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226-78CF-452D-A1C8-677F5DFF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928C-F08B-4E7B-ACF5-999CA149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F0B4-AC43-46B8-8526-5E0B2735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FE56-395E-4498-A9D1-A803F31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D3F2-C997-490E-97D1-FC622D6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FACD-EA47-40FA-A6E9-20B0BD9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74C4-437E-48B5-AD73-2969FFF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40DB-DBCD-4168-A7F9-0AFA1B3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2F05-8E91-4A40-8329-709A95B2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43BD-A76B-4AE0-BDF2-CFC47C3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0523A-2FDF-4721-B345-0AF3D2A8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FE8-ED2C-4FD6-8835-518D7172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1B9E-CFEB-4398-8870-0DA7B244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C664-913F-4579-A1E3-AFA4126A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B122-F153-47D7-99EC-5AE0617D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3F6A-AE39-48CC-81F5-FACEC1D6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9B39-B4C5-4BDE-A99B-97D4D358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1F61-41FA-40E9-9B54-A538672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6B92-AC27-4E67-A78B-B6524AE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BC39D-F36B-402B-B2CE-B0D2624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10BE8-A393-4B03-B033-51544F5C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2EB2-D122-4AC2-8B9E-8F196F1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89E-25A2-4D9E-9C3D-919DA5F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9BE1-18CC-4ADE-8872-D5625C6F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78F44-F3F5-4FC0-A6EC-EFDEA761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EA364-5692-48CF-A11B-8D28F06C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6FD3E-4FC6-4FF5-B8C5-DDEF0E27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308D-89C4-41EE-961E-B7E5FB27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6201-B347-43DD-A346-F831229C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C1003-92A3-4940-BDE4-867CE5F1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7E38A-35E9-4117-BF4E-1048C8F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4A29C-FCE7-48DD-934D-FBD79598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AAC4-83AD-483B-AAE6-C903E01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C75-5832-4C86-8A50-39D1430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D692-1BFD-4C5E-9FFB-DC16947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83F3B-4CAC-43B6-AAB6-C88CD166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97A83-3683-483B-AEB3-C9D00D14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BB55-A075-4322-94F4-BC277ADC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7A49-76AD-44CF-AD19-93FF183A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A4246-F392-40DF-95CD-11FA2CF8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57B30-4646-4D49-809F-CCA8BE5E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D8928-7E4F-4F6E-9719-4F999B3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E4256-8673-4A97-A728-5D37B1E5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97055-7825-460B-B23B-41A9F6D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EEB-34A7-47AF-ADA8-59F9CDD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F7E1-BACF-4F07-8DDD-E593BE3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833B-749F-45EA-955E-C3E8C32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9D2E-C1F8-4078-8623-75407090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78736-53F1-4386-9492-0EFA22E5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B2F1-A3FA-415D-82EE-DBE6C9C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47621-985C-4C26-BF31-74420026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C10F-01E0-4D28-BD14-2A080F3B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8F22F-506D-41C0-8545-DA02437E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65AD2-4CEB-46E5-8FF2-DE9AE9E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43AD-9F90-4F1F-983D-53B84C5A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84A-7573-4674-A7F5-182615F2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9B6E-C4C1-48A0-8ACB-868964C725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E61-C760-46F0-BB3B-96D478C69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AF23-4ED0-4250-ABB3-69F2709346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D62-3145-454D-8BA5-EC334C984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1D6C-CAAC-4332-9358-0A3D4A2DA5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A5D8-9F2E-4D46-B6E5-1ECA6B845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6906-2DF4-4289-8529-5CA3E243A4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EFD-464C-4788-85C5-15CC3F13B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1274-6B63-48D7-9221-DDEBE67DBA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554-748F-4A4C-8078-2F93CE2377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B3A-D03F-4727-8BD4-DAAD75F4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559F-EDFD-4ACF-8A26-02E5496ABB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33FF-90DC-4A78-B23E-CF450AAEC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A3F1-26B8-406A-976F-79D6192BA1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DA94-3268-4588-9B41-9F28693F1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16B9-A813-40B0-ABD8-DD1404CDF6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A6F8-E588-4E9F-809E-0E5E5DED6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2A2-9AA3-4E14-A226-B29F095F52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1AD-E8AF-435F-8EFB-E8D60FEEE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FD26-FAE5-4605-AC5A-4E19D8A32D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B09C-7E2A-4365-AAA1-03B93411E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98A1-9718-45BC-8F80-4A5D1F4E2C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509-A41F-4A8D-823A-4BAD31CC2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9323-EF94-4E41-8375-17DC44CB89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F06D-4A50-43A1-A16D-82BD0BEF5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pic_253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77" name="WordArt 3"/>
          <p:cNvSpPr txBox="1"/>
          <p:nvPr/>
        </p:nvSpPr>
        <p:spPr>
          <a:xfrm>
            <a:off x="26668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伙伴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20051126224752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qiu"/>
          <p:cNvPicPr/>
          <p:nvPr/>
        </p:nvPicPr>
        <p:blipFill>
          <a:blip r:embed="rId2"/>
          <a:stretch/>
        </p:blipFill>
        <p:spPr>
          <a:xfrm>
            <a:off x="939960" y="2108160"/>
            <a:ext cx="1358640" cy="13334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maozi"/>
          <p:cNvPicPr/>
          <p:nvPr/>
        </p:nvPicPr>
        <p:blipFill>
          <a:blip r:embed="rId3"/>
          <a:stretch/>
        </p:blipFill>
        <p:spPr>
          <a:xfrm>
            <a:off x="609480" y="168264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qiu"/>
          <p:cNvPicPr/>
          <p:nvPr/>
        </p:nvPicPr>
        <p:blipFill>
          <a:blip r:embed="rId4"/>
          <a:stretch/>
        </p:blipFill>
        <p:spPr>
          <a:xfrm>
            <a:off x="2679840" y="2101680"/>
            <a:ext cx="1358640" cy="1333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maozi"/>
          <p:cNvPicPr/>
          <p:nvPr/>
        </p:nvPicPr>
        <p:blipFill>
          <a:blip r:embed="rId5"/>
          <a:stretch/>
        </p:blipFill>
        <p:spPr>
          <a:xfrm>
            <a:off x="2298600" y="1676520"/>
            <a:ext cx="1600200" cy="1035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qiu"/>
          <p:cNvPicPr/>
          <p:nvPr/>
        </p:nvPicPr>
        <p:blipFill>
          <a:blip r:embed="rId6"/>
          <a:stretch/>
        </p:blipFill>
        <p:spPr>
          <a:xfrm>
            <a:off x="4432320" y="2101680"/>
            <a:ext cx="1359000" cy="1333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maozi"/>
          <p:cNvPicPr/>
          <p:nvPr/>
        </p:nvPicPr>
        <p:blipFill>
          <a:blip r:embed="rId7"/>
          <a:stretch/>
        </p:blipFill>
        <p:spPr>
          <a:xfrm>
            <a:off x="4051440" y="1676520"/>
            <a:ext cx="1600200" cy="10350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9"/>
          <p:cNvSpPr/>
          <p:nvPr/>
        </p:nvSpPr>
        <p:spPr>
          <a:xfrm>
            <a:off x="1066680" y="22986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2895480" y="2298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4803840" y="2282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1060560" y="17334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2590920" y="1765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u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4650120" y="176544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838080" y="1905120"/>
            <a:ext cx="78487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cān    diū    k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zāo    gāo      c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餐 丢 矿 糟 糕 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i     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ò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ng   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j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bǎo    gu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概 共 汽 记 保 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夹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"/>
          <p:cNvSpPr/>
          <p:nvPr/>
        </p:nvSpPr>
        <p:spPr>
          <a:xfrm>
            <a:off x="2133720" y="685800"/>
            <a:ext cx="335268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514600" y="6094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谁最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hua"/>
          <p:cNvPicPr/>
          <p:nvPr/>
        </p:nvPicPr>
        <p:blipFill>
          <a:blip r:embed="rId2"/>
          <a:stretch/>
        </p:blipFill>
        <p:spPr>
          <a:xfrm>
            <a:off x="6172200" y="5049720"/>
            <a:ext cx="274320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 flipH="1" rot="10836600">
            <a:off x="2513520" y="2437920"/>
            <a:ext cx="6324480" cy="2971440"/>
          </a:xfrm>
          <a:prstGeom prst="wedgeEllipseCallout">
            <a:avLst>
              <a:gd name="adj1" fmla="val -51449"/>
              <a:gd name="adj2" fmla="val 56245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3955320" y="2666880"/>
            <a:ext cx="380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把背包丢了</a:t>
            </a:r>
            <a:r>
              <a:rPr b="1" lang="en-US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里面装着面包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矿泉水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······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1218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281240" y="4149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维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3124080" y="2514600"/>
            <a:ext cx="57913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真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糕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！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回家还有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长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呢！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 flipH="1" rot="10836600">
            <a:off x="2893320" y="2438280"/>
            <a:ext cx="6018120" cy="2895840"/>
          </a:xfrm>
          <a:prstGeom prst="wedgeEllipseCallout">
            <a:avLst>
              <a:gd name="adj1" fmla="val -52504"/>
              <a:gd name="adj2" fmla="val 64472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12225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 flipH="1">
            <a:off x="834480" y="184644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你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概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丢在公共汽车上，忘记拿了。以后可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管好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己的东西。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7365600" y="41911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安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>
            <a:off x="7620120" y="457200"/>
            <a:ext cx="1209600" cy="25480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763400">
            <a:off x="380520" y="1218960"/>
            <a:ext cx="6705720" cy="4876560"/>
          </a:xfrm>
          <a:prstGeom prst="wedgeEllipseCallout">
            <a:avLst>
              <a:gd name="adj1" fmla="val -58824"/>
              <a:gd name="adj2" fmla="val 50523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做游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WordArt 3"/>
          <p:cNvSpPr txBox="1"/>
          <p:nvPr/>
        </p:nvSpPr>
        <p:spPr>
          <a:xfrm>
            <a:off x="1828800" y="83808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！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0" name="WordArt 4"/>
          <p:cNvSpPr txBox="1"/>
          <p:nvPr/>
        </p:nvSpPr>
        <p:spPr>
          <a:xfrm>
            <a:off x="2819520" y="3581280"/>
            <a:ext cx="38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19080">
                <a:solidFill>
                  <a:srgbClr val="cc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4:55:45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23:06Z</dcterms:modified>
  <cp:revision>4</cp:revision>
  <dc:subject/>
  <dc:title>第一PPT模板网-WWW.1PPT.COM</dc:title>
</cp:coreProperties>
</file>