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9FAD-3364-4681-90DD-BE192A546D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0A91-7DF4-4CE4-A6BA-7B9D8854C4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A8B-D955-469D-B361-A20450F9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DC6-266A-4D42-90CA-464EA0FD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6F2DA-0858-49D0-86B8-7201DB7E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C0F12-FDBE-476B-A912-28C0BBE7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4B5C7-0680-4AEB-A5E3-9C418213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3C902-292A-4C28-8F55-1D9A6BB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1D23D-9514-406E-8379-5543891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D9F56-970A-4FC7-A921-09222B9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F541E-017B-435B-84F8-EE6F1321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99525-972D-4A89-9437-57F2E4F2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0CA9A-81D2-43CA-98A6-E28EBA92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311F0-FF05-4CFD-8262-B8332289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EDB-C3E4-45BE-A945-A223340D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45A63-24A4-4900-9D88-B68B2AE4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73342-E639-4CB6-836B-344E262B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BD8F9-7585-4D76-BF2A-33B8F41D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8A434-A321-45F1-81DF-270C01C9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E0D97-F5FB-43A8-8BEC-4E859C4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B869C-EBC2-43A3-AF09-D12D1EB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941E9-C6D5-4BCA-9BA4-8746348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4BF6A-9FAB-4A6B-AA55-85456B7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92494-6823-43FC-ABE9-9B9F8DF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B86A5-8A6E-4F9B-8504-B45D9596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118-F1FE-4C4B-B247-B0DE97C3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B9E38-B3B3-4AAA-9C21-F607EB2C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78D7B-537F-4A52-8E0B-98B6197C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DA65E-102F-4B5A-824C-14FA494A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66E14-3F82-4CE2-A022-F3CA2CF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E9F65-C32E-4300-9A73-AC6EA379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C0B2E-AF83-4E3C-87E4-7943A29D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89B1-6EE6-43BD-A44D-697119B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88DB4-7C37-4995-895E-18D6AA7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59B59-2A91-4541-A1D1-4E33F030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9963E-DF08-4BF9-8436-A6123B4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9D44-B8DC-4BA3-AB78-38A2B765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C9C9A-C40F-40F6-B7D2-B86B74A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924EB-F779-441D-8F89-020081B7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E1270-A4B7-42DF-BB99-65DB757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25352-00A7-4976-8DD4-0631219D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0034C-9C1C-40D0-8051-B14E6779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9C6CE-B121-4188-9477-3C0D738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27FDA-AB84-4CF5-82FF-AD34F4D7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F6088-F11D-47A5-9CBC-EEFD8EB9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806E5-53BB-4301-98AC-87039FC3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AF278-8C6E-4AB8-BD13-44E40B4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40E-360D-45DD-B845-43F942E8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CE0CD-32CD-4CE3-B8D8-A1D3148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D8F34-ECE2-4563-AFC9-C588AFF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B84F9-91E1-4664-82F2-D480620A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874BC-8299-477E-9370-B676CBB2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BB526-2890-4FD6-90B4-561C9B39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2ABEE-95CD-4A7B-82A1-D0AC2EDC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D887E-81D6-4423-AF35-2573BDEC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C2B46-5774-43C5-975A-9216409C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F070D-3071-4280-82EF-2F3C5EF1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35CFC-A15F-4714-B368-7B8117B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1BC-45D4-436C-8191-3D7452CA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83015-907C-4D28-9D20-A685F625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06F3B-2972-4438-8E68-B7AE3CE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B8458-62F8-4652-BBD7-08ED2882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A878A-1829-4AFD-BD4F-2A99F77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46A84-61FA-4897-A1C5-6915B35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FAF11-2281-4F95-89EC-88B4FE9A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770A6-17A6-4E93-BCF1-39D9BF8F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26A-0C66-4722-984C-35994E75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FA9-2E3F-4023-BE1D-319B4A64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A8CB-D5C2-409C-9CFF-2EFACF00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7114-BB8F-4ECB-9675-A6EC94EE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0EF-4A8E-41FF-9E8F-666782B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B105-7D87-4D56-A5BD-F03DD8D1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D76E-3168-47E9-B08B-38CDAE58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B3A1-D57D-42D1-9742-DBEA85AC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4043-6DB8-4552-AF78-8453DE91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56A-D38D-4257-953E-11A16BBF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8E0B-792B-4E32-9928-0D864F2C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0D50-DEB6-4822-B826-C786EAF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2459-2C72-443D-8645-3192F47B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14CA-E8C0-4199-8C5E-200503B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3AA9-B3BF-4207-919C-5D113711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DB8-6D29-4F07-AF8A-712CD8EA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81F4-A02C-49E7-9CFF-293EA74A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CC30-C09F-44E0-B73A-AD946C7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481A-5300-47A5-B470-362CA75E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D366-508C-4DB0-9B25-D660124F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B4E7-6756-4E8F-A6F5-31BD59C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BE62-F283-4B7D-89BC-494FEBD3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303C-9871-47EC-A550-8D05C553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359B-90A6-4890-BC0C-D5460F55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5FA3-C38B-42B9-AB67-EE0A3207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C4D1-4E1F-4347-A11D-F2333EE8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ACC-34CE-44EB-AE93-D8E4E2C4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F52B-433C-4A07-9906-C7A13372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0256-4DDF-4891-9390-1AE48E82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B5A61-C444-4976-9DC4-9A4DB4B4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5111-D281-441C-91A4-6B0ED39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5F8C-EF70-44EA-831F-6F26DFB6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00DA-60A6-426E-9E0E-0E77036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4C16-D9D7-4767-A5A6-B3DB1ED1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3DFA-E631-4D0E-B3CB-4C034CF7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758C-E420-4083-BDD5-155A2C87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C2AE0-600C-45D8-AB11-CD75FE15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F7B-C86E-4750-963D-FF1C18F2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9E66C-7635-4FDA-8E5D-DE7076AE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54F9-7257-418A-97C0-80FFBB1D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F1F5C-D27D-49A6-892E-A295285F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B4F0-6DAF-48E2-A5FA-D756408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5065-5863-4F67-91EA-9505186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A68B4-F8AD-4E3B-AC99-C6D69F2E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8D9C-B0B5-48BF-A793-156C4C3B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A976B-8C4B-4AE6-ACA9-ED4E9031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AD0E-F400-4E87-8C33-9C81372E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2ED32-7D55-4F52-95A0-18213A53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6AF-C0DC-4ECD-9216-8904DA17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75B5C-A4CB-4B3E-AE5D-B27A7E12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9A94-367D-427D-86F2-B2E2FCDB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97C0F-247D-4CDF-9A0C-80B23F8C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C9E8D-270B-4A04-8B8B-E0FD7DBF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DC15-0199-4080-9601-B1703486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19DD-086F-4EB5-BF5B-84A169B2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DA814-53FE-4E34-A013-4BA1D4C8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F831-26A0-446A-ACDF-B6D9CC3C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7AF5E-22E8-436C-8E77-493B69E4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F6F98-2D40-4BAC-AD12-CA1D7A5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611-4C15-417E-8618-FBF558E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61BE8-1C33-4972-9051-377378A8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2FE8-E610-48BC-AFDC-4A291CB8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D4576-B7ED-49BB-A784-3DE24F5C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08E73-2724-4923-8F59-0321FB09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CD2A-2B80-47F7-A379-69A24F85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A169-0B7F-4C33-86BD-5F1149EE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52DD-EAAD-4676-AD6E-0136EB9A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B8D9-1271-487A-B71B-F1AC9104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68F9-8FEF-424F-87AD-79FE87FA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8D42-789E-4D0A-9CA5-335F3A2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89B-A68F-4109-BB58-B0495CA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524CE-D4F3-4208-B09B-DF75ED3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39F9-E92E-46C6-84E7-C9F7EEF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B963F-E26D-4D06-B1EA-9BF1C3F7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3D69-5C02-43A0-9BAD-F5FA410A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A73B-22EC-4EAB-83BF-67D53B5D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CC7AD-1CAD-47B0-B25C-3E381E3F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E9B17-1600-4040-A63F-5D52EBBE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DA38-D311-47EF-B932-4AB1714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5DDBD-EA4E-434E-B2E4-A740AF0E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40A00-E7BD-4005-8E8D-30EDB970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08F-2002-4060-93AE-F423AE2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E732-06D7-44E2-B895-2DA0F084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4C5C6-0E09-458B-9A97-85EA68F8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43EF-10A9-4E5B-BDE5-2FCC5BE7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BE082-64FD-406C-98C5-B8703B89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DDB3-93F4-459C-83E8-13038E60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254F9-0347-4344-AAB0-87EAC90E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951E3-6712-452F-9354-CCA68466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DA0AD-A9E3-4DF2-AA21-DAB9C54C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1251E-F501-4C3A-B137-F53D847B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33015-C8DD-44AF-B9D3-E6FDE84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3F7C-C6FF-4732-8630-BF6E7CBD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6DB9-E672-4D2B-8E83-3CFECC72AC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B565-CBAE-40E2-AC12-74A825AFF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6764-8897-48D0-8636-785F015845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86E2-9A5B-4E87-8665-467DEC1EB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BB4D-28DF-4FDF-98BD-2043E3B637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7351-BBA5-47CB-B441-1828CD3472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B09A-5C4B-47C2-B669-5F77D201BD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5D77-F29C-4A2F-ABD9-6E0B427E90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AF07-158E-4BF9-8784-94213FDBE1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CAF2-30F1-46D7-BA96-469CCFE84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ECF-FE6F-4881-AFE5-AD7A7B6A77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DE4E-6056-4209-8D2D-07E890E85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BC83-CFC2-449D-AD8D-026BE15131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19A7-BD95-4BD8-B02E-B4FAEB2B2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403-B3AB-4339-A036-655902BBCA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E58-F861-45D9-B2D7-7A1AE0948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2186-80CC-447E-8492-419C816357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BFAF-2BD7-4E34-B574-CDD5795890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20D8-9E09-4F5D-A4BA-058EC29EB9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6C6C-FDAE-4E8E-8F24-D3BA71BFE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8717-237C-4D14-AE1A-6003123CF2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2C9-AEBE-4740-9991-256BBEDC0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F1D6-B274-408A-81AC-DBAC7EAEA8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8D68-2096-4997-918F-6097E2169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4"/>
          <p:cNvSpPr txBox="1"/>
          <p:nvPr/>
        </p:nvSpPr>
        <p:spPr>
          <a:xfrm>
            <a:off x="755640" y="1628640"/>
            <a:ext cx="777708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小数除以整数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6"/>
          <p:cNvSpPr/>
          <p:nvPr/>
        </p:nvSpPr>
        <p:spPr>
          <a:xfrm>
            <a:off x="52196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611280" y="549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王坚持晨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计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跑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.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均每周应跑多少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763640" y="2205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2.4÷4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6"/>
          <p:cNvGrpSpPr/>
          <p:nvPr/>
        </p:nvGrpSpPr>
        <p:grpSpPr>
          <a:xfrm>
            <a:off x="738720" y="1341360"/>
            <a:ext cx="2247120" cy="714960"/>
            <a:chOff x="738720" y="1341360"/>
            <a:chExt cx="2247120" cy="714960"/>
          </a:xfrm>
        </p:grpSpPr>
        <p:sp>
          <p:nvSpPr>
            <p:cNvPr id="545" name="Line 4"/>
            <p:cNvSpPr/>
            <p:nvPr/>
          </p:nvSpPr>
          <p:spPr>
            <a:xfrm>
              <a:off x="1143720" y="1341360"/>
              <a:ext cx="184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5"/>
            <p:cNvSpPr/>
            <p:nvPr/>
          </p:nvSpPr>
          <p:spPr>
            <a:xfrm flipH="1" rot="9276600">
              <a:off x="826200" y="1485000"/>
              <a:ext cx="42120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"/>
          <p:cNvSpPr/>
          <p:nvPr/>
        </p:nvSpPr>
        <p:spPr>
          <a:xfrm>
            <a:off x="1116000" y="1413000"/>
            <a:ext cx="18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395280" y="134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405080" y="65088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1116000" y="1989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1144440" y="2637000"/>
            <a:ext cx="1841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474920" y="2781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5"/>
          <p:cNvSpPr/>
          <p:nvPr/>
        </p:nvSpPr>
        <p:spPr>
          <a:xfrm>
            <a:off x="1835280" y="112536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1981080" y="62064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1476360" y="335772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1476360" y="4076640"/>
            <a:ext cx="14810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1979640" y="422100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4"/>
          <p:cNvSpPr/>
          <p:nvPr/>
        </p:nvSpPr>
        <p:spPr>
          <a:xfrm>
            <a:off x="5513040" y="15048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照整数除法的法则去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5"/>
          <p:cNvSpPr/>
          <p:nvPr/>
        </p:nvSpPr>
        <p:spPr>
          <a:xfrm>
            <a:off x="5328720" y="2565360"/>
            <a:ext cx="90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商的小数点要和被除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数点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3492360" y="37069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面不用写小数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11280" y="549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王坚持晨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计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跑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.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均每周应跑多少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1763640" y="2205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2.4÷4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4572000" y="220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5.6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千米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1692360" y="3933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均每周应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14"/>
          <p:cNvGrpSpPr/>
          <p:nvPr/>
        </p:nvGrpSpPr>
        <p:grpSpPr>
          <a:xfrm>
            <a:off x="381960" y="2379600"/>
            <a:ext cx="1886040" cy="659880"/>
            <a:chOff x="381960" y="2379600"/>
            <a:chExt cx="1886040" cy="659880"/>
          </a:xfrm>
        </p:grpSpPr>
        <p:sp>
          <p:nvSpPr>
            <p:cNvPr id="566" name="Line 15"/>
            <p:cNvSpPr/>
            <p:nvPr/>
          </p:nvSpPr>
          <p:spPr>
            <a:xfrm>
              <a:off x="730800" y="2379600"/>
              <a:ext cx="1537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rc 16"/>
            <p:cNvSpPr/>
            <p:nvPr/>
          </p:nvSpPr>
          <p:spPr>
            <a:xfrm flipH="1" rot="9276600">
              <a:off x="465840" y="2513880"/>
              <a:ext cx="351360" cy="473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Rectangle 17"/>
          <p:cNvSpPr/>
          <p:nvPr/>
        </p:nvSpPr>
        <p:spPr>
          <a:xfrm>
            <a:off x="755640" y="2409840"/>
            <a:ext cx="18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4920" y="17319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754200" y="16477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755640" y="29862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 flipV="1">
            <a:off x="784080" y="3603600"/>
            <a:ext cx="1484280" cy="3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1330200" y="353052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3"/>
          <p:cNvSpPr/>
          <p:nvPr/>
        </p:nvSpPr>
        <p:spPr>
          <a:xfrm>
            <a:off x="1185840" y="2122560"/>
            <a:ext cx="14436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1401840" y="16178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1330200" y="41068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6"/>
          <p:cNvSpPr/>
          <p:nvPr/>
        </p:nvSpPr>
        <p:spPr>
          <a:xfrm flipH="1">
            <a:off x="1044360" y="4869000"/>
            <a:ext cx="1223640" cy="237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7"/>
          <p:cNvSpPr/>
          <p:nvPr/>
        </p:nvSpPr>
        <p:spPr>
          <a:xfrm>
            <a:off x="1332000" y="47563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9"/>
          <p:cNvGrpSpPr/>
          <p:nvPr/>
        </p:nvGrpSpPr>
        <p:grpSpPr>
          <a:xfrm>
            <a:off x="3043800" y="2266920"/>
            <a:ext cx="2247120" cy="714960"/>
            <a:chOff x="3043800" y="2266920"/>
            <a:chExt cx="2247120" cy="714960"/>
          </a:xfrm>
        </p:grpSpPr>
        <p:sp>
          <p:nvSpPr>
            <p:cNvPr id="580" name="Line 30"/>
            <p:cNvSpPr/>
            <p:nvPr/>
          </p:nvSpPr>
          <p:spPr>
            <a:xfrm>
              <a:off x="3448800" y="2266920"/>
              <a:ext cx="184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rc 31"/>
            <p:cNvSpPr/>
            <p:nvPr/>
          </p:nvSpPr>
          <p:spPr>
            <a:xfrm flipH="1" rot="9276600">
              <a:off x="3131280" y="2410560"/>
              <a:ext cx="42120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32"/>
          <p:cNvSpPr/>
          <p:nvPr/>
        </p:nvSpPr>
        <p:spPr>
          <a:xfrm>
            <a:off x="3421080" y="23385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.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2556000" y="23097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3708360" y="161928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3421080" y="29145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6"/>
          <p:cNvSpPr/>
          <p:nvPr/>
        </p:nvSpPr>
        <p:spPr>
          <a:xfrm>
            <a:off x="3449520" y="3562200"/>
            <a:ext cx="1841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7"/>
          <p:cNvSpPr/>
          <p:nvPr/>
        </p:nvSpPr>
        <p:spPr>
          <a:xfrm>
            <a:off x="3851280" y="34592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40360" y="205092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9"/>
          <p:cNvSpPr/>
          <p:nvPr/>
        </p:nvSpPr>
        <p:spPr>
          <a:xfrm>
            <a:off x="4140360" y="4035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0"/>
          <p:cNvSpPr/>
          <p:nvPr/>
        </p:nvSpPr>
        <p:spPr>
          <a:xfrm flipV="1">
            <a:off x="3924360" y="4754160"/>
            <a:ext cx="133812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1"/>
          <p:cNvSpPr/>
          <p:nvPr/>
        </p:nvSpPr>
        <p:spPr>
          <a:xfrm>
            <a:off x="4429080" y="47545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3"/>
          <p:cNvSpPr/>
          <p:nvPr/>
        </p:nvSpPr>
        <p:spPr>
          <a:xfrm>
            <a:off x="4211640" y="16192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4"/>
          <p:cNvGrpSpPr/>
          <p:nvPr/>
        </p:nvGrpSpPr>
        <p:grpSpPr>
          <a:xfrm>
            <a:off x="5996520" y="2306520"/>
            <a:ext cx="2247120" cy="714960"/>
            <a:chOff x="5996520" y="2306520"/>
            <a:chExt cx="2247120" cy="714960"/>
          </a:xfrm>
        </p:grpSpPr>
        <p:sp>
          <p:nvSpPr>
            <p:cNvPr id="594" name="Line 45"/>
            <p:cNvSpPr/>
            <p:nvPr/>
          </p:nvSpPr>
          <p:spPr>
            <a:xfrm>
              <a:off x="6401520" y="2306520"/>
              <a:ext cx="184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rc 46"/>
            <p:cNvSpPr/>
            <p:nvPr/>
          </p:nvSpPr>
          <p:spPr>
            <a:xfrm flipH="1" rot="9276600">
              <a:off x="6084000" y="2450160"/>
              <a:ext cx="42120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 Box 47"/>
          <p:cNvSpPr/>
          <p:nvPr/>
        </p:nvSpPr>
        <p:spPr>
          <a:xfrm>
            <a:off x="6661080" y="165888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8"/>
          <p:cNvSpPr/>
          <p:nvPr/>
        </p:nvSpPr>
        <p:spPr>
          <a:xfrm>
            <a:off x="6373800" y="29541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9"/>
          <p:cNvSpPr/>
          <p:nvPr/>
        </p:nvSpPr>
        <p:spPr>
          <a:xfrm>
            <a:off x="6402240" y="3602160"/>
            <a:ext cx="1841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0"/>
          <p:cNvSpPr/>
          <p:nvPr/>
        </p:nvSpPr>
        <p:spPr>
          <a:xfrm>
            <a:off x="6516720" y="35305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1"/>
          <p:cNvSpPr/>
          <p:nvPr/>
        </p:nvSpPr>
        <p:spPr>
          <a:xfrm>
            <a:off x="7093080" y="2090880"/>
            <a:ext cx="14436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2"/>
          <p:cNvSpPr/>
          <p:nvPr/>
        </p:nvSpPr>
        <p:spPr>
          <a:xfrm>
            <a:off x="6877080" y="4035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3"/>
          <p:cNvSpPr/>
          <p:nvPr/>
        </p:nvSpPr>
        <p:spPr>
          <a:xfrm flipV="1">
            <a:off x="6877080" y="4756320"/>
            <a:ext cx="133812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4"/>
          <p:cNvSpPr/>
          <p:nvPr/>
        </p:nvSpPr>
        <p:spPr>
          <a:xfrm>
            <a:off x="7164360" y="16588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6445080" y="230652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9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7"/>
          <p:cNvSpPr/>
          <p:nvPr/>
        </p:nvSpPr>
        <p:spPr>
          <a:xfrm>
            <a:off x="5796000" y="23065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7381800" y="482760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0"/>
          <p:cNvSpPr/>
          <p:nvPr/>
        </p:nvSpPr>
        <p:spPr>
          <a:xfrm>
            <a:off x="140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竖式的商点上小数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1"/>
          <p:cNvSpPr/>
          <p:nvPr/>
        </p:nvSpPr>
        <p:spPr>
          <a:xfrm>
            <a:off x="1332000" y="620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商的小数点要和被除数的 小数点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6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4"/>
          <p:cNvSpPr/>
          <p:nvPr/>
        </p:nvSpPr>
        <p:spPr>
          <a:xfrm>
            <a:off x="826920" y="9381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6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          18.2÷1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5"/>
          <p:cNvGrpSpPr/>
          <p:nvPr/>
        </p:nvGrpSpPr>
        <p:grpSpPr>
          <a:xfrm>
            <a:off x="805320" y="2286000"/>
            <a:ext cx="1895040" cy="721080"/>
            <a:chOff x="805320" y="2286000"/>
            <a:chExt cx="1895040" cy="721080"/>
          </a:xfrm>
        </p:grpSpPr>
        <p:sp>
          <p:nvSpPr>
            <p:cNvPr id="611" name="Line 6"/>
            <p:cNvSpPr/>
            <p:nvPr/>
          </p:nvSpPr>
          <p:spPr>
            <a:xfrm>
              <a:off x="1164240" y="2286000"/>
              <a:ext cx="1536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rc 7"/>
            <p:cNvSpPr/>
            <p:nvPr/>
          </p:nvSpPr>
          <p:spPr>
            <a:xfrm flipH="1" rot="9276600">
              <a:off x="899640" y="2434680"/>
              <a:ext cx="351360" cy="52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8"/>
          <p:cNvSpPr/>
          <p:nvPr/>
        </p:nvSpPr>
        <p:spPr>
          <a:xfrm>
            <a:off x="1189080" y="2379600"/>
            <a:ext cx="182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468360" y="23083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1187280" y="161784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1189080" y="28116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1217520" y="3459240"/>
            <a:ext cx="14828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258920" y="33148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1619280" y="2092320"/>
            <a:ext cx="14436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5"/>
          <p:cNvSpPr/>
          <p:nvPr/>
        </p:nvSpPr>
        <p:spPr>
          <a:xfrm>
            <a:off x="1692360" y="158760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6"/>
          <p:cNvSpPr/>
          <p:nvPr/>
        </p:nvSpPr>
        <p:spPr>
          <a:xfrm>
            <a:off x="1258920" y="38908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7"/>
          <p:cNvSpPr/>
          <p:nvPr/>
        </p:nvSpPr>
        <p:spPr>
          <a:xfrm>
            <a:off x="1258920" y="4610160"/>
            <a:ext cx="1368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1765440" y="45385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1"/>
          <p:cNvGrpSpPr/>
          <p:nvPr/>
        </p:nvGrpSpPr>
        <p:grpSpPr>
          <a:xfrm>
            <a:off x="4768560" y="2090880"/>
            <a:ext cx="1819440" cy="696600"/>
            <a:chOff x="4768560" y="2090880"/>
            <a:chExt cx="1819440" cy="696600"/>
          </a:xfrm>
        </p:grpSpPr>
        <p:sp>
          <p:nvSpPr>
            <p:cNvPr id="625" name="Line 22"/>
            <p:cNvSpPr/>
            <p:nvPr/>
          </p:nvSpPr>
          <p:spPr>
            <a:xfrm>
              <a:off x="5114520" y="2090880"/>
              <a:ext cx="14734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rc 23"/>
            <p:cNvSpPr/>
            <p:nvPr/>
          </p:nvSpPr>
          <p:spPr>
            <a:xfrm flipH="1" rot="9276600">
              <a:off x="4860000" y="2234520"/>
              <a:ext cx="33696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Rectangle 24"/>
          <p:cNvSpPr/>
          <p:nvPr/>
        </p:nvSpPr>
        <p:spPr>
          <a:xfrm>
            <a:off x="5149800" y="2162160"/>
            <a:ext cx="129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5"/>
          <p:cNvSpPr/>
          <p:nvPr/>
        </p:nvSpPr>
        <p:spPr>
          <a:xfrm>
            <a:off x="4284720" y="2133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6"/>
          <p:cNvSpPr/>
          <p:nvPr/>
        </p:nvSpPr>
        <p:spPr>
          <a:xfrm>
            <a:off x="5437080" y="144288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7"/>
          <p:cNvSpPr/>
          <p:nvPr/>
        </p:nvSpPr>
        <p:spPr>
          <a:xfrm>
            <a:off x="5149800" y="25956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8"/>
          <p:cNvSpPr/>
          <p:nvPr/>
        </p:nvSpPr>
        <p:spPr>
          <a:xfrm>
            <a:off x="5178600" y="3243240"/>
            <a:ext cx="1409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9"/>
          <p:cNvSpPr/>
          <p:nvPr/>
        </p:nvSpPr>
        <p:spPr>
          <a:xfrm>
            <a:off x="5506920" y="31719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30"/>
          <p:cNvSpPr/>
          <p:nvPr/>
        </p:nvSpPr>
        <p:spPr>
          <a:xfrm>
            <a:off x="5867280" y="1874880"/>
            <a:ext cx="1447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1"/>
          <p:cNvSpPr/>
          <p:nvPr/>
        </p:nvSpPr>
        <p:spPr>
          <a:xfrm>
            <a:off x="5940360" y="141300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2"/>
          <p:cNvSpPr/>
          <p:nvPr/>
        </p:nvSpPr>
        <p:spPr>
          <a:xfrm>
            <a:off x="5508720" y="37479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3"/>
          <p:cNvSpPr/>
          <p:nvPr/>
        </p:nvSpPr>
        <p:spPr>
          <a:xfrm>
            <a:off x="5219640" y="4467240"/>
            <a:ext cx="1368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6013440" y="44672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3059280" y="9079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308720" y="98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WordArt 50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1403640" cy="6526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51"/>
          <p:cNvSpPr/>
          <p:nvPr/>
        </p:nvSpPr>
        <p:spPr>
          <a:xfrm>
            <a:off x="1763640" y="11592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整数部分除完后商应先点上小数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然后把十分位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4"/>
          <p:cNvSpPr/>
          <p:nvPr/>
        </p:nvSpPr>
        <p:spPr>
          <a:xfrm>
            <a:off x="826920" y="90792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8÷9=           42.84÷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755640" y="2781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7.5÷25=       642.84÷6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4" descr="xxsx4bp61"/>
          <p:cNvPicPr/>
          <p:nvPr/>
        </p:nvPicPr>
        <p:blipFill>
          <a:blip r:embed="rId1"/>
          <a:srcRect l="15755" t="18219" r="8651" b="61281"/>
          <a:stretch/>
        </p:blipFill>
        <p:spPr>
          <a:xfrm>
            <a:off x="0" y="-243000"/>
            <a:ext cx="6948360" cy="431964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1979640" y="1268280"/>
            <a:ext cx="115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435640" y="549360"/>
            <a:ext cx="115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" descr="CAR_012"/>
          <p:cNvPicPr/>
          <p:nvPr/>
        </p:nvPicPr>
        <p:blipFill>
          <a:blip r:embed="rId1"/>
          <a:stretch/>
        </p:blipFill>
        <p:spPr>
          <a:xfrm>
            <a:off x="7093080" y="404640"/>
            <a:ext cx="1904760" cy="104472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395280" y="404640"/>
            <a:ext cx="6408720" cy="119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叔叔的汽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时行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车的速度是多少千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WordArt 6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462320" cy="695160"/>
          </a:xfrm>
          <a:prstGeom prst="rect">
            <a:avLst/>
          </a:prstGeom>
          <a:ln w="0">
            <a:noFill/>
          </a:ln>
        </p:spPr>
      </p:pic>
      <p:pic>
        <p:nvPicPr>
          <p:cNvPr id="650" name="WordArt 7" descr=""/>
          <p:cNvPicPr/>
          <p:nvPr/>
        </p:nvPicPr>
        <p:blipFill>
          <a:blip r:embed="rId3"/>
          <a:stretch/>
        </p:blipFill>
        <p:spPr>
          <a:xfrm>
            <a:off x="2773440" y="2133720"/>
            <a:ext cx="26892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1:25:2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03:46Z</dcterms:modified>
  <cp:revision>14</cp:revision>
  <dc:subject>第一PPT模板网-WWW.1PPT.COM</dc:subject>
  <dc:title>第一PPT模板网-WWW.1PPT.COM</dc:title>
</cp:coreProperties>
</file>