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268-500D-4FB1-9AD3-2DD45FA5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DCD-96B6-4750-BC43-8F68B41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C463-178F-42FC-BEED-6815CDF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BA3EF-F709-41D7-815D-D371D47B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292C1-A6D6-45FC-A709-672383C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8572-9632-432F-885B-1985EE6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3D43-DFE6-405F-9AD7-69827B5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9941A-9FCE-42F5-A68B-ABAE621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FB61-60BE-4DD6-9ED5-D4B3348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2100C-5450-4465-BB49-9B655A5D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F5C76-DAE6-4A5B-A15F-417A2CA4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ED80-0EFC-4A33-9B66-7EBE8B21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C05-291F-462E-A483-1BCD3858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C93AC-6162-450F-B81C-E9F1B07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D66B3-DEA0-4916-A527-11577D6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72C8F-E13C-4944-813A-C8D19C49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B10E-681C-4693-8BD3-D0D2AC7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C6040-EC99-46D8-B237-C6DE638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C24BE-3DC7-4F31-9225-AEF0D697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B231A-6305-4E87-B33D-1EC1CE5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12692-3736-411B-84C3-DBDCF56B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C6775-05D9-4A57-85EC-48559E28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DED2F-860C-4D6F-8B52-E38C6FC4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950-559F-4712-A785-39A7482D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6C496-ED43-4AA9-81DA-CF6A1B2E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9AD3-7F46-4434-A5DB-E33C296E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12F3-1A96-4E0D-AE3B-036BD418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7F310-0AA0-4F29-A763-27F9835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C279-4D45-481B-8F8E-795D9217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339AF-7DD6-451C-B049-6B7510E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689D-C6C3-4753-BE01-C822F2E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201FF-B7F4-4786-9C75-C15BDBA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46CB6-A90F-468A-9F9E-65BCE46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6E376-9AD5-4C49-BCB6-21991C3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02F-C57D-4C26-A5C3-91BFFA15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4EEEC-1AB2-4E74-B07E-CA56A60A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624C3-F73F-4CCA-B04B-4C281FC6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5769F-3DA2-4FBA-B12A-03B9AE04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FC220-B3A0-436A-9422-FD86C42A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28B00-2068-4275-958B-325D9B6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BB63F-D897-4798-BDC3-5AEDA8EE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15734-0A48-4041-BF97-4D0D099B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A1BEF-27DE-4A6C-AE6C-221D77C9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500DD-D362-425B-ACB9-450FD64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E04B8-6168-4B4F-990A-1CA7977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92C7-5B8F-4EE1-969D-B729638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09952-A4D1-4EE8-BBB8-BFC7165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FEF8A-70EA-4076-BADA-BFDEAFFD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D50CD-FFC0-4B1D-B2C0-9E9ABBF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3A76C-027C-4BCB-8008-4AEC2308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1F04B-1366-4875-A1C5-B032F808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A864B-75DC-4013-9704-1727BB67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51FAB-5A25-45F3-9619-74FB7D70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D202B-1DDF-4486-8869-93498A5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ADD5B-4C1C-4D65-849C-194ED251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02212-9E73-44F2-A9E2-89C8F7C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4BF-8D64-42B4-AA48-7C3AB7F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04142-5474-48AA-A27A-BF4211D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365D6-C652-400B-861E-5F8082D3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E4F55-4BB2-47FB-B234-122CA49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78E32-7FC1-41BE-BAA4-BABBBBB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95D38-DFC0-4581-A2A7-61C4084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9EA99-305A-45B2-A621-4467261C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7B6EC-F3F9-4F02-B58D-124C474B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4ED1-4634-4B15-AD43-23B24EB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0E8C-A1CD-43C6-A87A-050916D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1488-423F-4FEB-B653-C33DA21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D9D0-CC64-47A6-AB09-1D219CB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08A-8D54-4535-972E-C5A0DD8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D38B-4691-47B9-87CF-F89B6BB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0902-8EEB-4AA3-B221-1F85B7A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DE8B-AE3B-478D-B5E8-31D6619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7001-BBCD-4BEB-A72B-4054227F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F9EC-7066-4E38-813D-76DC8F62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4A89-2C4C-4C9E-851A-8E292F6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6AF6-04C0-489D-9617-6504B023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2B15-FBA6-42B3-B14B-D551886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892C-1237-4101-97F8-05F5773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F318-EA77-4C09-86CF-4D85389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2F8-7E13-4ABE-86D0-E03E078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345B-16E4-4226-8CDE-1C6AC0AA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2790-EC53-4144-A920-0F096BB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CBFE-5CEE-4F5F-82EA-02DAF7E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800E-5E6E-451B-AB5F-9AA120B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2BD5-6479-4A86-834A-18D122A5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AD06-F358-408F-8B67-B8CC59F9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C5C8-88F4-4EC9-B7D7-0B7F524A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25DF-0742-4E21-AB1B-AF1780E3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0B955-2AF7-43BF-B643-90B551E8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F8C2-CC06-4ADA-ACE2-04A0240A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D3A-8845-4B23-A749-B8F2DC63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2EE4-3089-4EB6-9837-2170559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7331-9168-4F50-9653-9BDE2EE9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0C0F-07C8-408C-8AE9-E41EB3A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B3D3-34A4-4AD4-963E-F42DA5D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0B36-1011-47DD-ABB4-BC7D739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9E50-7D9D-45A3-902D-9F12E63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B723-79EB-4560-985A-34C338F3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A5CD-8BFD-4BE6-9B0D-A7252726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ECFB-80AE-47A9-A944-1C3D7F3D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A59D-1BF8-469C-A552-3F5F248E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47C-35C6-46A0-B0C7-1F27F8E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BD11-1B4C-42BA-AF54-B35031EC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29F5-8F50-47B2-8BA4-3E38264F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B009-5B93-4DE3-9F0F-576711B0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56AB-D8F7-4D40-BAA1-81DD4D3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161A-E1FD-40C4-9EE0-9833481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DA37-9DC7-4117-A409-DC99153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F3A9-A989-47EC-8A60-D0B1727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E8D9-3D97-423B-B943-591F76F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402E-AEB3-4685-B607-6FA27C3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BF04-A00B-4796-B8F3-D91B53AF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7E3-C71D-41B0-B9F5-A13FF568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2BDA-0714-49B6-A41C-58E635BD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A8CB-3F4F-4882-AC45-2F74A74B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0B54-6CF1-451D-AA0D-CA22F18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DFD9-0B71-4C2A-98FD-E5716C6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21A9-8C6C-439E-9283-47AE7CA4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8F2F-E32D-4AD6-9A43-64CDBCA9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8783F-E03C-41E8-B794-51406D3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80B2-7F9B-4283-8763-DB700E6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7C00-4E73-42CF-8A9F-5AD8A224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AC76-299D-4E2E-BDD4-F88B523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D22-7F6B-4941-BEE5-953E3BC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B556-F5B8-41DF-B838-1610E1B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3D76-AF91-445F-8F1C-17990130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00DD-F3B0-4043-AFEC-24E92C0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0C2D2-2BC2-4111-B3B3-506C942F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D99A-49E3-4F8B-95A9-65C5366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E190-E861-4C03-B782-9CA028F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2D46-27A1-477C-9A93-CA746797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0DF8-B2B0-4FD6-A40F-683ADAA5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005E4-7A7C-470F-8CBA-973F562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E5BC-1AAD-40F1-94BE-3A3C2DE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F49-991A-4509-84D7-DE7AE64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C30F-89B7-4039-B2D6-02A99E5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2167-3ECD-4B34-9990-7E07899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CE8AA-89B0-4152-BE91-E48F1D8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949C-AC30-4BFC-88E4-17036352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6C6F-F13E-4DE9-AAAB-F84173F0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1F609-8EF7-4F63-9329-A1723E0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5DF0-A4CE-41AE-9640-0DB3388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84DE8-1472-43E4-826B-8D37BF4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D2FA-BB90-4139-8AD6-FF796B61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7301-2557-4137-8E95-92A2487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D8B-8A73-41F2-9D18-1B6233C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DA0D-7EF4-4D2C-8117-C71D88D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0491-F54B-418B-B06F-65EC8E2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259E3-D011-47D6-8D40-8602EB1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B46E3-FF11-40D3-8327-89AE8EF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D95C-A2C0-4C5B-998E-006E87A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6F8F-3467-4D88-ABC1-07389731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9D45-C292-4E36-9334-C1850A43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10691-0BBE-4158-9580-B159D5C0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531C-D4A4-41B6-883F-6641EA5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9576A-B266-47DC-B2D9-B92CE327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FA9-8C35-4698-8AA3-4B05535D7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9608-1829-4950-82EB-4BFF491D51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D6F0-0F0A-4C54-AD64-DF63486F92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9D2-0E1C-4540-B626-A17C232EED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F12B-8FFF-4BCB-B443-7D86E7983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86E-308A-4210-8B37-7820985AF3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D1D-2C6B-4639-91D7-5AB83EB29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4C5-C6D3-4179-A6FC-9077C54915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B3C3-F0FB-410E-B180-B0F15A495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9770-056F-4599-B159-FA6B61624C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B8E-706D-465C-9334-15622A603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574C-5B13-404D-A324-D28EC9BC8F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41B-F900-4701-8E53-EC061A60B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119-ED1A-4EA4-9EA4-95A7A071CB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75C-9E02-47CD-A525-93AB97196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134-CF82-414E-BC47-04B5440DD4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E9D-EFF6-4729-9D13-F8FB075167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85A3-22AA-44E0-993F-198FD696CB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414-DA7C-4CBD-B562-26DF0BE5E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032-812E-4E55-A785-DE4B112540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F16-208C-4DB0-9EC1-6EC158A70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2DF-C0A2-45F2-9C84-703160B5B2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903-2E2F-41AC-8470-5C96F585C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1D4A-DC15-443A-8F1C-15156D31E7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BD1-AF0B-4E70-B37C-14A5E5649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L:\&#23567;&#30707;&#28525;&#35760;\langdu.r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L:\&#23567;&#30707;&#28525;&#35760;\peiyue.mp3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200533164923712"/>
          <p:cNvPicPr/>
          <p:nvPr/>
        </p:nvPicPr>
        <p:blipFill>
          <a:blip r:embed="rId1"/>
          <a:stretch/>
        </p:blipFill>
        <p:spPr>
          <a:xfrm>
            <a:off x="25092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6627960" y="496800"/>
            <a:ext cx="2009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江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千山鸟飞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径人踪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孤舟蓑笠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钓寒江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9" descr="未命名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9" descr="6"/>
          <p:cNvPicPr/>
          <p:nvPr/>
        </p:nvPicPr>
        <p:blipFill>
          <a:blip r:embed="rId2"/>
          <a:stretch/>
        </p:blipFill>
        <p:spPr>
          <a:xfrm>
            <a:off x="5148360" y="4365720"/>
            <a:ext cx="1150920" cy="7254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10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赛一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5"/>
          <p:cNvPicPr/>
          <p:nvPr/>
        </p:nvPicPr>
        <p:blipFill>
          <a:blip r:embed="rId3"/>
          <a:stretch/>
        </p:blipFill>
        <p:spPr>
          <a:xfrm>
            <a:off x="7380360" y="4365720"/>
            <a:ext cx="1763640" cy="9111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25"/>
          <p:cNvSpPr/>
          <p:nvPr/>
        </p:nvSpPr>
        <p:spPr>
          <a:xfrm>
            <a:off x="2064240" y="155736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古诗词中写景的名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5"/>
          <p:cNvSpPr txBox="1"/>
          <p:nvPr/>
        </p:nvSpPr>
        <p:spPr>
          <a:xfrm>
            <a:off x="1547640" y="907920"/>
            <a:ext cx="61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小石潭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564000" y="39337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0" descr="5"/>
          <p:cNvPicPr/>
          <p:nvPr/>
        </p:nvPicPr>
        <p:blipFill>
          <a:blip r:embed="rId2"/>
          <a:stretch/>
        </p:blipFill>
        <p:spPr>
          <a:xfrm>
            <a:off x="3708360" y="4292640"/>
            <a:ext cx="167328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8" descr="6"/>
          <p:cNvPicPr/>
          <p:nvPr/>
        </p:nvPicPr>
        <p:blipFill>
          <a:blip r:embed="rId3"/>
          <a:stretch/>
        </p:blipFill>
        <p:spPr>
          <a:xfrm>
            <a:off x="5580000" y="5084640"/>
            <a:ext cx="175896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柳宗元"/>
          <p:cNvPicPr/>
          <p:nvPr/>
        </p:nvPicPr>
        <p:blipFill>
          <a:blip r:embed="rId2"/>
          <a:stretch/>
        </p:blipFill>
        <p:spPr>
          <a:xfrm>
            <a:off x="250920" y="2276640"/>
            <a:ext cx="2620800" cy="3457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3276720" y="18576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柳宗元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7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19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）唐代著名文学家、哲学家。字子厚，唐代河东人，代宗大历八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7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年）出生于京城长安，贞元九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9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）中进士，宪宗元和十四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19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年）客死于柳州，享年不到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岁。因为他是河东人，世称柳河东。又因官终柳州刺史，又称柳柳州。唐宋八大家之一，与韩愈共同倡导唐代古文运动，并称韩柳。著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柳河东集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395280" y="476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6" descr="5"/>
          <p:cNvPicPr/>
          <p:nvPr/>
        </p:nvPicPr>
        <p:blipFill>
          <a:blip r:embed="rId3"/>
          <a:stretch/>
        </p:blipFill>
        <p:spPr>
          <a:xfrm>
            <a:off x="4788000" y="4060800"/>
            <a:ext cx="215568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用普通话顺畅地朗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借助注释或工具书疏通文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理清课文的思路，体会作者的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547640" y="765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☆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黑体"/>
              </a:rPr>
              <a:t>我们的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5"/>
          <p:cNvPicPr/>
          <p:nvPr/>
        </p:nvPicPr>
        <p:blipFill>
          <a:blip r:embed="rId2"/>
          <a:stretch/>
        </p:blipFill>
        <p:spPr>
          <a:xfrm>
            <a:off x="4932360" y="4869000"/>
            <a:ext cx="1944720" cy="100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2"/>
          <p:cNvSpPr/>
          <p:nvPr/>
        </p:nvSpPr>
        <p:spPr>
          <a:xfrm>
            <a:off x="-396720" y="907920"/>
            <a:ext cx="97930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要      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自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自己试读，读准字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听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轻声跟读，画出疑难词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伴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伴乐默读，感受文中意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7" descr="5"/>
          <p:cNvPicPr/>
          <p:nvPr/>
        </p:nvPicPr>
        <p:blipFill>
          <a:blip r:embed="rId2"/>
          <a:stretch/>
        </p:blipFill>
        <p:spPr>
          <a:xfrm>
            <a:off x="7093080" y="5157720"/>
            <a:ext cx="1655640" cy="8571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2"/>
          <p:cNvSpPr/>
          <p:nvPr/>
        </p:nvSpPr>
        <p:spPr>
          <a:xfrm>
            <a:off x="7970760" y="2087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8244000" y="765000"/>
            <a:ext cx="107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8920" y="260280"/>
            <a:ext cx="78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小石潭记   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从小丘西行百二十步，隔篁竹，闻水声，如鸣佩环，心乐之。伐竹取道，下见小潭，水尤清冽。全石以为底，近岸，卷石底以出，为坻，为屿，为嵁，为岩。青树翠蔓，蒙络摇缀，参差披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中鱼可百许头，皆若空游无所依。日光下澈，影布石上，佁然不动</a:t>
            </a:r>
            <a:r>
              <a:rPr b="1" lang="en-US" sz="2800" spc="-1" strike="noStrike">
                <a:solidFill>
                  <a:srgbClr val="00ff99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俶尔远逝，往来翕忽，似与游者相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西南而望，斗折蛇行，明灭可见。其岸势犬牙差互，不可知其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坐潭上，四面竹树环合，寂寥无人，凄神寒骨，悄怆幽邃。以其境过清， 不可久居，乃记之而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同游者：吴武陵，龚古，余弟宗玄。隶而从者，崔氏二小生：曰恕己， 曰奉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9" descr="BD21313_"/>
          <p:cNvPicPr/>
          <p:nvPr/>
        </p:nvPicPr>
        <p:blipFill>
          <a:blip r:embed="rId2"/>
          <a:stretch/>
        </p:blipFill>
        <p:spPr>
          <a:xfrm>
            <a:off x="8028000" y="0"/>
            <a:ext cx="26208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2" descr="BD21313_"/>
          <p:cNvPicPr/>
          <p:nvPr/>
        </p:nvPicPr>
        <p:blipFill>
          <a:blip r:embed="rId3"/>
          <a:stretch/>
        </p:blipFill>
        <p:spPr>
          <a:xfrm>
            <a:off x="8915400" y="0"/>
            <a:ext cx="26352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6" descr="BD21313_"/>
          <p:cNvPicPr/>
          <p:nvPr/>
        </p:nvPicPr>
        <p:blipFill>
          <a:blip r:embed="rId4"/>
          <a:stretch/>
        </p:blipFill>
        <p:spPr>
          <a:xfrm>
            <a:off x="0" y="0"/>
            <a:ext cx="26208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7" descr="BD21313_"/>
          <p:cNvPicPr/>
          <p:nvPr/>
        </p:nvPicPr>
        <p:blipFill>
          <a:blip r:embed="rId5"/>
          <a:stretch/>
        </p:blipFill>
        <p:spPr>
          <a:xfrm>
            <a:off x="0" y="0"/>
            <a:ext cx="8893080" cy="271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8" descr="BD21313_"/>
          <p:cNvPicPr/>
          <p:nvPr/>
        </p:nvPicPr>
        <p:blipFill>
          <a:blip r:embed="rId6"/>
          <a:stretch/>
        </p:blipFill>
        <p:spPr>
          <a:xfrm>
            <a:off x="250920" y="6586560"/>
            <a:ext cx="8893080" cy="2714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0">
            <a:hlinkClick r:id="rId7"/>
          </p:cNvPr>
          <p:cNvSpPr/>
          <p:nvPr/>
        </p:nvSpPr>
        <p:spPr>
          <a:xfrm>
            <a:off x="8317080" y="6093000"/>
            <a:ext cx="431640" cy="477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7720"/>
              <a:gd name="textAreaBottom" fmla="*/ 450000 h 477720"/>
            </a:gdLst>
            <a:ahLst/>
            <a:rect l="textAreaLeft" t="textAreaTop" r="textAreaRight" b="textAreaBottom"/>
            <a:pathLst>
              <a:path w="21600" h="23904">
                <a:moveTo>
                  <a:pt x="0" y="0"/>
                </a:moveTo>
                <a:lnTo>
                  <a:pt x="21600" y="0"/>
                </a:lnTo>
                <a:lnTo>
                  <a:pt x="21600" y="23904"/>
                </a:lnTo>
                <a:lnTo>
                  <a:pt x="0" y="23904"/>
                </a:lnTo>
                <a:close/>
              </a:path>
              <a:path fill="lightenLess" w="21600" h="23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04">
                <a:moveTo>
                  <a:pt x="21600" y="0"/>
                </a:moveTo>
                <a:lnTo>
                  <a:pt x="21600" y="23904"/>
                </a:lnTo>
                <a:lnTo>
                  <a:pt x="20200" y="22504"/>
                </a:lnTo>
                <a:lnTo>
                  <a:pt x="20200" y="1400"/>
                </a:lnTo>
                <a:close/>
              </a:path>
              <a:path fill="darkenLess" w="21600" h="23904">
                <a:moveTo>
                  <a:pt x="21600" y="23904"/>
                </a:moveTo>
                <a:lnTo>
                  <a:pt x="0" y="23904"/>
                </a:lnTo>
                <a:lnTo>
                  <a:pt x="1400" y="22504"/>
                </a:lnTo>
                <a:lnTo>
                  <a:pt x="20200" y="22504"/>
                </a:lnTo>
                <a:close/>
              </a:path>
              <a:path fill="lighten" w="21600" h="23904">
                <a:moveTo>
                  <a:pt x="0" y="23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04"/>
                </a:lnTo>
                <a:close/>
              </a:path>
              <a:path fill="darken" w="21600" h="23904">
                <a:moveTo>
                  <a:pt x="3794" y="9558"/>
                </a:moveTo>
                <a:lnTo>
                  <a:pt x="8224" y="9558"/>
                </a:lnTo>
                <a:lnTo>
                  <a:pt x="12645" y="4946"/>
                </a:lnTo>
                <a:lnTo>
                  <a:pt x="12645" y="18958"/>
                </a:lnTo>
                <a:lnTo>
                  <a:pt x="8224" y="14346"/>
                </a:lnTo>
                <a:lnTo>
                  <a:pt x="3794" y="14346"/>
                </a:lnTo>
                <a:close/>
              </a:path>
              <a:path fill="darken" w="21600" h="23904">
                <a:moveTo>
                  <a:pt x="14299" y="11952"/>
                </a:moveTo>
                <a:lnTo>
                  <a:pt x="17806" y="11952"/>
                </a:lnTo>
              </a:path>
              <a:path fill="darken" w="21600" h="23904">
                <a:moveTo>
                  <a:pt x="14299" y="9558"/>
                </a:moveTo>
                <a:lnTo>
                  <a:pt x="17806" y="6791"/>
                </a:lnTo>
              </a:path>
              <a:path fill="darken" w="21600" h="23904">
                <a:moveTo>
                  <a:pt x="14299" y="14346"/>
                </a:moveTo>
                <a:lnTo>
                  <a:pt x="17806" y="17113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7970760" y="2087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8317080" y="836640"/>
            <a:ext cx="107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404280"/>
            <a:ext cx="8172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小石潭记  </a:t>
            </a:r>
            <a:r>
              <a:rPr b="1" lang="zh-CN" sz="4000" spc="-1" strike="noStrike">
                <a:solidFill>
                  <a:srgbClr val="cccc00"/>
                </a:solidFill>
                <a:latin typeface="黑体"/>
                <a:ea typeface="黑体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从小丘西行百二十步，隔篁竹，闻水声，如鸣佩环，心乐之。伐竹取道，下见小潭，水尤清冽。全石以为底，近岸，卷石底以出，为坻，为屿，为嵁，为岩。青树翠蔓，蒙络摇缀，参差披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中鱼可百许头，皆若空游无所依。日光下澈，影布石上，佁然不动；俶尔远逝，往来翕忽，似与游者相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西南而望，斗折蛇行，明灭可见。其岸势犬牙差互，不可知其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同游者：吴武陵，龚古，余弟宗玄。隶而从者，崔氏二小生：曰恕己， 曰奉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BD21313_"/>
          <p:cNvPicPr/>
          <p:nvPr/>
        </p:nvPicPr>
        <p:blipFill>
          <a:blip r:embed="rId2"/>
          <a:stretch/>
        </p:blipFill>
        <p:spPr>
          <a:xfrm>
            <a:off x="0" y="-54000"/>
            <a:ext cx="236520" cy="691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BD21313_"/>
          <p:cNvPicPr/>
          <p:nvPr/>
        </p:nvPicPr>
        <p:blipFill>
          <a:blip r:embed="rId3"/>
          <a:stretch/>
        </p:blipFill>
        <p:spPr>
          <a:xfrm>
            <a:off x="8091360" y="0"/>
            <a:ext cx="22572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8" descr="BD21313_"/>
          <p:cNvPicPr/>
          <p:nvPr/>
        </p:nvPicPr>
        <p:blipFill>
          <a:blip r:embed="rId4"/>
          <a:stretch/>
        </p:blipFill>
        <p:spPr>
          <a:xfrm>
            <a:off x="0" y="0"/>
            <a:ext cx="9144000" cy="193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9" descr="BD21313_"/>
          <p:cNvPicPr/>
          <p:nvPr/>
        </p:nvPicPr>
        <p:blipFill>
          <a:blip r:embed="rId5"/>
          <a:stretch/>
        </p:blipFill>
        <p:spPr>
          <a:xfrm>
            <a:off x="0" y="670572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2">
            <a:hlinkClick r:id="rId6"/>
          </p:cNvPr>
          <p:cNvSpPr/>
          <p:nvPr/>
        </p:nvSpPr>
        <p:spPr>
          <a:xfrm>
            <a:off x="8459640" y="6237360"/>
            <a:ext cx="433440" cy="46656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66560"/>
              <a:gd name="textAreaBottom" fmla="*/ 438480 h 466560"/>
            </a:gdLst>
            <a:ahLst/>
            <a:rect l="textAreaLeft" t="textAreaTop" r="textAreaRight" b="textAreaBottom"/>
            <a:pathLst>
              <a:path w="21600" h="23249">
                <a:moveTo>
                  <a:pt x="0" y="0"/>
                </a:moveTo>
                <a:lnTo>
                  <a:pt x="21600" y="0"/>
                </a:lnTo>
                <a:lnTo>
                  <a:pt x="21600" y="23249"/>
                </a:lnTo>
                <a:lnTo>
                  <a:pt x="0" y="23249"/>
                </a:lnTo>
                <a:close/>
              </a:path>
              <a:path fill="lightenLess" w="21600" h="232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9">
                <a:moveTo>
                  <a:pt x="21600" y="0"/>
                </a:moveTo>
                <a:lnTo>
                  <a:pt x="21600" y="23249"/>
                </a:lnTo>
                <a:lnTo>
                  <a:pt x="20200" y="21849"/>
                </a:lnTo>
                <a:lnTo>
                  <a:pt x="20200" y="1400"/>
                </a:lnTo>
                <a:close/>
              </a:path>
              <a:path fill="darkenLess" w="21600" h="23249">
                <a:moveTo>
                  <a:pt x="21600" y="23249"/>
                </a:moveTo>
                <a:lnTo>
                  <a:pt x="0" y="23249"/>
                </a:lnTo>
                <a:lnTo>
                  <a:pt x="1400" y="21849"/>
                </a:lnTo>
                <a:lnTo>
                  <a:pt x="20200" y="21849"/>
                </a:lnTo>
                <a:close/>
              </a:path>
              <a:path fill="lighten" w="21600" h="23249">
                <a:moveTo>
                  <a:pt x="0" y="232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9"/>
                </a:lnTo>
                <a:close/>
              </a:path>
              <a:path fill="darken" w="21600" h="23249">
                <a:moveTo>
                  <a:pt x="3794" y="9231"/>
                </a:moveTo>
                <a:lnTo>
                  <a:pt x="8224" y="9231"/>
                </a:lnTo>
                <a:lnTo>
                  <a:pt x="12645" y="4618"/>
                </a:lnTo>
                <a:lnTo>
                  <a:pt x="12645" y="18631"/>
                </a:lnTo>
                <a:lnTo>
                  <a:pt x="8224" y="14018"/>
                </a:lnTo>
                <a:lnTo>
                  <a:pt x="3794" y="14018"/>
                </a:lnTo>
                <a:close/>
              </a:path>
              <a:path fill="darken" w="21600" h="23249">
                <a:moveTo>
                  <a:pt x="14299" y="11625"/>
                </a:moveTo>
                <a:lnTo>
                  <a:pt x="17806" y="11625"/>
                </a:lnTo>
              </a:path>
              <a:path fill="darken" w="21600" h="23249">
                <a:moveTo>
                  <a:pt x="14299" y="9231"/>
                </a:moveTo>
                <a:lnTo>
                  <a:pt x="17806" y="6463"/>
                </a:lnTo>
              </a:path>
              <a:path fill="darken" w="21600" h="23249">
                <a:moveTo>
                  <a:pt x="14299" y="14018"/>
                </a:moveTo>
                <a:lnTo>
                  <a:pt x="17806" y="16786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71696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品一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86000" y="1700280"/>
            <a:ext cx="815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这是一个</a:t>
            </a:r>
            <a:r>
              <a:rPr b="1" lang="zh-CN" sz="48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的小石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小石潭很</a:t>
            </a:r>
            <a:r>
              <a:rPr b="1" lang="zh-CN" sz="48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悟一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563760" y="1484280"/>
            <a:ext cx="1027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作者看到小石潭，有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的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句，抒发了作者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4:52:16Z</dcterms:created>
  <dc:creator>user</dc:creator>
  <dc:description/>
  <dc:language>en-US</dc:language>
  <cp:lastModifiedBy>a</cp:lastModifiedBy>
  <dcterms:modified xsi:type="dcterms:W3CDTF">2015-02-10T02:51:42Z</dcterms:modified>
  <cp:revision>95</cp:revision>
  <dc:subject/>
  <dc:title>幻灯片 1</dc:title>
</cp:coreProperties>
</file>