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52B-7D4C-4A2E-B74A-742665DE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FF3-B9E8-4D31-B905-3ED07BD4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5BBF7-C1CF-4049-B1A4-2BD965C6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AD1C-0B5E-466F-BCDA-CD2ACDA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1CE16-3952-4BC5-9FB7-4AA809F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F6632-F058-49A1-AFB5-9A56ED0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DBC37-4B55-4E43-B967-8A868B6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E6B23-C0DB-4894-8326-12033F9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A95A2-AC2D-4B32-A034-30E77A30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BF86-1D30-4F0C-AB64-3BB91A7C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C227B-D4AD-43B4-AE02-0E62AE80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BE3D1-0665-4A62-984C-AFF799D9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72D-19B8-438B-B6EC-7369C7AD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0028D-0120-41BB-AB5E-2CFBA407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0F8E8-736B-4D02-91DC-D7421D7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BD548-52FB-499D-AF01-92C55BB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4DE98-C6B6-4AE7-B68C-A0A29345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CFB77-FAA6-4AC6-96C5-0E51B24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F2A5F-0E14-4EB7-8A96-13688EB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2608-FCC9-498F-AEC7-4FFBF22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2118E-AC54-47ED-A977-8B9166E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DA5A9-EE10-47F9-A19B-2CC20039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08417-EB83-4B23-8075-3DE48FD5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444-D349-4860-AE91-CBB2EA15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599ED-66DF-4515-8D3C-B725310B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5E0A-9D00-461D-9122-3DE3A667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6AEF6-93F6-4886-823E-615B269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A28A5-B4FE-4015-93B2-3C2EAEF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98B7-31A4-4E9B-A4D2-B86A569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FA43F-460F-4A21-ABB9-F55519F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1BBCC-CDAD-4733-9E6B-214ED8C2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3EC5-DB9F-4370-9C3B-4596D84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2285-0F1D-4B7D-B799-9B090E1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2A713-366F-424E-9BA5-7AFDCF8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D05-684A-4C28-87FC-444330F4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83D8-9D0A-4B84-8BED-29A73AEC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4DAE-34BC-4663-95F1-ACD60FE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42958-3B1E-4641-8F05-0F3562A1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AD00B-8432-4917-B6F9-A2BBC54A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7309F-A0FF-49BB-94C9-D993EB1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EF4D5-2704-4AB9-A5CE-23A68833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256FA-35DD-44FF-BC29-C3FA0E70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BCE05-0B94-440C-AEDE-CDA1CDC6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AD2ED-CA2A-49A2-92A7-476D0F0C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4DB0-CC17-4A7D-A760-9336B90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833C-29F7-45B9-83ED-9E0CD27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F6398-7C21-470B-94FD-5F353D7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4EBD6-4839-4497-803D-0B33E45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6ADC-378F-403C-A166-CF19B897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F5878-F3F5-48B8-B4AE-62AE4442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EC2C-622B-4C30-9516-990E32F1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CB26F-0C91-4D85-9D47-ED0C2205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61830-9D28-472B-BB7E-5F929303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F0F0C-096B-4B6F-B79C-13B809C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2E950-F8F6-48A7-9691-A992668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94863-8784-4C60-8EC3-8F0B596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785-7512-42B6-90EB-74594B0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63942-61CD-4379-A224-694BA8B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95E98-AA76-4EAD-A9A3-F216FA6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170AF-48BF-4325-A013-A6DC47E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3D9C4-5513-4D92-B930-DE12D75B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A4801-A9C4-4549-92EE-10738C95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CD2D7-D72D-4CE7-9A5D-627009A7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5222E-BBC7-4E85-9BE3-99065CA4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17767-FAA9-4EDB-B203-B6F5F808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D80CD-C972-4BBA-BD37-DB9B4FCF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F8F08-FB7A-4945-969E-AB5A93E5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497-9E78-485C-A340-43AB9C2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4AEBF-7952-47F1-90B8-73270EF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5229E-E434-4CBF-9B7F-FA9AC75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68BB2-C24A-459B-A54F-EC0EAD2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B3CD7-B66E-42E4-A668-B230F9A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78DF3-088C-4322-B22C-95D903E3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F6AD3-5414-4604-9982-DFDE772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3EA3A-2400-4589-BB9E-65F84B6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D1655-F7AB-413F-8BA7-0C38E95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F16F2-D5E7-4BE4-8F5A-0B622E00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BF9C-62F9-4BA5-AC47-F1ABDB92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995-D483-457A-9F54-B9F72F0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F0ED-92BD-4327-B2B6-037E688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57F-FB32-4AAD-9F58-115E1FC8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B96-FA11-4B31-8650-E6B369C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7203-D267-47FF-A2EB-5C20F02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04E-1BD2-4720-98AD-6DBCEE5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183-5D60-4E70-B8C9-A67AE1B7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CEA7-B03A-4E2D-992A-63194EB5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2C37-966E-4809-9C20-DDF4CC85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3637-A407-48D9-8E04-78B0AF1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8654-B0D5-4571-AA48-0DB8001F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90F6-D56F-4828-A4D6-87FF684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4668-3C05-4F51-BB91-A0B7BE2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29B-9ED3-4CBA-A21F-A1CC5694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6E3D-A4AF-49DA-B1AA-1326FCB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CDF8-AA58-4470-BE9F-7F5BE74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D086-14FE-428B-87A2-6E541F30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B5F2-50E6-49C7-85AB-057F43D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3E27-F682-49F1-BB87-D7CB0D5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CE38-6A44-4D0E-BC28-6A79181D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BB02-6D4A-4040-8CFF-A76C2A24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761A-178C-485D-AD40-D842D6B2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5137-E740-43D1-87DE-D1CA4B4F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375E-C1BF-4CE7-8DA1-42D3359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780-E735-490A-B492-734D031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7318-D9F5-4DE5-BF88-D7C94879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68B8-A937-40F7-B107-9C0873D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3897-8C84-4CE1-BAE3-E213667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3AE1-2571-484D-A94A-A054F13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B2AE-733A-4A60-A5EB-97827FD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7E76-17F1-472A-BD1C-FEC6E9B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95E1-0F0D-4234-859E-9ECB44A8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7A09-FBA8-400A-A2BE-4A3ED629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7AFE-3483-4022-B915-E1D427F4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C121-B0C7-4A68-B520-A5F5C263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F25-DA5B-4742-B74A-17C6361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17BC-DD7E-4E20-B162-22344D3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FBCD-C583-4493-AFB5-3629C5A4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2F5F-ADEB-4E7D-B55A-FE72FF2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3486-A4BB-440E-B28D-B6CCCEF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E775-A23E-44C2-9F44-003342E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893A-9A6B-4E2B-B567-2340D69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38C84-B2D7-4692-8AD0-ABF28F0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11B6-D577-4EBA-B9B1-B813C35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1675-58AD-44D5-BDEE-529E3155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C9C4-27D9-413E-9D2F-6E397C94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A97-8C1B-4035-BF3F-072CD4B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A392-41DF-4B70-B5A6-90D4574D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EBBB-DDF6-4724-8D19-FA23D10C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6A36-AC9F-4807-99B0-9CE2F6D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0251-52A8-4FA4-B74D-3F6BAB4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1B7A-E512-4C7C-BA28-D7DC330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FEBC-052A-412D-977D-154C97AC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F9E9-94F1-41C4-8F70-B68CB24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1ED9-3920-485C-AB0E-6A37ED2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C750-B2A8-4A1A-94F1-DD6E3BB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51B7-FEB8-4781-ABB1-6FD8F759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235-6268-4053-AAB0-4125B3F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57F53-2FD1-4AE0-B400-9CF6665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CA52-8953-404E-837C-7FABB73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CA23-CA23-401F-8FA9-F21A61C7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8DEBE-24CD-4902-9C30-22C533D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4D2F-01E2-4D98-82E6-B26DB937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34F9-F219-4768-8227-4303EEE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D511-25FE-48E1-9C0B-79CCF0DA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F7203-B550-4DE4-8E8A-345C3EE5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D0E52-F354-4094-A0FA-C443482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E20C-C8C5-4F82-A933-7153AC3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17E-4DF9-4B96-8C56-2AA92EF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490C-1F72-4D06-A0FB-85CEAA8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F4B8-1B0B-4917-8989-44AD9D0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74A5-59F8-442F-8803-1B9E9C23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0844-B139-4EEA-8DCC-DD92C58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CA7C-D746-48A8-B752-71BAEB12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6845-BD3D-4D16-83F8-8238FAAA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FC9E-C9C0-4F75-9566-E36CECC6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A61D8-1A80-42AA-AB9F-8838E7A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8BA0B-2E72-46A1-8F3E-32FFBB9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07FD-F8C5-4AFE-84DC-8C1188A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1DD-22C5-47E9-9F69-C2D3048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9E77-4D8A-419A-8AA7-4F6A7B2A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6AA7-9305-441B-97BE-4190D55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6BDD-FE5E-46A5-BE7A-171D9DD7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D6F6-C408-4F2F-9CFB-DA7CB06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8EE3-02B2-48DB-BAB6-C7277CA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80A69-3DEA-406C-9A37-7763FEDE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15FE-3E8E-45B9-AF0B-61FB470F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8D33C-61C1-4B8D-9B87-95DF8CF8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C8315-6CD0-4031-93FF-76D26EEB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3E6F4-2888-4472-9DC8-72FDD08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" name="Picture 1028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29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6A3A-8722-467F-8B23-F024787C4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982B-8210-471B-8C6C-7DF5BF3FEC0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4E6D-77FB-44BC-8A89-00F324F3D2D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1CB-64E9-41C5-A2CC-BEABCEA41C4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592-221F-4A91-925B-194A77E6B48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628-5EE8-4455-B995-617BFC7443B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3EFA-C724-4C0A-9307-94205F3FE45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544-B763-4C35-9F15-E5128D69BD1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110-31B1-4BE1-87F1-75C64FD2352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002-2ECE-4528-B449-9937DC6CAEB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077B-66DE-40B8-A619-3DB1E687155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817-4BCE-4B5A-B599-7A2CB73547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D44D-4BB5-4AD3-83A9-B830066D55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5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7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765720" y="1709640"/>
            <a:ext cx="6678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通    用    技    术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959200" y="730080"/>
            <a:ext cx="30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§1.2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技术的性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066680" y="1447920"/>
            <a:ext cx="76708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CCC-E4D4-430F-9CC6-45103B58F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3BA-9684-4D85-9056-B4D1D18CD9D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5C8-9C1B-471E-AB87-56A2BDE50AB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1DEB-0EE9-4452-9E8E-B131531EB79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C65-2576-400E-AEF8-A2968725317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0CB-4C15-4AF7-B0EE-3EE067FA700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FFA-0FB3-4928-9BFB-2116BE92645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1C3-B87D-4DAA-A84E-54346F76C7E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13E-5716-45CA-81CF-74538966200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4BD-6D08-4848-BFE4-049BE52687E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36A9-2397-42AD-A23D-A1D59BB307C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A7FA-19ED-4E12-AD7F-AE9265F6A5B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95D-1AA5-4304-88A3-B1DB37343BB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714680" y="911160"/>
            <a:ext cx="2164680" cy="6426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高中物理必修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514600" y="23623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圆周</a:t>
            </a:r>
            <a:r>
              <a:rPr b="0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运动</a:t>
            </a:r>
            <a:endParaRPr b="1" lang="en-US" sz="8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809880" y="4952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</a:rPr>
              <a:t>第二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85" name="Picture 8" descr="http://kxj.7456.net/images/2004/02/05/31-1.jpg"/>
          <p:cNvPicPr/>
          <p:nvPr/>
        </p:nvPicPr>
        <p:blipFill>
          <a:blip r:embed="rId1"/>
          <a:stretch/>
        </p:blipFill>
        <p:spPr>
          <a:xfrm>
            <a:off x="1143000" y="3962520"/>
            <a:ext cx="194004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627480" y="2271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1523880" y="228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认识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9" name="Text Box 84"/>
          <p:cNvSpPr/>
          <p:nvPr/>
        </p:nvSpPr>
        <p:spPr>
          <a:xfrm>
            <a:off x="1371600" y="3124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方向：</a:t>
            </a:r>
            <a:r>
              <a:rPr b="1" lang="zh-CN" sz="3200" spc="-1" strike="noStrike">
                <a:solidFill>
                  <a:srgbClr val="e1520b"/>
                </a:solidFill>
                <a:latin typeface="Times New Roman"/>
                <a:ea typeface="楷体_GB2312"/>
              </a:rPr>
              <a:t>沿半径指向圆心，即垂直于质点的运动方向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0" name="Text Box 89"/>
          <p:cNvSpPr/>
          <p:nvPr/>
        </p:nvSpPr>
        <p:spPr>
          <a:xfrm>
            <a:off x="1371600" y="990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感受向心力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1" name="Text Box 116"/>
          <p:cNvSpPr/>
          <p:nvPr/>
        </p:nvSpPr>
        <p:spPr>
          <a:xfrm>
            <a:off x="3055680" y="41911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来源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2" name="Text Box 117"/>
          <p:cNvSpPr/>
          <p:nvPr/>
        </p:nvSpPr>
        <p:spPr>
          <a:xfrm>
            <a:off x="1600200" y="4648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心力不是一种特殊的力，它可能是弹力或重力或摩擦力，也可能是它们的合力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93" name="Object 121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276360" cy="1411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22"/>
          <p:cNvSpPr/>
          <p:nvPr/>
        </p:nvSpPr>
        <p:spPr>
          <a:xfrm>
            <a:off x="1447920" y="16462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组实验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小铁球在水平面做匀速圆周运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5" name="Text Box 123"/>
          <p:cNvSpPr/>
          <p:nvPr/>
        </p:nvSpPr>
        <p:spPr>
          <a:xfrm>
            <a:off x="502920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绳子对手有向外的力，即绳子对球有指向圆心的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627480" y="2271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Line 3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523880" y="228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认识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371600" y="160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方向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半径指向圆心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137160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感受向心力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371600" y="236232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一个力或几个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的合力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2" name="Object 9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276360" cy="141156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2"/>
          <p:cNvSpPr/>
          <p:nvPr/>
        </p:nvSpPr>
        <p:spPr>
          <a:xfrm>
            <a:off x="3055680" y="32767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力的大小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4" name="Object 15" descr=""/>
          <p:cNvPicPr/>
          <p:nvPr/>
        </p:nvPicPr>
        <p:blipFill>
          <a:blip r:embed="rId2"/>
          <a:stretch/>
        </p:blipFill>
        <p:spPr>
          <a:xfrm>
            <a:off x="1981080" y="4114800"/>
            <a:ext cx="2133720" cy="64440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17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981080" cy="13618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18"/>
          <p:cNvSpPr/>
          <p:nvPr/>
        </p:nvSpPr>
        <p:spPr>
          <a:xfrm>
            <a:off x="4419720" y="4191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7" name="Rectangle 19"/>
          <p:cNvSpPr/>
          <p:nvPr/>
        </p:nvSpPr>
        <p:spPr>
          <a:xfrm>
            <a:off x="1447920" y="50752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说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：质量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的质点，在半径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的圆周上做匀速圆周运动，线速度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，角速度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所需向心力的大小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3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371600" y="3492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向心加速度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向心力产生的 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速度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0" name="Text Box 58"/>
          <p:cNvSpPr/>
          <p:nvPr/>
        </p:nvSpPr>
        <p:spPr>
          <a:xfrm>
            <a:off x="689400" y="12816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1219320" y="43434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匀速圆周运动不仅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变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运动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同时也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变加速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运动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2" name="Text Box 66"/>
          <p:cNvSpPr/>
          <p:nvPr/>
        </p:nvSpPr>
        <p:spPr>
          <a:xfrm>
            <a:off x="3285720" y="14158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加速度大小：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13" name="Object 67" descr=""/>
          <p:cNvPicPr/>
          <p:nvPr/>
        </p:nvPicPr>
        <p:blipFill>
          <a:blip r:embed="rId1"/>
          <a:stretch/>
        </p:blipFill>
        <p:spPr>
          <a:xfrm>
            <a:off x="4826160" y="2403360"/>
            <a:ext cx="1650960" cy="644760"/>
          </a:xfrm>
          <a:prstGeom prst="rect">
            <a:avLst/>
          </a:prstGeom>
          <a:ln w="0">
            <a:noFill/>
          </a:ln>
        </p:spPr>
      </p:pic>
      <p:pic>
        <p:nvPicPr>
          <p:cNvPr id="614" name="Object 68" descr=""/>
          <p:cNvPicPr/>
          <p:nvPr/>
        </p:nvPicPr>
        <p:blipFill>
          <a:blip r:embed="rId2"/>
          <a:stretch/>
        </p:blipFill>
        <p:spPr>
          <a:xfrm>
            <a:off x="2057400" y="2066760"/>
            <a:ext cx="1444680" cy="13622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69"/>
          <p:cNvSpPr/>
          <p:nvPr/>
        </p:nvSpPr>
        <p:spPr>
          <a:xfrm>
            <a:off x="38098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6" name="Text Box 70"/>
          <p:cNvSpPr/>
          <p:nvPr/>
        </p:nvSpPr>
        <p:spPr>
          <a:xfrm>
            <a:off x="3936960" y="339732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、向心加速度方向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半径指向圆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2"/>
          <p:cNvSpPr/>
          <p:nvPr/>
        </p:nvSpPr>
        <p:spPr>
          <a:xfrm>
            <a:off x="1295280" y="380880"/>
            <a:ext cx="0" cy="5943600"/>
          </a:xfrm>
          <a:prstGeom prst="line">
            <a:avLst/>
          </a:prstGeom>
          <a:ln cap="rnd" w="5724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314160" y="349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生活中的向心力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1295280" y="1371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汽车在水平路面上的转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火车的转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动员的弯道跑技术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689400" y="12816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向心力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Line 2"/>
          <p:cNvSpPr/>
          <p:nvPr/>
        </p:nvSpPr>
        <p:spPr>
          <a:xfrm>
            <a:off x="1066680" y="1600200"/>
            <a:ext cx="7670880" cy="0"/>
          </a:xfrm>
          <a:prstGeom prst="line">
            <a:avLst/>
          </a:prstGeom>
          <a:ln cap="rnd" w="3816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1630440" y="627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课堂练习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3" name="AutoShape 5">
            <a:hlinkClick r:id="" action="ppaction://hlinkshowjump?jump=lastslide"/>
          </p:cNvPr>
          <p:cNvSpPr/>
          <p:nvPr/>
        </p:nvSpPr>
        <p:spPr>
          <a:xfrm>
            <a:off x="800100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12144" y="3837"/>
                </a:moveTo>
                <a:lnTo>
                  <a:pt x="14721" y="6448"/>
                </a:ln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lnTo>
                  <a:pt x="19107" y="10800"/>
                </a:lnTo>
                <a:lnTo>
                  <a:pt x="17454" y="10800"/>
                </a:lnTo>
                <a:lnTo>
                  <a:pt x="17454" y="17989"/>
                </a:lnTo>
                <a:lnTo>
                  <a:pt x="6835" y="17989"/>
                </a:lnTo>
                <a:lnTo>
                  <a:pt x="6835" y="10800"/>
                </a:lnTo>
                <a:lnTo>
                  <a:pt x="5181" y="10800"/>
                </a:lnTo>
                <a:close/>
              </a:path>
              <a:path fill="darkenLess" w="24289" h="21600">
                <a:moveTo>
                  <a:pt x="14721" y="6448"/>
                </a:move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close/>
              </a:path>
              <a:path fill="darkenLess" w="24289" h="21600">
                <a:moveTo>
                  <a:pt x="11222" y="14299"/>
                </a:moveTo>
                <a:lnTo>
                  <a:pt x="13067" y="14299"/>
                </a:lnTo>
                <a:lnTo>
                  <a:pt x="13067" y="17989"/>
                </a:lnTo>
                <a:lnTo>
                  <a:pt x="17454" y="17989"/>
                </a:lnTo>
                <a:lnTo>
                  <a:pt x="17454" y="10800"/>
                </a:lnTo>
                <a:lnTo>
                  <a:pt x="6835" y="10800"/>
                </a:lnTo>
                <a:lnTo>
                  <a:pt x="6835" y="17989"/>
                </a:lnTo>
                <a:lnTo>
                  <a:pt x="1122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371600" y="18464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课本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P37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第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1—5</a:t>
            </a:r>
            <a:r>
              <a:rPr b="0" lang="zh-CN" sz="3600" spc="-1" strike="noStrike">
                <a:solidFill>
                  <a:srgbClr val="221304"/>
                </a:solidFill>
                <a:latin typeface="Times New Roman"/>
                <a:ea typeface="华文隶书"/>
              </a:rPr>
              <a:t>题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WW_036"/>
          <p:cNvPicPr/>
          <p:nvPr/>
        </p:nvPicPr>
        <p:blipFill>
          <a:blip r:embed="rId1"/>
          <a:stretch/>
        </p:blipFill>
        <p:spPr>
          <a:xfrm>
            <a:off x="3429000" y="1063800"/>
            <a:ext cx="3505320" cy="15364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990720" y="798480"/>
            <a:ext cx="3809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21304"/>
                </a:solidFill>
                <a:latin typeface="Tahoma"/>
                <a:ea typeface="隶书"/>
              </a:rPr>
              <a:t>课外作业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1523880" y="3200400"/>
            <a:ext cx="6934320" cy="762120"/>
          </a:xfrm>
          <a:prstGeom prst="parallelogram">
            <a:avLst>
              <a:gd name="adj" fmla="val 33530"/>
            </a:avLst>
          </a:prstGeom>
          <a:gradFill rotWithShape="0">
            <a:gsLst>
              <a:gs pos="0">
                <a:srgbClr val="a4a38b"/>
              </a:gs>
              <a:gs pos="100000">
                <a:srgbClr val="cbbd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3964" dir="8936435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活页金四导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.13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-9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题　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23:15:36Z</dcterms:created>
  <dc:creator>张明余</dc:creator>
  <dc:description/>
  <dc:language>en-US</dc:language>
  <cp:lastModifiedBy>a</cp:lastModifiedBy>
  <dcterms:modified xsi:type="dcterms:W3CDTF">2015-03-16T09:55:23Z</dcterms:modified>
  <cp:revision>760</cp:revision>
  <dc:subject>高中物理新课标</dc:subject>
  <dc:title>PowerPoint 演示文稿</dc:title>
</cp:coreProperties>
</file>