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261-2383-4B51-8F3E-8F094619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FDB-A617-452B-8125-ADC7499F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CCBFC-8E4F-43DC-83BE-78E16967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48153-2CAE-452C-9E41-F6A8A1B4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A83A7-2815-4F56-A57B-CF2E7FA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8EF84-C0D8-47B9-A09E-30A0FC8C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66E50-D12A-43C4-8C17-A5186798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48BAD-FFA9-4BDE-935F-BBEE52E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225D8-33E7-4801-BD16-4DEC4EF2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C9B20-109F-4815-B645-311E8E1F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05CB4-5E0A-49BC-ABF2-0C2AB395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2B873-497A-49FB-8BE8-C6A08C8F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9F6-EB09-4A05-963E-3A95DF7D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F9834-FD4C-4CDB-A948-DCD4E9AB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D086B-533E-4B00-B039-6D12D10A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93B99-1FAB-4DDE-96CB-0CC3715F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12BCA-1B20-4AD3-A047-3CDCA720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F617F-545D-4483-BB21-B693862C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3CE6B-9F66-47B1-9B12-A03596A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92E01-4FEC-40A4-9872-2660C871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BD7C8-8B48-47BD-9C26-B85EBEF4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B9297-DFB8-4EC8-B812-FABF72CE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78133-FB9D-4F25-BB35-148BAFCD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E14-6B80-4DBD-BCC0-E2E2882F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FAA27-68C3-4668-A9CD-EEC5B00C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AEDB1-3C41-4A40-86C7-E99E7581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9492D-AACD-459F-883F-5B58578B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47462-8ECF-451E-A348-A9656526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098BA-2974-4D30-AD9F-BBFE4909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69FEA-49BF-4CA2-998D-1C6BC09F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70AB1-3B91-4C8D-93EF-1FB6E6CD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1EAC4-16A1-42B6-95D8-9E35C851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FCE3B-9201-41A7-AA85-62D5698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DEF10-C350-4079-BA3B-52726D0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D261-3356-4E1F-B85A-3970F4DF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FD3B9-6EB1-4C6A-823B-C5B3E963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DEC0E-1652-47E7-874B-79C43C4C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F39E0-3E01-443C-A8B9-2559ACCB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D35AA-25BF-4138-AFC7-27003C75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73512-1D9F-45E5-922F-A924E50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B8646-AA80-4508-B785-091D3179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817AC-071B-4782-8BB2-894BD2CD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9E54B-41ED-45E8-93B3-887D3CE1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D6733-D720-4060-882D-C0FEFD46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BC20D-31A3-4911-8CA2-0F2E6E8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A5C9-06F5-44C8-9C1E-76E6D031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7FEA1-ED3F-4636-A2B8-7CDB86B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48E2F-C148-4E31-A95A-7793773C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25FAC-FC67-4797-8DB7-C123ECFA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75A0A-5E25-4961-B2A5-C98FC447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09B75-617B-4E28-8298-3E9B410C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97238-93BC-44F6-B962-F4B7FA00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4DAD5-F888-497A-8424-F79D4986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2E3A1-CE6F-4009-96FE-BA0AEA94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478CB-7171-4A5B-BCFA-E2AA7798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987B6-B347-456F-BEC4-F7CFA022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BE24-E6CE-49B6-B98E-E9EE54BC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ADC06-F223-42BA-BEDB-332DCF16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517BE-277A-4588-A0FB-5B7D890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00083-E9D1-4010-8125-FFCE0BE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72B6B-42E0-4C44-B453-0F4115BF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04621-F099-49C7-9488-09C7403C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77BF0-E707-436F-83E7-A79B58F1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8324A-F09F-43BC-93D9-5DCFF395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83264-1E0A-4AE8-A3D4-CB5CBA51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3BE4F-26A1-440F-9F68-2CBF5A34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2C6E7-C12B-4235-88EA-6937E971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0EE1-C5BD-41EA-A50F-2A69A95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0189F-9E32-4FCA-B514-D7789CC8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6D5E6-91F6-4F9B-A2E2-DA6B1514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AC52E-474D-4980-AC9A-66ED5AEF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4A24C-06F2-4106-A1C7-BC35FEC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F1B00-E32D-4483-B8C5-E40B338E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BDB8B-4773-4534-AB81-4D85109A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67DF0-491C-4926-B927-758B8FB1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25989-1635-41B9-9C96-B6562B95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63264-EB98-4AEE-99FD-4308ED71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8A74-C326-416C-9DC9-A326CC01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3983-CADE-4A82-BA99-151DBF00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F340-4E2B-4539-891C-A140C52B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05C-4E03-4C75-A75C-BB32169C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53FD-FD63-4E03-BEA3-A7C30A3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53A1-B684-4F87-8F25-282C2CA9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39C8-4D0A-45FC-B11E-3BC0FFA8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9B87-2F02-4020-88A2-34989F15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A225-514E-43ED-B4C7-43062051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55A8-F295-4F7B-92D1-2BC3E173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F0B9A-533C-4E19-BAF4-A7331EBC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32EC-9E39-48E9-B1B0-05F02ACE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7F10-72A7-4291-A324-6B74393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BD65-C1C4-4056-A8A4-FC35A23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FE8-4300-4520-B32B-51FA278F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2D19-A180-424F-84B8-8FD62F6A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8A62-0834-4161-9BDA-73143D7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CEFA-5327-4505-B5E7-29221EB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A687-1719-4BAC-BFF5-CCF2511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81889-03A8-4E08-9874-AF9BA61F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FDD3-1DD7-4B3C-AC5D-0F19CBDA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BCA7-7D24-4558-AF61-B4D8F217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BF39C-8957-4F23-9015-C091AD2F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E252-5EB9-4246-BCA4-A1CC91CB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AA3D-CB71-4A70-835D-FC5847D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3B2-8948-4672-AFE2-A08A2F83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32C0D-39C2-4AC1-A712-1BDA0599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F423-ACFD-4282-A1F4-F9CBBBF2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E989-E4AD-46D2-B4F8-D62B34C9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E02F9-445E-4764-AD4A-E919171F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8C69-F186-4257-BA8F-484DB0A5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7206-D1C3-4490-BF99-944BC01F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9931-B791-462A-B131-D3808580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DD254-CE46-4F70-9333-134751A2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8F4D-6442-4E06-AD1C-9FCCBF77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AD49D-5333-41E2-846C-6F7F9EF4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0DB-C077-432E-935D-95F90C6D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E2CCE-AFD4-4B9D-9BA5-DE0E7997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68D77-AC88-49AC-91F6-C9C26003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992A-5346-453C-9E78-7EE80C40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F3951-BEFC-46FC-BAC7-597129D5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0D936-3DC9-4C95-A68C-B69BE872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3794-180C-4148-A738-6B3FC6D9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CED5-0DF4-47E2-AECD-3D3CC297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7F9F9-1AA4-4D6B-BB87-3E18C68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BAF3-D51B-4BDC-AE00-964BF23F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B18C-A661-4C34-BECC-A6D5027B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5F3-DD8F-403E-B729-FF7B7D64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468BB-A49D-4435-B40A-A799DE62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8DA49-6D13-4AED-968D-AB45E039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06010-555B-48E3-AB0A-B52F9DE9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1A52-9F66-4877-A678-0976704B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D47ED-6B46-42E6-8753-CD87DF6D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8D774-108B-4283-9349-1FBCA904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701E3-D292-429C-BE72-6D6C42A7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2B3E0-6E45-48AB-B3C4-B711ED9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38A32-45C0-4E1E-A9D9-0F04F80B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FE0BD-3DD3-4E42-A9D0-07E6FE38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EEF-B211-4BE1-97D8-EDD46DE6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35BEF-5774-4FE6-8E7E-FEE9F263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60272-1C85-4157-B5D3-62F4ADC0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6F72F-B632-47C8-BEF0-C9FFA0CD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1260A-77A8-4912-8016-608B496F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B4121-BF1C-457E-BE84-595C32A0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40779-4BDE-42FA-B30C-6753D0E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F3BE8-E87D-4239-BE80-8053C3C4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D6E9-D9EA-4782-AB42-B84ABF80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0BC0C-427F-46C7-ABF9-8606A016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F648-AAEB-4572-A4FA-65D7F2A9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C5D-5F98-47A8-91B8-297B14F6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B86E1-2E0D-4BF2-A147-76BC669A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3C2E6-AF12-4A49-BDF7-15D3B4C7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75FE6-9665-48B0-9291-B113B70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15CDE-E814-4703-9E92-14DBDE90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1BB5-8D67-4E71-8ADC-E06633A2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0341C-1900-4293-A9C0-307EF60D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2E7DB-3BC9-4D5D-AC5F-B06C5C29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2326-804C-4FD9-B764-22D69FDC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6F777-FA72-487F-8DDB-4A7DAAFF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A549A-A87D-4200-A3BC-152BAE61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3D3-BD1C-46FD-97BD-CBF4A01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9DF99-2886-4D52-B351-75C2B9B2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A7AD2-41D1-4229-86BB-C02925D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718B8-56C2-419A-BDA3-F5DEA571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294C9-85F6-4D15-AF15-0006B682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384FA-350D-45AF-8EBE-2AA6A0BB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B61E6-483E-460B-AE65-626ECBA1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9C58C-7504-4485-9DF1-F93C85C2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E1507-375A-451D-B5DD-A41082AF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21807-5596-4397-8B07-CBCC4FA4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E29F4-03ED-4918-A282-5740EFCB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0A25-3C44-4F5A-904D-7870D895161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935-4A7E-4242-9E39-FC22138A03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F175-99C9-4349-AB65-875DD25B1A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D0D6-B359-4723-8090-93503C43A9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F36-F0C0-4484-90DD-5E86626CF9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6115-B307-4895-A7E3-672D08C663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2B24-0A7A-4C92-A51A-B6C847EC3C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7671-AC28-414E-BADA-6FD126DA4A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0AF0-6E67-4857-B986-390D43B39E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72FC-ECB0-497E-B9AB-9CA5860076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6554-40F9-40FB-A222-F654647B66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ABFF-5F78-4190-8515-763CB2AC0C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58EF-FC8D-4989-B4F9-D2636991F1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801B-46AF-41B6-94E7-5494623EA3A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2B8C-A77F-4EEA-B8C8-A8BC9F88E2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5825-54A3-4586-ABFC-6B5B2A5774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23A6-F8D2-4540-9D39-77921D684B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43F1-44F0-4ABB-92EA-6E2860A007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E0F7-B76C-4802-A80A-ACE0637F8F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98EB-7771-4BDF-B6A5-F477B2B7EA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ACDB-E897-46DF-8FC3-1E67D5DA80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DEC1-F00E-41EF-8D08-31B66AB5A0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FF12-AC3B-466C-8BE0-798603D27F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BD01-93A7-4D4E-9738-C4611996E3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73FD-7702-446D-B3E4-4B672FAB00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2A7F-B23C-41CE-A93D-0BCEE0A93C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492360" y="1235520"/>
            <a:ext cx="5042160" cy="23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800" spc="-1" strike="noStrike">
              <a:solidFill>
                <a:srgbClr val="ff0000"/>
              </a:solidFill>
              <a:latin typeface="Arial"/>
              <a:ea typeface="华文行楷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68000" y="4986000"/>
            <a:ext cx="70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制作者：康国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单  位：内蒙古扎兰屯林业学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工作能力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的适应能力如何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中专三年你做过最得意的事情是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业余时间你都干些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参加过什么样的课外活动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329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人际关系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喜欢与什么样的人交往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喜欢独立工作还是与别人合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喜欢什么样的领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344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工作态度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遇到过的最大的困难是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如果为了某事你受到批评怎么办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想怎样取得成功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其他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56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喜欢你的学校吗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是不是打算继续学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爱读什么样的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身体状况如何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觉得学历和工作经验哪个更重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还有什么疑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这暗示着面试将要结束。应把握住机会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通过提问或表态等方式强化主考官对你的印象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39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应聘过程中的基本礼仪。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提前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分钟到达面试地点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进入面试场合时不要紧张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对主考官的问题要逐一回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在整个面试过程中，要保持举止文雅大方，谈吐谦虚谨慎，态度积极热情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对应聘的九条求职建议。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58920" y="2133360"/>
            <a:ext cx="76183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告诉你遇到的第一个人关于你的目标和你想做的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不要害怕给考官打电话，最坏的可能就是他们说“不”，妙极了！永远要知道要联系的对方的名字，写给“主管者”的求职信永远是不管用的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没有完美的面试时问题的标准答案，考官仅仅想知道你能否进行理智的谈话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不要担心即使你的分数没有其他的求职者高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考官关心的不是你学习成绩是否优秀，他们想要的是，聪明的并有求知欲的人。 要有恒心，不要太容易的就把老板的一个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作为答复，老板们太忙，没有时间来答复你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必须有始有终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要尊敬秘书和助手，她们拥有真正的权力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振作起来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一下子发了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份履历然后在那儿等电话并不是好的求职方式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73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华文行楷"/>
              </a:rPr>
              <a:t>模拟应聘活动方案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187280" y="1628640"/>
            <a:ext cx="741708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活动目的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使学生懂得参加应聘活动的重要意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活动中运用应聘的基本知识，应聘技巧，以达到熟练掌握应聘的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培养学生的自信心，提高应聘成功率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总体要求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认真准备，积极参与，学中练、练中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活动程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应聘会场布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工作人员职责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组织应聘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⑵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介绍应聘者的姓名、性别、身高、体重等情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4"/>
          <p:cNvSpPr/>
          <p:nvPr/>
        </p:nvSpPr>
        <p:spPr>
          <a:xfrm>
            <a:off x="539640" y="549360"/>
            <a:ext cx="835344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应聘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自我介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要求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穿着得体，仪态端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⑵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使用普通话、声音宏亮、流利准确、语言简练、实事求是。（要涉及应聘岗位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⑶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头正身直，目视评委、面带微笑、落落大方。注意持麦克风的姿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介绍 结束要说：“介绍完毕”或“谢谢大家”。时间不超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分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普通话朗读要求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注意方音辨正：声母方面：分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-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--f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h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-z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等。韵母方面：分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—ei en—eng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-ing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⑵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变调和复读：注音分辨“一”，“不”，语气向“啊”以及“儿化”等的变调和复读等。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感情抒发，朗读别人的作品首先要认真领会作品中的思想，情感，以便采用恰当的语调、语气，把作品的思想、情感，生动形象地传过听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611280" y="260280"/>
            <a:ext cx="8064360" cy="61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⒊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回答提问（不限此题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讲一件你最难忘的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哪些名著对你影响最大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⑶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将如何面对新的工作？（报定的态度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⑷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工作中你遇到你的亲戚违规，你将如何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⑸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安排的工作与你理想中的工作发生冲突时，你将如何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工作中遇到顾客故意刁难，你将怎么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顾客要求你帮助解决不属于你管辖的工作，你将如何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⑻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纪律有何重要意义？如何遵守单位的规章制度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⑼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你工作时家中出现意外事情你将如何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有何特长、爱好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⑾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你谈一件工作中的失误及体会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⑿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你唱一首你喜欢的歌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用英语介绍你的姓名、性别及特长爱好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你画一幅（简笔）画或用钢笔写一段文字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的座右铭是什么，你的理想是什么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⒃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在专业学习中，有哪些收获或你认为学生时代学到了什么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怎样理解“没有不好的工作、只有做不好的人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⒅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怎样理解“第一：顾客永远都是对的；第二：当顾客出现错误时请按第一条执行？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⒆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继续专业技术方面，你有何打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知道的文明礼貌用语有哪些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(2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我们这里工作苦、管理严、你能承受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(22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为什么到我们单位来应聘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28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教学内容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340000" y="2421000"/>
            <a:ext cx="459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企业青睐什么样的人才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应聘应该注意哪些问题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应聘的基本技巧有哪些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面试中常见的基本问题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应聘过程中的基本礼仪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对应聘的九条求职建议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26920" y="907920"/>
            <a:ext cx="7848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主考官还可能提一些“偏题”“怪题”，要求你临时回答，测试你的机智敏锐，那么，如何对待：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要镇定自如，树立信心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巧取角度，出奇制胜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面对提出的问题，不能立即回答时，为了避免冷场，可以通过重复叙述问题“拖延”时间，与此同时，一边紧张思索答案。回答时不能废话“太多”，不可乱绕圈子，也不可离题万里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⑷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对有些问题，可能一片茫然，不知怎么回答时千万不要惊慌失措，能回答多少答多少，遇到无法明确表态的问题，就用模糊语言回答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要求：神情专注，听懂题意，切中要点，切忌答非所问（其它同自我介绍要求）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4"/>
          <p:cNvSpPr/>
          <p:nvPr/>
        </p:nvSpPr>
        <p:spPr>
          <a:xfrm>
            <a:off x="1187280" y="1268280"/>
            <a:ext cx="763272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走姿 、坐姿要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坐姿要求：入座要求轻而缓慢，上体正直，入席后双膝相碰，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两手自然放在双膝或者座椅的扶手上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对走姿的要求：上体正直，挺胸收腹，精神饱满，两眼平视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方，跨步均匀，步速适中，步幅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—1.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长，避免“内八字”或“外八字”，双臂自然摆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变考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应聘台脏乱，应聘者会打扫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⑵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应聘室水笼头无人关，应聘者主动关上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⑶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倒地的扫帚，应聘者会拾起来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地面有散落的糖果袋、纸屑、应聘者会主动捡起来放入垃圾桶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课后作业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针对应聘的有关问题，思考如何回答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分组开展应聘训练活动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教学周第五周第一节课举行模拟应聘活动，提前做好模拟应聘准备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下节课讲授内容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求职简历的写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39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企业青睐什么样的人才？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700000" y="2492280"/>
            <a:ext cx="4233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认同企业文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突出的专业技能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良好的综合素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语言表达能力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应聘应该注意哪些问题？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195640" y="2276640"/>
            <a:ext cx="4162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全面了解企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精心准备简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展现你的特长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得体的言谈举止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1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应聘的基本技巧有哪些？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7488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精心准备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面带微笑，保持自信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核实对方需要什么，然后向他表明你将如何满足其需要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留心你的一举一动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以最佳方式、在最佳时间开始你的面试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对求职者来说，最重要的是面试开始时的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秒和前五分钟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不要局限于用一两个字回答考官的问题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文凭不能解决所有的问题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随身携带一枝笔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注意聆听，仔细观察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掌握好结束面试环节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58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1b60f"/>
                </a:solidFill>
                <a:latin typeface="Arial"/>
                <a:ea typeface="华文行楷"/>
              </a:rPr>
              <a:t>面试中常见的基本问题。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44960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为什么选择我公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过去的工作经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对工作期望与目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喜欢这份工作的哪一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谈谈接受挫折的经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4788000" y="2997360"/>
            <a:ext cx="414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选择这份工作的动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认为业界发展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的优点是什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谈谈人际关系生活经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希望的待遇为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29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个人简况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21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谈谈你自己。这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个比较随便的设问，主考官为了使你消除紧张心理，通常把它作为第一个问题提出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的家庭情况怎样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谈恋爱了吗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有什么特长，爱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对这个问题要据实回答，不可无中生有，也不可过分谦虚，因为一个爱好广泛、多才多艺的毕业生将备受用人单位的青睐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有什么优缺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这是一个常常被问及并且较难回答的问题，难就难在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般人难以对自己有一个客观的评价。如实讲述自己的优缺点，并不会减少录用的机会。回答问题时的态度，比回答的内容更重要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33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应聘动机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为什么你喜欢这种工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了解我们单位吗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找工作首先考虑的因素是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的理想是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到本单位上岗前，让你先到基层锻炼两年，你愿意吗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专业情况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为什么你选读此专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学过的科目与我们的工作有什么关系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最喜欢或最不喜欢什么课程，为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对自己的学习成绩是否满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如果让你考大学，你会报什么专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11:18:36Z</dcterms:modified>
  <cp:revision>7</cp:revision>
  <dc:subject/>
  <dc:title>PowerPoint Presentation</dc:title>
</cp:coreProperties>
</file>