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03D-4BF3-463A-B692-DC1A4208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9C9-2924-45B2-9291-F51140FF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4132B-39BB-441C-9E29-EEC0E3E6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64CB3-4459-4BCC-95C4-FED22A03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DC843-175C-4926-886B-D9750424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84269-E1E3-4A05-899E-79C3C4AC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E20CF-F615-42F3-8AC9-4F8AC083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4D7AA-3AAA-4456-983B-9785EAE6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4FB4B-72DD-437B-9CC0-E868B1A6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7205B-CB94-4129-9C64-0C5B97CA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166BD-A6BA-4D1A-9BD3-43F30C3B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F2268-2E19-4947-9FA6-CA58044B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37F-6C0F-4156-9A63-D61D3064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75B78-FBE8-4E55-8505-737AC4AA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DAF47-2D82-4B31-8B77-E35E5286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66434-2FCC-4A85-8F7F-E6B2C256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127BE-7B0F-4680-8D9D-98C87217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AA251-C8C8-4352-9B5C-953736E2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D1064-BBFD-4089-9C0A-B2B9E368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DA583-20EE-4F7F-BD33-B4A396C9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C3D62-1FE5-4A11-BB0A-16EAD7AF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681D6-9F77-49F3-ABBF-3311C6AF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C9CBE-F0F0-4807-B4CF-2D172097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3E8-AABD-46BD-AC3C-5736507B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F6E02-9A16-449B-913B-CF50A2EE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3D767-03C7-4A40-B251-A5C98892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67705-E1D9-42D8-ABA3-E7AC7A96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092BF-11E3-4741-8608-BCFC422F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379BA-B87C-4642-B901-A07A7D7D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4BCC6-4B99-4CF8-8298-67FCCC56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C3337-1833-4908-9141-3B6C820F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D60B4-9FCD-4A7D-8276-AD28F2D3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7683E-CCEC-42B8-AC6A-88D1730B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5980E-2955-4914-9589-8AD4F08A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EBE4-6626-4A78-AB97-176CC93E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32A03-63A4-4CDA-99C5-60673768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8D81A-93EE-45EA-BBB6-00F51524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2D3AE-1B1C-4733-AC81-E9D8E76F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F4D00-67AC-480C-A5E4-018C921E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46B3C-094E-494C-9E78-F6F46A10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CA3C2-0BD6-4DDD-B189-0FF57F72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F3E38-A38D-4EA4-B459-EE87C031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98771-9CA9-4C1B-B244-7EAAFCD9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28B9C-47E6-4235-A348-201C861C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11A5E-E51D-42F6-9318-4C832790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ECA6-E2E3-43A9-9DEA-8324BE18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2AAC1-D685-4EC6-8A69-BC6FAC5C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E1AFE-0980-43CA-BF37-A87A64EF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E73ED-169B-4DAE-B3DA-C15A7613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73A85-44BC-43DA-A25D-A23AC907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B0F08-20A4-4634-85F0-D200B9B6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F6735-FDB0-4B93-8985-F04E7260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D832D-611A-4853-97F4-D03F222E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7E09D-90B5-4F03-92F7-48E463DD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005B0-C03B-45B2-8C82-F73A1C0E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1CE3B-A12B-4F64-A6D9-5C345B3F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F6A7-2B2A-43BC-9D5C-214313A9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162A4-FF47-4881-925F-CE345C97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4F8DA-7885-431D-89CB-BDEFB8C6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277D7-ADEC-4D9A-A669-5C68865B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CBDE4-203F-44EA-9AD4-B4F14626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A18DA-B873-411F-9118-FEDF17C4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BBDAE-B6F9-414D-86A4-AB0EA3DB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43C81-AF27-4C7E-A839-686204F7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A739E-0F0B-48A8-8992-6C418A61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720B4-433E-4536-89CD-CFD00E9F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AE03C-DA11-4D45-B2FB-DF36BA29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5CDC-2BEF-43D9-8EBE-1AACE89A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413A1-91D3-42FC-93EE-29A7F40F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8BFE6-7B59-4DA9-AF73-50EBC070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BD395-26F7-4AEE-8ED1-842BD4CB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38FA3-084B-4635-8A5D-306BD94C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2DB69-FE96-4C5B-999B-D537ACB3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3A79E-6237-4200-A126-10E47BAC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0A77C-0A4B-4F60-AA0B-44F800C8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014E75-B6C3-4B7D-86C1-F6AF97C8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E2E8F-00FC-420B-BB64-0E9D7176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BD40-F79C-485B-BD92-68E95AC9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EBC6-0A06-444D-BBE5-27154557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631E-EB89-4254-AAB9-EBF8190B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162-FEF0-4C68-8E7F-4651AB37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ED36-6450-4E1E-B4AD-45BBE00B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E4F4-BCC6-4A31-BE91-D79928EB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F8DB-0925-430A-9DA5-2B379BF1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497D-0DF5-47A0-A8F0-B91EAE85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6F18-DCC5-48E3-971A-0FFB066E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6C995-9A55-46D5-A54B-5EB9A1E7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B10C1-73CE-4FFA-90B6-8EA94F8E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34B53-2938-468F-982A-4F9D31FC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B207-A8E2-4EFB-8DEA-028EDFA0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C6F10-833C-4CF5-9DA0-969E1676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597-7EE0-4857-97B2-5B23A865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87C7B-41ED-45BB-BCB1-CB02C100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72C84-6EF3-4936-B47C-BFC57BD3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393D-8C9E-4EB1-89C2-E6DD5B33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43346-BF89-4F9E-946A-E4C70CFD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955C2-9D1B-4922-996D-43D0E229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58EA0-8282-4373-B7D7-75644476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8BDB4-050C-4A84-984F-6E6BC125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6B18F-D17D-40F9-9D72-A3FDF7DA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48592-C048-4247-A73D-7868EB9D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0366A-1367-48CD-A60D-29A38B1A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FD4-E925-479F-8007-02633ADB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65ABB-DEA1-45F9-8C79-BF67882C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71BD0-DFD9-4947-A638-15525097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027A7-2990-4F9E-952B-C0628103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7CAD3-57B7-41A4-B108-87C837B0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388A3-1FA9-43B5-B5EB-98354BCF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57116-8678-40F7-817F-39F04F23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8DDEB-6E9A-45D5-9A90-80C86E10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3BF14-3774-4B33-BC35-E851D960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50E84-B40B-44D7-B47D-D98D9E21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E0F41-6F83-4976-A65B-C0C8BF3B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AF2-FEBF-457A-A999-34A5C3DE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5A4D1-E25F-4799-A80E-CA0773AE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B0A81-7B02-4232-A006-405E3A62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8CF56-9718-4A74-B14D-5ADE9CEC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8ED9E-0317-4020-ADEF-3FB33C37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CE7F7-4C57-44B7-912D-E572EF24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03339-7A20-48DC-91CE-0334563D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48CFF-430B-4C65-8861-9B653EDC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79E6A-868E-41EB-97C3-0232BD92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D5B08-D053-416A-8B3A-1508A791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89411-F847-483F-9F36-2D2B402F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AC6-DD5C-4DD4-9E9F-A182B720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D93E5-CD06-4D0B-AC66-116F1EB1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357FA-D4DF-4671-AD32-8CAE872C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602D5-EAF5-4892-A715-999F04F0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3C60E-9175-46D7-B0F2-6E91C9CA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80F02-E2B1-4E02-B24D-2F53279C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746BD-F981-434C-B625-D0BA11D9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106B2-7C54-42C0-A7F2-018778E3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7D0AC-1BDF-4381-89AD-D3854756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B6DA3-2504-4968-9428-F87CBAEC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16F28-6662-462B-B07A-33EBDCB5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AFB-7A01-4DEE-BFEF-D29E2630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DD69A-AE12-44B7-9657-DD1834BF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3298A-EBF0-48D4-BF32-336BFE73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CEB2A-8189-42B2-AD40-FDD7679F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89D5C-61AA-4F2F-AFB7-62396525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72A7D-0C20-43AE-94B4-B89C4F77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F799B-70F1-4A12-A173-8F540F97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A1DF1-687C-4E70-95F0-E7557461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83C3C-AFBB-4729-9E09-62FFCDB3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A35EC-BAC5-40D3-8F24-0BF16721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ABF2F-0557-436C-A31E-106C09C1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FE8-209D-4787-AD2D-CEF2123F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767AE-048B-4160-BB1E-6EA05479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B7AA4-EAC1-4710-9391-04BF9F71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FD38E-A09F-4E5E-8BD2-CAA60D9A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3E0EF-6A01-4F94-A6B6-0656D25D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400CA-F52E-4C77-8C2F-70CEA505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65094-ED5A-47A3-B8ED-DB3E79E0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09335-6278-4F30-B9EA-74531416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BC714-8419-4A3E-9D85-4CD69274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25C57-6994-4B03-96CA-4FDF5890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FE3BF-4D4A-48CC-9DB5-35353BAA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89E-0DD5-40E1-8099-A4601C38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60C4B-D4BB-4483-81A7-B26FC0B0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AA473-5D3F-4246-BD9D-76C9F73E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F5C1A-DF85-4454-A48B-083F5918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FEFA4-6092-4186-BF2B-43B77208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C6518-5463-4569-9F01-B168C62C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0A246-18B1-4910-A15A-4D0136A0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81237-438D-4579-8C0B-0BDAD84C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77182-CC05-413A-B04D-5B8A859C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E429C-DC78-4CC9-B4CA-276B33DD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746C1-ED75-4541-BD1E-41F0EEE6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885E-C75D-48F9-B52D-ABB11C8B4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5D29-EA87-4C81-8A64-503C3AB3D6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24A1-9EA6-4A1E-9A08-138AE73BE0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EA2A-97D0-45C7-BEA6-3B0E231D25C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F93A-0236-45A7-B529-94649C30E7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9E32-087E-48F1-945F-3BE57B4D9B5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CD9D-3EBD-4804-AB31-6A50A3CD1D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5BFD-1E86-4149-B9E1-B97FE6A6DC9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7447-E9BD-44D5-98ED-0E63B7DAC2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7743-0288-4DC4-8A08-48E8E636287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0D0E-59E3-42D4-BFCB-DB468C80A0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7D39-2D36-422E-9438-A36636EF128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D230-AF3E-4F96-A904-5CCFD6D865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FE62-B5D7-4D27-BC28-3AE153226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42BB-24D5-4F5D-A8A5-5D403B2CEFB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F172-060B-41F2-9E10-B1436C49B7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F251-752A-4EF7-98EC-887D1CF1194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519A-6609-4B42-8D90-2CFF892C97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1FD4-13D8-4FBA-A578-47E8D0780A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4D25-204D-485F-9D92-13B85FBBA7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B027-E7B4-403D-9216-6D8B7D4A448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F448-D356-4C39-AE09-4DFDB1D970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B32A-FC35-42BF-8FAB-EB28FB12B53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DE17-F489-41C8-82B2-8839E82AE5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CDD7-1D7B-4FF0-9CBB-AB74C1705E9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C646-8DC4-4DC6-B37B-270C13024A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66"/>
                </a:solidFill>
                <a:latin typeface="Arial"/>
                <a:ea typeface="隶书"/>
              </a:rPr>
              <a:t>遨游汉字王国</a:t>
            </a:r>
            <a:endParaRPr b="0" lang="en-US" sz="8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五年级二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司杭宇制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66"/>
                </a:solidFill>
                <a:latin typeface="Arial"/>
              </a:rPr>
              <a:t>有趣的汉字</a:t>
            </a:r>
            <a:endParaRPr b="0" lang="en-US" sz="9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" dur="10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10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0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66"/>
                </a:solidFill>
                <a:latin typeface="Arial"/>
              </a:rPr>
              <a:t>歇后语 </a:t>
            </a:r>
            <a:endParaRPr b="0" lang="en-US" sz="8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</a:rPr>
              <a:t>谐音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谐音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矮子倒水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水瓶（平）不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八十岁的老翁弹琵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老生常谈（弹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半云天挂口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装风（疯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保温瓶的塞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堵（赌）汽（气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鼻梁上推小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走头（投）无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蹩脚木匠的活儿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东一锯（句），西一锯（句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谐音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冰块拌豆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难拌（办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踩着石头过河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脚踏石（实）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长江上漂木头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浮（付）之东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炒咸菜不放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盐（言）在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虫子钻进核桃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冒充好仁（人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窗户里吹喇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鸣（名）声在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担着苦瓜喊瓜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嘴甜心（辛）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地毯上寻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吹毛求疵（疵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谐音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电线杆上绑鸡毛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好大的掸（胆）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电线杆上挂暖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高水瓶（平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-710280"/>
            <a:ext cx="854064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 rot="19275600">
            <a:off x="4439160" y="1785600"/>
            <a:ext cx="41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66"/>
                </a:solidFill>
                <a:latin typeface="Arial"/>
              </a:rPr>
              <a:t>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92" dur="10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10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3:32:23Z</dcterms:created>
  <dc:creator>Billgates</dc:creator>
  <dc:description/>
  <dc:language>en-US</dc:language>
  <cp:lastModifiedBy>a</cp:lastModifiedBy>
  <dcterms:modified xsi:type="dcterms:W3CDTF">2015-03-16T10:00:12Z</dcterms:modified>
  <cp:revision>5</cp:revision>
  <dc:subject/>
  <dc:title>有趣的汉字</dc:title>
</cp:coreProperties>
</file>