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0BE-685B-4C6C-97A9-FFE79A8E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C8F-AB64-449A-9313-B4F06D83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E2E-D65D-4423-8FE8-ACD5C289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D0E-662B-4D27-9BB7-63267617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24B-7FB6-411C-8995-DE49A6D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FB4-2599-4FCB-BF18-68CD8530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030-324B-4B61-B2F2-FA50BE11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C27-6B5A-4CCC-BE07-ACF95F2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125-F47B-463A-B515-909E31D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6ED-C158-42EF-B799-C0636A4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4E7-780F-4984-9413-14BE5C2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951-1D0F-4AC2-BD74-26E8579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539A-08ED-4968-81F0-1E07B8F77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hyperlink" Target="258,3,&#26893;&#26641;&#33410;&#30340;&#30001;&#26469;" TargetMode="External"/><Relationship Id="rId8" Type="http://schemas.openxmlformats.org/officeDocument/2006/relationships/hyperlink" Target="260,4,&#26893;&#26641;&#33410;&#30340;&#24847;&#20041;" TargetMode="External"/><Relationship Id="rId9" Type="http://schemas.openxmlformats.org/officeDocument/2006/relationships/hyperlink" Target="261,5,&#21508;&#22269;&#30340;&#26893;&#26641;&#33410;" TargetMode="External"/><Relationship Id="rId10" Type="http://schemas.openxmlformats.org/officeDocument/2006/relationships/hyperlink" Target="259,7,&#23385;&#20013;&#23665;&#20808;&#29983;&#19982;&#26893;&#26641;&#33410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28-11030423144358"/>
          <p:cNvPicPr/>
          <p:nvPr/>
        </p:nvPicPr>
        <p:blipFill>
          <a:blip r:embed="rId1"/>
          <a:stretch/>
        </p:blipFill>
        <p:spPr>
          <a:xfrm>
            <a:off x="-757080" y="0"/>
            <a:ext cx="10281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8" descr="http_imgloadCA895AKT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7" descr="adCAH6KEIE_副本"/>
          <p:cNvPicPr/>
          <p:nvPr/>
        </p:nvPicPr>
        <p:blipFill>
          <a:blip r:embed="rId2"/>
          <a:stretch/>
        </p:blipFill>
        <p:spPr>
          <a:xfrm>
            <a:off x="7451640" y="907920"/>
            <a:ext cx="1306440" cy="134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8" descr="htIE_副本"/>
          <p:cNvPicPr/>
          <p:nvPr/>
        </p:nvPicPr>
        <p:blipFill>
          <a:blip r:embed="rId3"/>
          <a:stretch/>
        </p:blipFill>
        <p:spPr>
          <a:xfrm>
            <a:off x="5867280" y="1484280"/>
            <a:ext cx="125892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9" descr="http_6KEIE_副本"/>
          <p:cNvPicPr/>
          <p:nvPr/>
        </p:nvPicPr>
        <p:blipFill>
          <a:blip r:embed="rId4"/>
          <a:stretch/>
        </p:blipFill>
        <p:spPr>
          <a:xfrm>
            <a:off x="7308720" y="263700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0" descr="http_imgloadCAH6KEIE_副本"/>
          <p:cNvPicPr/>
          <p:nvPr/>
        </p:nvPicPr>
        <p:blipFill>
          <a:blip r:embed="rId5"/>
          <a:stretch/>
        </p:blipFill>
        <p:spPr>
          <a:xfrm>
            <a:off x="4140360" y="2133720"/>
            <a:ext cx="1533240" cy="17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1" descr="http_imgloaKEIE_副本"/>
          <p:cNvPicPr/>
          <p:nvPr/>
        </p:nvPicPr>
        <p:blipFill>
          <a:blip r:embed="rId6"/>
          <a:stretch/>
        </p:blipFill>
        <p:spPr>
          <a:xfrm>
            <a:off x="5867280" y="3357720"/>
            <a:ext cx="1297080" cy="1285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植树节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植树节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各国的植树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纪念中山先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773721ac3078bcccfbed508c"/>
          <p:cNvPicPr/>
          <p:nvPr/>
        </p:nvPicPr>
        <p:blipFill>
          <a:blip r:embed="rId1"/>
          <a:stretch/>
        </p:blipFill>
        <p:spPr>
          <a:xfrm>
            <a:off x="0" y="0"/>
            <a:ext cx="9144000" cy="743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 Black"/>
              </a:rPr>
              <a:t>植树节的由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历史发展到今天，“植树造林，绿化祖国”的热潮漫卷了中华大地。从沿海到内地，从城市到乡村，涌现了多少造林模范，留下了多少感人的故事。婴儿出世，父母栽一棵小白怕，盼望孩子和小树一样浴光吮露，茁壮成长；男女成婚，新人双双植一株嫩柳，象征家庭美满，幸福久长；长者故去，后辈种一棵青松，象征老一辈的美德犹在，风范永存。人们就是这样，把很多很多的情感与植树活动融在一起。于是，出现了一片片“少年林”、“青年林”、“党员林”、“拥军林”，有了一年一度的绿色节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树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667080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_imgloadCA1554EW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植树节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城市防护林具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减缓风速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的作用，其有效范围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树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倍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内，其中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倍范围内效果最好，可降低风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5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在农田林网内通常可减缓风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，提高相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湿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5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5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，增加土壤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含水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据测定，林冠可截留降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左右，大大削弱了雨滴的冲击力；地表只要有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厘米厚的枯枝落叶，就可以把地表径流量减少到裸地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/4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下，泥沙减少到裸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7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4653000"/>
            <a:ext cx="799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公顷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林地与裸地相比，至少可以多储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方米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万亩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森林的蓄水能力相当于蓄水量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万立方米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的水库，而建造这样一个水库需要投资千余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476d648416a84c782025c8e"/>
          <p:cNvPicPr/>
          <p:nvPr/>
        </p:nvPicPr>
        <p:blipFill>
          <a:blip r:embed="rId1"/>
          <a:stretch/>
        </p:blipFill>
        <p:spPr>
          <a:xfrm>
            <a:off x="1547640" y="-316080"/>
            <a:ext cx="584064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国的植树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巴西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9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以色列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树木的新年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萨尔瓦多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和教师节在一起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6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芬兰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6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冰岛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学生植树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法国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绿化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每年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, 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中国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朝鲜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_imgloadCAPPVD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孙中山先生与植树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孙中山先生逝世纪念日。中山先生生前十分重视林业建设。他任临时大总统的中华民国南京政府成立不久，就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设立了农林部，下设山林司，主管全国林业行政事务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颁布了我国近代史上第一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森林法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，政府又规定将每年“清明”定为植树节。后因清明节对我国南方来说，植树季节太迟，同时也为了纪念孙中山先生，国民政府又决定将孙中山的逝世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-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日定为植树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01300000297717122710615940070"/>
          <p:cNvPicPr/>
          <p:nvPr/>
        </p:nvPicPr>
        <p:blipFill>
          <a:blip r:embed="rId2"/>
          <a:stretch/>
        </p:blipFill>
        <p:spPr>
          <a:xfrm>
            <a:off x="6588000" y="189000"/>
            <a:ext cx="218124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_imgloadCAEWWDJ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8"/>
          <p:cNvSpPr txBox="1"/>
          <p:nvPr/>
        </p:nvSpPr>
        <p:spPr>
          <a:xfrm>
            <a:off x="826920" y="5157720"/>
            <a:ext cx="698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ARE YOU READY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5280" y="33336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接下来先请欣赏一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_imgloadCA1O2BZA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http_imgloadCA2GL1V8"/>
          <p:cNvPicPr/>
          <p:nvPr/>
        </p:nvPicPr>
        <p:blipFill>
          <a:blip r:embed="rId2"/>
          <a:stretch/>
        </p:blipFill>
        <p:spPr>
          <a:xfrm>
            <a:off x="1908000" y="0"/>
            <a:ext cx="45612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_imgloadCA5EPABW"/>
          <p:cNvPicPr/>
          <p:nvPr/>
        </p:nvPicPr>
        <p:blipFill>
          <a:blip r:embed="rId3"/>
          <a:stretch/>
        </p:blipFill>
        <p:spPr>
          <a:xfrm>
            <a:off x="4594320" y="0"/>
            <a:ext cx="454968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_large_ucgE_0f6200017d7e2d11"/>
          <p:cNvPicPr/>
          <p:nvPr/>
        </p:nvPicPr>
        <p:blipFill>
          <a:blip r:embed="rId1"/>
          <a:stretch/>
        </p:blipFill>
        <p:spPr>
          <a:xfrm>
            <a:off x="1403280" y="115920"/>
            <a:ext cx="67737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837800" y="981000"/>
            <a:ext cx="55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7" descr=""/>
          <p:cNvPicPr/>
          <p:nvPr/>
        </p:nvPicPr>
        <p:blipFill>
          <a:blip r:embed="rId2"/>
          <a:stretch/>
        </p:blipFill>
        <p:spPr>
          <a:xfrm>
            <a:off x="719280" y="536400"/>
            <a:ext cx="7407000" cy="41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2484360" y="2276640"/>
            <a:ext cx="432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班主任老师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详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14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37:0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