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900000" y="19890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乘法口诀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3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12"/>
          <p:cNvSpPr/>
          <p:nvPr/>
        </p:nvSpPr>
        <p:spPr>
          <a:xfrm>
            <a:off x="3346560" y="2239920"/>
            <a:ext cx="1911240" cy="306072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3060720"/>
              <a:gd name="textAreaBottom" fmla="*/ 2967480 h 3060720"/>
            </a:gdLst>
            <a:ahLst/>
            <a:rect l="textAreaLeft" t="textAreaTop" r="textAreaRight" b="textAreaBottom"/>
            <a:pathLst>
              <a:path w="21600" h="34588">
                <a:moveTo>
                  <a:pt x="3600" y="0"/>
                </a:moveTo>
                <a:arcTo wR="3600" hR="3600" stAng="16200000" swAng="-5400000"/>
                <a:lnTo>
                  <a:pt x="0" y="30988"/>
                </a:lnTo>
                <a:arcTo wR="3600" hR="3600" stAng="10800000" swAng="-5400000"/>
                <a:lnTo>
                  <a:pt x="18000" y="345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611280" y="1590840"/>
            <a:ext cx="47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理解意义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701720" y="5445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让我们一起拍手读读这些口诀吧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479680" y="581328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给大家背一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476440" y="6180120"/>
            <a:ext cx="51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再背一背，你是怎么记住的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5581800" y="2263680"/>
            <a:ext cx="172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3562200" y="2244600"/>
            <a:ext cx="19418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九得九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九十八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九二十七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九三十六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五九四十五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九五十四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七九六十三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八九七十二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九九八十一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763640" y="2263680"/>
            <a:ext cx="1717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5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3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8640" y="446040"/>
            <a:ext cx="85060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观察表格，发现规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Text Box 115"/>
          <p:cNvSpPr/>
          <p:nvPr/>
        </p:nvSpPr>
        <p:spPr>
          <a:xfrm>
            <a:off x="5076720" y="24242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乘法口诀的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数圈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Rectangle 116"/>
          <p:cNvSpPr/>
          <p:nvPr/>
        </p:nvSpPr>
        <p:spPr>
          <a:xfrm>
            <a:off x="5846760" y="33260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这些得数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有什么新发现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Rectangle 118"/>
          <p:cNvSpPr/>
          <p:nvPr/>
        </p:nvSpPr>
        <p:spPr>
          <a:xfrm>
            <a:off x="1670760" y="5372640"/>
            <a:ext cx="34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规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相邻的每句口诀的积之间相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119"/>
          <p:cNvSpPr/>
          <p:nvPr/>
        </p:nvSpPr>
        <p:spPr>
          <a:xfrm>
            <a:off x="1692360" y="580536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积的个位、十位上的数相加的和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120"/>
          <p:cNvSpPr/>
          <p:nvPr/>
        </p:nvSpPr>
        <p:spPr>
          <a:xfrm>
            <a:off x="1692360" y="623736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数个位上的数逐渐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、十位上的数逐渐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42920" y="1700280"/>
          <a:ext cx="3917880" cy="352908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0600"/>
                <a:gridCol w="395280"/>
                <a:gridCol w="392040"/>
                <a:gridCol w="390600"/>
                <a:gridCol w="392040"/>
                <a:gridCol w="390600"/>
                <a:gridCol w="392040"/>
              </a:tblGrid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51" name="Oval 296"/>
          <p:cNvSpPr/>
          <p:nvPr/>
        </p:nvSpPr>
        <p:spPr>
          <a:xfrm>
            <a:off x="4221000" y="17542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Oval 297"/>
          <p:cNvSpPr/>
          <p:nvPr/>
        </p:nvSpPr>
        <p:spPr>
          <a:xfrm>
            <a:off x="3840120" y="21448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Oval 298"/>
          <p:cNvSpPr/>
          <p:nvPr/>
        </p:nvSpPr>
        <p:spPr>
          <a:xfrm>
            <a:off x="3440160" y="253512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Oval 299"/>
          <p:cNvSpPr/>
          <p:nvPr/>
        </p:nvSpPr>
        <p:spPr>
          <a:xfrm>
            <a:off x="3059280" y="293544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Oval 300"/>
          <p:cNvSpPr/>
          <p:nvPr/>
        </p:nvSpPr>
        <p:spPr>
          <a:xfrm>
            <a:off x="2658960" y="3325680"/>
            <a:ext cx="28908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Oval 301"/>
          <p:cNvSpPr/>
          <p:nvPr/>
        </p:nvSpPr>
        <p:spPr>
          <a:xfrm>
            <a:off x="2268360" y="370692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Oval 303"/>
          <p:cNvSpPr/>
          <p:nvPr/>
        </p:nvSpPr>
        <p:spPr>
          <a:xfrm>
            <a:off x="1878120" y="4097160"/>
            <a:ext cx="28872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Oval 304"/>
          <p:cNvSpPr/>
          <p:nvPr/>
        </p:nvSpPr>
        <p:spPr>
          <a:xfrm>
            <a:off x="1487520" y="448776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Oval 305"/>
          <p:cNvSpPr/>
          <p:nvPr/>
        </p:nvSpPr>
        <p:spPr>
          <a:xfrm>
            <a:off x="1096920" y="48880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8"/>
          <p:cNvSpPr/>
          <p:nvPr/>
        </p:nvSpPr>
        <p:spPr>
          <a:xfrm>
            <a:off x="898560" y="53712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规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几的口诀，积就是几十减几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Text Box 121"/>
          <p:cNvSpPr/>
          <p:nvPr/>
        </p:nvSpPr>
        <p:spPr>
          <a:xfrm>
            <a:off x="5076720" y="242424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有一条规律呢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看懂了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Text Box 125"/>
          <p:cNvSpPr/>
          <p:nvPr/>
        </p:nvSpPr>
        <p:spPr>
          <a:xfrm>
            <a:off x="5846760" y="3327480"/>
            <a:ext cx="3046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用一句话说说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发现的这个规律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1700280"/>
          <a:ext cx="3917880" cy="352908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0600"/>
                <a:gridCol w="395280"/>
                <a:gridCol w="392040"/>
                <a:gridCol w="390600"/>
                <a:gridCol w="392040"/>
                <a:gridCol w="390600"/>
                <a:gridCol w="392040"/>
              </a:tblGrid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5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64" name="Rectangle 2"/>
          <p:cNvSpPr/>
          <p:nvPr/>
        </p:nvSpPr>
        <p:spPr>
          <a:xfrm>
            <a:off x="458640" y="446040"/>
            <a:ext cx="8506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观察表格，发现规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Oval 240"/>
          <p:cNvSpPr/>
          <p:nvPr/>
        </p:nvSpPr>
        <p:spPr>
          <a:xfrm>
            <a:off x="4221000" y="17542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Oval 241"/>
          <p:cNvSpPr/>
          <p:nvPr/>
        </p:nvSpPr>
        <p:spPr>
          <a:xfrm>
            <a:off x="3840120" y="21448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Oval 242"/>
          <p:cNvSpPr/>
          <p:nvPr/>
        </p:nvSpPr>
        <p:spPr>
          <a:xfrm>
            <a:off x="3440160" y="253512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Oval 243"/>
          <p:cNvSpPr/>
          <p:nvPr/>
        </p:nvSpPr>
        <p:spPr>
          <a:xfrm>
            <a:off x="3059280" y="293544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Oval 244"/>
          <p:cNvSpPr/>
          <p:nvPr/>
        </p:nvSpPr>
        <p:spPr>
          <a:xfrm>
            <a:off x="2658960" y="3325680"/>
            <a:ext cx="28908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Oval 245"/>
          <p:cNvSpPr/>
          <p:nvPr/>
        </p:nvSpPr>
        <p:spPr>
          <a:xfrm>
            <a:off x="2268360" y="370692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1" name="Oval 246"/>
          <p:cNvSpPr/>
          <p:nvPr/>
        </p:nvSpPr>
        <p:spPr>
          <a:xfrm>
            <a:off x="1878120" y="4097160"/>
            <a:ext cx="28872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Oval 247"/>
          <p:cNvSpPr/>
          <p:nvPr/>
        </p:nvSpPr>
        <p:spPr>
          <a:xfrm>
            <a:off x="1487520" y="4487760"/>
            <a:ext cx="288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Oval 248"/>
          <p:cNvSpPr/>
          <p:nvPr/>
        </p:nvSpPr>
        <p:spPr>
          <a:xfrm>
            <a:off x="1096920" y="4888080"/>
            <a:ext cx="2890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七九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1692360" y="472608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611280" y="1659960"/>
            <a:ext cx="25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说一说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473200" y="522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七九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2473200" y="56959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六十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1" name="Picture 23" descr="10"/>
          <p:cNvPicPr/>
          <p:nvPr/>
        </p:nvPicPr>
        <p:blipFill>
          <a:blip r:embed="rId2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24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七九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2"/>
          <p:cNvSpPr/>
          <p:nvPr/>
        </p:nvSpPr>
        <p:spPr>
          <a:xfrm>
            <a:off x="1042920" y="263700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11280" y="165816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1009800" y="4041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快速说出结果，并说说你用的是哪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2203560" y="2638440"/>
            <a:ext cx="71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4010040" y="2646360"/>
            <a:ext cx="7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5929200" y="2638440"/>
            <a:ext cx="72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7872480" y="2637000"/>
            <a:ext cx="8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2852640" y="263700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4759200" y="264636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6686640" y="2652840"/>
            <a:ext cx="179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662040" y="46054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这幅图，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452600" y="53974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想求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只脚踏船最多可坐多少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怎么解答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454040" y="5002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限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452600" y="5792760"/>
            <a:ext cx="31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要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1452600" y="6189840"/>
            <a:ext cx="67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还能提出其他用乘法解决的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6332400" y="3341520"/>
            <a:ext cx="274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（人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539640" y="4005360"/>
            <a:ext cx="554508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979560" y="3787920"/>
            <a:ext cx="504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02" name="Picture 15" descr="未标题-2"/>
          <p:cNvPicPr/>
          <p:nvPr/>
        </p:nvPicPr>
        <p:blipFill>
          <a:blip r:embed="rId2"/>
          <a:stretch/>
        </p:blipFill>
        <p:spPr>
          <a:xfrm>
            <a:off x="1177920" y="1700280"/>
            <a:ext cx="5545080" cy="2847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6"/>
          <p:cNvSpPr/>
          <p:nvPr/>
        </p:nvSpPr>
        <p:spPr>
          <a:xfrm>
            <a:off x="611280" y="165816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762200" y="55897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229440" y="3165480"/>
            <a:ext cx="536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229440" y="3165480"/>
            <a:ext cx="107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4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762200" y="6056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渡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节课我们接着来学习有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乘法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611280" y="1619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挖掘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原认知，收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619280" y="5654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根据前面的经验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的乘法口诀有几句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322360" y="6014880"/>
            <a:ext cx="50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句，你们知道吗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谁来说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3203640" y="2276640"/>
            <a:ext cx="1944720" cy="3357360"/>
            <a:chOff x="3203640" y="2276640"/>
            <a:chExt cx="1944720" cy="3357360"/>
          </a:xfrm>
        </p:grpSpPr>
        <p:sp>
          <p:nvSpPr>
            <p:cNvPr id="214" name="AutoShape 12"/>
            <p:cNvSpPr/>
            <p:nvPr/>
          </p:nvSpPr>
          <p:spPr>
            <a:xfrm>
              <a:off x="3203640" y="2276640"/>
              <a:ext cx="1911240" cy="3357360"/>
            </a:xfrm>
            <a:custGeom>
              <a:avLst/>
              <a:gdLst>
                <a:gd name="textAreaLeft" fmla="*/ 93240 w 1911240"/>
                <a:gd name="textAreaRight" fmla="*/ 1818000 w 1911240"/>
                <a:gd name="textAreaTop" fmla="*/ 93240 h 3357360"/>
                <a:gd name="textAreaBottom" fmla="*/ 3264120 h 335736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f7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3382920" y="2357280"/>
              <a:ext cx="17654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九得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二九十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三九二十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九三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五九四十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六九五十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七九六十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八九七十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九九八十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6" name="Text Box 15"/>
          <p:cNvSpPr/>
          <p:nvPr/>
        </p:nvSpPr>
        <p:spPr>
          <a:xfrm>
            <a:off x="2320920" y="637524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. 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的乘法口诀一共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句，让我们一起来读读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口诀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11280" y="1619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挖掘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原认知，收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835280" y="5772240"/>
            <a:ext cx="633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每句口诀是什么意思，你能任选其中一句，在题纸上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画出它的意思吗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3203640" y="2276640"/>
            <a:ext cx="1944720" cy="3357360"/>
            <a:chOff x="3203640" y="2276640"/>
            <a:chExt cx="1944720" cy="3357360"/>
          </a:xfrm>
        </p:grpSpPr>
        <p:sp>
          <p:nvSpPr>
            <p:cNvPr id="220" name="AutoShape 14"/>
            <p:cNvSpPr/>
            <p:nvPr/>
          </p:nvSpPr>
          <p:spPr>
            <a:xfrm>
              <a:off x="3203640" y="2276640"/>
              <a:ext cx="1911240" cy="3357360"/>
            </a:xfrm>
            <a:custGeom>
              <a:avLst/>
              <a:gdLst>
                <a:gd name="textAreaLeft" fmla="*/ 93240 w 1911240"/>
                <a:gd name="textAreaRight" fmla="*/ 1818000 w 1911240"/>
                <a:gd name="textAreaTop" fmla="*/ 93240 h 3357360"/>
                <a:gd name="textAreaBottom" fmla="*/ 3264120 h 335736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f7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3382920" y="2357280"/>
              <a:ext cx="17654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九得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二九十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三九二十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九三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五九四十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六九五十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七九六十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八九七十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九九八十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2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42"/>
          <p:cNvSpPr/>
          <p:nvPr/>
        </p:nvSpPr>
        <p:spPr>
          <a:xfrm>
            <a:off x="2270160" y="30542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557360" y="4724280"/>
            <a:ext cx="54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他研究的是哪句口诀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340000" y="5157720"/>
            <a:ext cx="40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快说说你是怎么看出来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2332080" y="5589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可以帮我们计算哪个乘法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3708360" y="37242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7    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1547640" y="3716280"/>
            <a:ext cx="22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三九二十七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9" name="Group 67"/>
          <p:cNvGrpSpPr/>
          <p:nvPr/>
        </p:nvGrpSpPr>
        <p:grpSpPr>
          <a:xfrm>
            <a:off x="1692360" y="2846520"/>
            <a:ext cx="5297040" cy="582480"/>
            <a:chOff x="1692360" y="2846520"/>
            <a:chExt cx="5297040" cy="582480"/>
          </a:xfrm>
        </p:grpSpPr>
        <p:grpSp>
          <p:nvGrpSpPr>
            <p:cNvPr id="230" name="Group 46"/>
            <p:cNvGrpSpPr/>
            <p:nvPr/>
          </p:nvGrpSpPr>
          <p:grpSpPr>
            <a:xfrm>
              <a:off x="1692360" y="2846520"/>
              <a:ext cx="1563840" cy="582480"/>
              <a:chOff x="1692360" y="2846520"/>
              <a:chExt cx="1563840" cy="582480"/>
            </a:xfrm>
          </p:grpSpPr>
          <p:sp>
            <p:nvSpPr>
              <p:cNvPr id="231" name="Oval 31"/>
              <p:cNvSpPr/>
              <p:nvPr/>
            </p:nvSpPr>
            <p:spPr>
              <a:xfrm>
                <a:off x="186372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2" name="Oval 32"/>
              <p:cNvSpPr/>
              <p:nvPr/>
            </p:nvSpPr>
            <p:spPr>
              <a:xfrm>
                <a:off x="2178000" y="28465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3" name="Oval 39"/>
              <p:cNvSpPr/>
              <p:nvPr/>
            </p:nvSpPr>
            <p:spPr>
              <a:xfrm>
                <a:off x="250200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4" name="Oval 40"/>
              <p:cNvSpPr/>
              <p:nvPr/>
            </p:nvSpPr>
            <p:spPr>
              <a:xfrm>
                <a:off x="281628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5" name="Oval 41"/>
              <p:cNvSpPr/>
              <p:nvPr/>
            </p:nvSpPr>
            <p:spPr>
              <a:xfrm>
                <a:off x="169236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6" name="Oval 42"/>
              <p:cNvSpPr/>
              <p:nvPr/>
            </p:nvSpPr>
            <p:spPr>
              <a:xfrm>
                <a:off x="200664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7" name="Oval 43"/>
              <p:cNvSpPr/>
              <p:nvPr/>
            </p:nvSpPr>
            <p:spPr>
              <a:xfrm>
                <a:off x="233064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8" name="Oval 44"/>
              <p:cNvSpPr/>
              <p:nvPr/>
            </p:nvSpPr>
            <p:spPr>
              <a:xfrm>
                <a:off x="264492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9" name="Oval 45"/>
              <p:cNvSpPr/>
              <p:nvPr/>
            </p:nvSpPr>
            <p:spPr>
              <a:xfrm>
                <a:off x="2968560" y="31417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0" name="Group 47"/>
            <p:cNvGrpSpPr/>
            <p:nvPr/>
          </p:nvGrpSpPr>
          <p:grpSpPr>
            <a:xfrm>
              <a:off x="3568680" y="2846520"/>
              <a:ext cx="1563840" cy="582480"/>
              <a:chOff x="3568680" y="2846520"/>
              <a:chExt cx="1563840" cy="582480"/>
            </a:xfrm>
          </p:grpSpPr>
          <p:sp>
            <p:nvSpPr>
              <p:cNvPr id="241" name="Oval 48"/>
              <p:cNvSpPr/>
              <p:nvPr/>
            </p:nvSpPr>
            <p:spPr>
              <a:xfrm>
                <a:off x="374004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Oval 49"/>
              <p:cNvSpPr/>
              <p:nvPr/>
            </p:nvSpPr>
            <p:spPr>
              <a:xfrm>
                <a:off x="4054320" y="28465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3" name="Oval 50"/>
              <p:cNvSpPr/>
              <p:nvPr/>
            </p:nvSpPr>
            <p:spPr>
              <a:xfrm>
                <a:off x="437832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4" name="Oval 51"/>
              <p:cNvSpPr/>
              <p:nvPr/>
            </p:nvSpPr>
            <p:spPr>
              <a:xfrm>
                <a:off x="469260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5" name="Oval 52"/>
              <p:cNvSpPr/>
              <p:nvPr/>
            </p:nvSpPr>
            <p:spPr>
              <a:xfrm>
                <a:off x="356868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Oval 53"/>
              <p:cNvSpPr/>
              <p:nvPr/>
            </p:nvSpPr>
            <p:spPr>
              <a:xfrm>
                <a:off x="388296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7" name="Oval 54"/>
              <p:cNvSpPr/>
              <p:nvPr/>
            </p:nvSpPr>
            <p:spPr>
              <a:xfrm>
                <a:off x="420696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8" name="Oval 55"/>
              <p:cNvSpPr/>
              <p:nvPr/>
            </p:nvSpPr>
            <p:spPr>
              <a:xfrm>
                <a:off x="452124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9" name="Oval 56"/>
              <p:cNvSpPr/>
              <p:nvPr/>
            </p:nvSpPr>
            <p:spPr>
              <a:xfrm>
                <a:off x="4844880" y="3141720"/>
                <a:ext cx="28764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0" name="Group 57"/>
            <p:cNvGrpSpPr/>
            <p:nvPr/>
          </p:nvGrpSpPr>
          <p:grpSpPr>
            <a:xfrm>
              <a:off x="5426280" y="2846520"/>
              <a:ext cx="1563120" cy="582480"/>
              <a:chOff x="5426280" y="2846520"/>
              <a:chExt cx="1563120" cy="582480"/>
            </a:xfrm>
          </p:grpSpPr>
          <p:sp>
            <p:nvSpPr>
              <p:cNvPr id="251" name="Oval 58"/>
              <p:cNvSpPr/>
              <p:nvPr/>
            </p:nvSpPr>
            <p:spPr>
              <a:xfrm>
                <a:off x="5597280" y="28465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2" name="Oval 59"/>
              <p:cNvSpPr/>
              <p:nvPr/>
            </p:nvSpPr>
            <p:spPr>
              <a:xfrm>
                <a:off x="5911560" y="28465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3" name="Oval 60"/>
              <p:cNvSpPr/>
              <p:nvPr/>
            </p:nvSpPr>
            <p:spPr>
              <a:xfrm>
                <a:off x="6235560" y="28465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4" name="Oval 61"/>
              <p:cNvSpPr/>
              <p:nvPr/>
            </p:nvSpPr>
            <p:spPr>
              <a:xfrm>
                <a:off x="6549840" y="28465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5" name="Oval 62"/>
              <p:cNvSpPr/>
              <p:nvPr/>
            </p:nvSpPr>
            <p:spPr>
              <a:xfrm>
                <a:off x="5426280" y="31417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6" name="Oval 63"/>
              <p:cNvSpPr/>
              <p:nvPr/>
            </p:nvSpPr>
            <p:spPr>
              <a:xfrm>
                <a:off x="5740200" y="31417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7" name="Oval 64"/>
              <p:cNvSpPr/>
              <p:nvPr/>
            </p:nvSpPr>
            <p:spPr>
              <a:xfrm>
                <a:off x="6064200" y="31417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8" name="Oval 65"/>
              <p:cNvSpPr/>
              <p:nvPr/>
            </p:nvSpPr>
            <p:spPr>
              <a:xfrm>
                <a:off x="6378480" y="3141720"/>
                <a:ext cx="28692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9" name="Oval 66"/>
              <p:cNvSpPr/>
              <p:nvPr/>
            </p:nvSpPr>
            <p:spPr>
              <a:xfrm>
                <a:off x="6702120" y="314172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60" name="Rectangle 68"/>
          <p:cNvSpPr/>
          <p:nvPr/>
        </p:nvSpPr>
        <p:spPr>
          <a:xfrm>
            <a:off x="4410000" y="2276640"/>
            <a:ext cx="31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以三九二十七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70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336600" y="6275520"/>
            <a:ext cx="733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"/>
          <p:cNvSpPr/>
          <p:nvPr/>
        </p:nvSpPr>
        <p:spPr>
          <a:xfrm>
            <a:off x="1557360" y="47181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有同学是这样画的，谁看懂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2332080" y="51498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它表示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Rectangle 44"/>
          <p:cNvSpPr/>
          <p:nvPr/>
        </p:nvSpPr>
        <p:spPr>
          <a:xfrm>
            <a:off x="1546200" y="3716280"/>
            <a:ext cx="21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五九四十五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Rectangle 45"/>
          <p:cNvSpPr/>
          <p:nvPr/>
        </p:nvSpPr>
        <p:spPr>
          <a:xfrm>
            <a:off x="3706920" y="3724200"/>
            <a:ext cx="40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5    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47"/>
          <p:cNvSpPr/>
          <p:nvPr/>
        </p:nvSpPr>
        <p:spPr>
          <a:xfrm>
            <a:off x="2332080" y="55818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可以帮我们计算哪个乘法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9" name="Group 63"/>
          <p:cNvGrpSpPr/>
          <p:nvPr/>
        </p:nvGrpSpPr>
        <p:grpSpPr>
          <a:xfrm>
            <a:off x="2089080" y="2851200"/>
            <a:ext cx="4041720" cy="662040"/>
            <a:chOff x="2089080" y="2851200"/>
            <a:chExt cx="4041720" cy="662040"/>
          </a:xfrm>
        </p:grpSpPr>
        <p:grpSp>
          <p:nvGrpSpPr>
            <p:cNvPr id="270" name="Group 50"/>
            <p:cNvGrpSpPr/>
            <p:nvPr/>
          </p:nvGrpSpPr>
          <p:grpSpPr>
            <a:xfrm>
              <a:off x="2089080" y="2851200"/>
              <a:ext cx="660240" cy="662040"/>
              <a:chOff x="2089080" y="2851200"/>
              <a:chExt cx="660240" cy="662040"/>
            </a:xfrm>
          </p:grpSpPr>
          <p:sp>
            <p:nvSpPr>
              <p:cNvPr id="271" name="WordArt 27"/>
              <p:cNvSpPr txBox="1"/>
              <p:nvPr/>
            </p:nvSpPr>
            <p:spPr>
              <a:xfrm>
                <a:off x="2262240" y="2995560"/>
                <a:ext cx="31572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72" name="Oval 28"/>
              <p:cNvSpPr/>
              <p:nvPr/>
            </p:nvSpPr>
            <p:spPr>
              <a:xfrm>
                <a:off x="208908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3" name="Group 51"/>
            <p:cNvGrpSpPr/>
            <p:nvPr/>
          </p:nvGrpSpPr>
          <p:grpSpPr>
            <a:xfrm>
              <a:off x="2936880" y="2851200"/>
              <a:ext cx="660240" cy="662040"/>
              <a:chOff x="2936880" y="2851200"/>
              <a:chExt cx="660240" cy="662040"/>
            </a:xfrm>
          </p:grpSpPr>
          <p:sp>
            <p:nvSpPr>
              <p:cNvPr id="274" name="WordArt 52"/>
              <p:cNvSpPr txBox="1"/>
              <p:nvPr/>
            </p:nvSpPr>
            <p:spPr>
              <a:xfrm>
                <a:off x="3110040" y="2995560"/>
                <a:ext cx="31572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75" name="Oval 53"/>
              <p:cNvSpPr/>
              <p:nvPr/>
            </p:nvSpPr>
            <p:spPr>
              <a:xfrm>
                <a:off x="293688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6" name="Group 54"/>
            <p:cNvGrpSpPr/>
            <p:nvPr/>
          </p:nvGrpSpPr>
          <p:grpSpPr>
            <a:xfrm>
              <a:off x="3774960" y="2851200"/>
              <a:ext cx="660240" cy="662040"/>
              <a:chOff x="3774960" y="2851200"/>
              <a:chExt cx="660240" cy="662040"/>
            </a:xfrm>
          </p:grpSpPr>
          <p:sp>
            <p:nvSpPr>
              <p:cNvPr id="277" name="WordArt 55"/>
              <p:cNvSpPr txBox="1"/>
              <p:nvPr/>
            </p:nvSpPr>
            <p:spPr>
              <a:xfrm>
                <a:off x="3948120" y="2995560"/>
                <a:ext cx="31572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78" name="Oval 56"/>
              <p:cNvSpPr/>
              <p:nvPr/>
            </p:nvSpPr>
            <p:spPr>
              <a:xfrm>
                <a:off x="377496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9" name="Group 57"/>
            <p:cNvGrpSpPr/>
            <p:nvPr/>
          </p:nvGrpSpPr>
          <p:grpSpPr>
            <a:xfrm>
              <a:off x="4622760" y="2851200"/>
              <a:ext cx="660240" cy="662040"/>
              <a:chOff x="4622760" y="2851200"/>
              <a:chExt cx="660240" cy="662040"/>
            </a:xfrm>
          </p:grpSpPr>
          <p:sp>
            <p:nvSpPr>
              <p:cNvPr id="280" name="WordArt 58"/>
              <p:cNvSpPr txBox="1"/>
              <p:nvPr/>
            </p:nvSpPr>
            <p:spPr>
              <a:xfrm>
                <a:off x="4795920" y="2995560"/>
                <a:ext cx="31572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81" name="Oval 59"/>
              <p:cNvSpPr/>
              <p:nvPr/>
            </p:nvSpPr>
            <p:spPr>
              <a:xfrm>
                <a:off x="462276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82" name="Group 60"/>
            <p:cNvGrpSpPr/>
            <p:nvPr/>
          </p:nvGrpSpPr>
          <p:grpSpPr>
            <a:xfrm>
              <a:off x="5470560" y="2851200"/>
              <a:ext cx="660240" cy="662040"/>
              <a:chOff x="5470560" y="2851200"/>
              <a:chExt cx="660240" cy="662040"/>
            </a:xfrm>
          </p:grpSpPr>
          <p:sp>
            <p:nvSpPr>
              <p:cNvPr id="283" name="WordArt 61"/>
              <p:cNvSpPr txBox="1"/>
              <p:nvPr/>
            </p:nvSpPr>
            <p:spPr>
              <a:xfrm>
                <a:off x="5643720" y="2995560"/>
                <a:ext cx="31572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84" name="Oval 62"/>
              <p:cNvSpPr/>
              <p:nvPr/>
            </p:nvSpPr>
            <p:spPr>
              <a:xfrm>
                <a:off x="5470560" y="2851200"/>
                <a:ext cx="660240" cy="66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85" name="Rectangle 64"/>
          <p:cNvSpPr/>
          <p:nvPr/>
        </p:nvSpPr>
        <p:spPr>
          <a:xfrm>
            <a:off x="4410000" y="2276640"/>
            <a:ext cx="31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以五九四十五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67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1546200" y="4718160"/>
            <a:ext cx="67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看懂这幅图吗？说说什么意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332080" y="5149800"/>
            <a:ext cx="40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它表示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3065040" y="5580720"/>
            <a:ext cx="29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可以计算哪个乘法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Rectangle 38"/>
          <p:cNvSpPr/>
          <p:nvPr/>
        </p:nvSpPr>
        <p:spPr>
          <a:xfrm>
            <a:off x="1546200" y="3716280"/>
            <a:ext cx="235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四九三十六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Rectangle 39"/>
          <p:cNvSpPr/>
          <p:nvPr/>
        </p:nvSpPr>
        <p:spPr>
          <a:xfrm>
            <a:off x="3706920" y="3724200"/>
            <a:ext cx="410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6  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Rectangle 43"/>
          <p:cNvSpPr/>
          <p:nvPr/>
        </p:nvSpPr>
        <p:spPr>
          <a:xfrm>
            <a:off x="4410000" y="2276640"/>
            <a:ext cx="31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以四九三十六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4" name="Group 91"/>
          <p:cNvGrpSpPr/>
          <p:nvPr/>
        </p:nvGrpSpPr>
        <p:grpSpPr>
          <a:xfrm>
            <a:off x="1590840" y="2565360"/>
            <a:ext cx="5271840" cy="1011240"/>
            <a:chOff x="1590840" y="2565360"/>
            <a:chExt cx="5271840" cy="1011240"/>
          </a:xfrm>
        </p:grpSpPr>
        <p:sp>
          <p:nvSpPr>
            <p:cNvPr id="295" name="Line 44"/>
            <p:cNvSpPr/>
            <p:nvPr/>
          </p:nvSpPr>
          <p:spPr>
            <a:xfrm>
              <a:off x="1590840" y="3576600"/>
              <a:ext cx="527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6" name="Line 46"/>
            <p:cNvSpPr/>
            <p:nvPr/>
          </p:nvSpPr>
          <p:spPr>
            <a:xfrm>
              <a:off x="1593720" y="343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7" name="Line 47"/>
            <p:cNvSpPr/>
            <p:nvPr/>
          </p:nvSpPr>
          <p:spPr>
            <a:xfrm>
              <a:off x="2911320" y="343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8" name="Group 56"/>
            <p:cNvGrpSpPr/>
            <p:nvPr/>
          </p:nvGrpSpPr>
          <p:grpSpPr>
            <a:xfrm>
              <a:off x="1647720" y="2565360"/>
              <a:ext cx="1208520" cy="916920"/>
              <a:chOff x="1647720" y="2565360"/>
              <a:chExt cx="1208520" cy="916920"/>
            </a:xfrm>
          </p:grpSpPr>
          <p:sp>
            <p:nvSpPr>
              <p:cNvPr id="299" name="AutoShape 19"/>
              <p:cNvSpPr/>
              <p:nvPr/>
            </p:nvSpPr>
            <p:spPr>
              <a:xfrm>
                <a:off x="1647720" y="3178080"/>
                <a:ext cx="304560" cy="30420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1947600" y="3178080"/>
                <a:ext cx="304560" cy="30420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1" name="AutoShape 49"/>
              <p:cNvSpPr/>
              <p:nvPr/>
            </p:nvSpPr>
            <p:spPr>
              <a:xfrm>
                <a:off x="2252520" y="3178080"/>
                <a:ext cx="303840" cy="30420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AutoShape 50"/>
              <p:cNvSpPr/>
              <p:nvPr/>
            </p:nvSpPr>
            <p:spPr>
              <a:xfrm>
                <a:off x="2552400" y="3178080"/>
                <a:ext cx="303840" cy="30420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AutoShape 51"/>
              <p:cNvSpPr/>
              <p:nvPr/>
            </p:nvSpPr>
            <p:spPr>
              <a:xfrm>
                <a:off x="1647720" y="2874240"/>
                <a:ext cx="304560" cy="30384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AutoShape 52"/>
              <p:cNvSpPr/>
              <p:nvPr/>
            </p:nvSpPr>
            <p:spPr>
              <a:xfrm>
                <a:off x="1947600" y="2874240"/>
                <a:ext cx="304560" cy="30384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AutoShape 53"/>
              <p:cNvSpPr/>
              <p:nvPr/>
            </p:nvSpPr>
            <p:spPr>
              <a:xfrm>
                <a:off x="2252520" y="2874240"/>
                <a:ext cx="303840" cy="30384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AutoShape 54"/>
              <p:cNvSpPr/>
              <p:nvPr/>
            </p:nvSpPr>
            <p:spPr>
              <a:xfrm>
                <a:off x="2552400" y="2874240"/>
                <a:ext cx="303840" cy="30384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AutoShape 55"/>
              <p:cNvSpPr/>
              <p:nvPr/>
            </p:nvSpPr>
            <p:spPr>
              <a:xfrm>
                <a:off x="2099880" y="2565360"/>
                <a:ext cx="303840" cy="304200"/>
              </a:xfrm>
              <a:prstGeom prst="triangle">
                <a:avLst>
                  <a:gd name="adj" fmla="val 50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8" name="Line 67"/>
            <p:cNvSpPr/>
            <p:nvPr/>
          </p:nvSpPr>
          <p:spPr>
            <a:xfrm>
              <a:off x="4219560" y="343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Line 79"/>
            <p:cNvSpPr/>
            <p:nvPr/>
          </p:nvSpPr>
          <p:spPr>
            <a:xfrm>
              <a:off x="5537160" y="343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Line 90"/>
            <p:cNvSpPr/>
            <p:nvPr/>
          </p:nvSpPr>
          <p:spPr>
            <a:xfrm>
              <a:off x="6857640" y="343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11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Text Box 94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611280" y="5300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们能用这幅图说明其他口诀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1384200" y="569520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到前面边指着图边说说他的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6173640" y="5300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以六九五十四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013840" y="609192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可以计算哪个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1835280" y="422100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六九五十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3905280" y="42339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   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9" name="Picture 27" descr="4"/>
          <p:cNvPicPr/>
          <p:nvPr/>
        </p:nvPicPr>
        <p:blipFill>
          <a:blip r:embed="rId2"/>
          <a:stretch/>
        </p:blipFill>
        <p:spPr>
          <a:xfrm>
            <a:off x="1730520" y="1916280"/>
            <a:ext cx="5263920" cy="253044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"/>
          <p:cNvSpPr/>
          <p:nvPr/>
        </p:nvSpPr>
        <p:spPr>
          <a:xfrm>
            <a:off x="2076480" y="2770200"/>
            <a:ext cx="4949640" cy="1336680"/>
          </a:xfrm>
          <a:custGeom>
            <a:avLst/>
            <a:gdLst/>
            <a:ahLst/>
            <a:rect l="l" t="t" r="r" b="b"/>
            <a:pathLst>
              <a:path w="3280" h="887">
                <a:moveTo>
                  <a:pt x="69" y="253"/>
                </a:moveTo>
                <a:cubicBezTo>
                  <a:pt x="138" y="141"/>
                  <a:pt x="462" y="102"/>
                  <a:pt x="639" y="73"/>
                </a:cubicBezTo>
                <a:cubicBezTo>
                  <a:pt x="816" y="44"/>
                  <a:pt x="937" y="91"/>
                  <a:pt x="1131" y="79"/>
                </a:cubicBezTo>
                <a:cubicBezTo>
                  <a:pt x="1325" y="67"/>
                  <a:pt x="1478" y="0"/>
                  <a:pt x="1803" y="1"/>
                </a:cubicBezTo>
                <a:cubicBezTo>
                  <a:pt x="2128" y="2"/>
                  <a:pt x="2882" y="1"/>
                  <a:pt x="3081" y="85"/>
                </a:cubicBezTo>
                <a:cubicBezTo>
                  <a:pt x="3280" y="169"/>
                  <a:pt x="3149" y="391"/>
                  <a:pt x="2997" y="505"/>
                </a:cubicBezTo>
                <a:cubicBezTo>
                  <a:pt x="2845" y="619"/>
                  <a:pt x="2473" y="706"/>
                  <a:pt x="2169" y="769"/>
                </a:cubicBezTo>
                <a:cubicBezTo>
                  <a:pt x="1865" y="832"/>
                  <a:pt x="1497" y="887"/>
                  <a:pt x="1173" y="883"/>
                </a:cubicBezTo>
                <a:cubicBezTo>
                  <a:pt x="849" y="879"/>
                  <a:pt x="406" y="851"/>
                  <a:pt x="222" y="746"/>
                </a:cubicBezTo>
                <a:cubicBezTo>
                  <a:pt x="38" y="641"/>
                  <a:pt x="0" y="365"/>
                  <a:pt x="69" y="253"/>
                </a:cubicBezTo>
                <a:close/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1384200" y="5157000"/>
            <a:ext cx="70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不用龙舟图了，你能直接说说剩下每句口诀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2013840" y="553644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可以计算哪个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234040" y="55357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以七九六十三为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1835280" y="4653000"/>
            <a:ext cx="22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七九六十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3905280" y="46656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3   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2396160" y="591228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有一些口诀呢，能说说这些口诀表示的意思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可以计算哪个算式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835280" y="422100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六九五十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3905280" y="42339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   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1" name="Picture 24" descr="4"/>
          <p:cNvPicPr/>
          <p:nvPr/>
        </p:nvPicPr>
        <p:blipFill>
          <a:blip r:embed="rId2"/>
          <a:stretch/>
        </p:blipFill>
        <p:spPr>
          <a:xfrm>
            <a:off x="1730520" y="1916280"/>
            <a:ext cx="5263920" cy="253044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25"/>
          <p:cNvSpPr/>
          <p:nvPr/>
        </p:nvSpPr>
        <p:spPr>
          <a:xfrm>
            <a:off x="2076480" y="2770200"/>
            <a:ext cx="4949640" cy="1336680"/>
          </a:xfrm>
          <a:custGeom>
            <a:avLst/>
            <a:gdLst/>
            <a:ahLst/>
            <a:rect l="l" t="t" r="r" b="b"/>
            <a:pathLst>
              <a:path w="3280" h="887">
                <a:moveTo>
                  <a:pt x="69" y="253"/>
                </a:moveTo>
                <a:cubicBezTo>
                  <a:pt x="138" y="141"/>
                  <a:pt x="462" y="102"/>
                  <a:pt x="639" y="73"/>
                </a:cubicBezTo>
                <a:cubicBezTo>
                  <a:pt x="816" y="44"/>
                  <a:pt x="937" y="91"/>
                  <a:pt x="1131" y="79"/>
                </a:cubicBezTo>
                <a:cubicBezTo>
                  <a:pt x="1325" y="67"/>
                  <a:pt x="1478" y="0"/>
                  <a:pt x="1803" y="1"/>
                </a:cubicBezTo>
                <a:cubicBezTo>
                  <a:pt x="2128" y="2"/>
                  <a:pt x="2882" y="1"/>
                  <a:pt x="3081" y="85"/>
                </a:cubicBezTo>
                <a:cubicBezTo>
                  <a:pt x="3280" y="169"/>
                  <a:pt x="3149" y="391"/>
                  <a:pt x="2997" y="505"/>
                </a:cubicBezTo>
                <a:cubicBezTo>
                  <a:pt x="2845" y="619"/>
                  <a:pt x="2473" y="706"/>
                  <a:pt x="2169" y="769"/>
                </a:cubicBezTo>
                <a:cubicBezTo>
                  <a:pt x="1865" y="832"/>
                  <a:pt x="1497" y="887"/>
                  <a:pt x="1173" y="883"/>
                </a:cubicBezTo>
                <a:cubicBezTo>
                  <a:pt x="849" y="879"/>
                  <a:pt x="406" y="851"/>
                  <a:pt x="222" y="746"/>
                </a:cubicBezTo>
                <a:cubicBezTo>
                  <a:pt x="38" y="641"/>
                  <a:pt x="0" y="365"/>
                  <a:pt x="69" y="253"/>
                </a:cubicBezTo>
                <a:close/>
              </a:path>
            </a:pathLst>
          </a:custGeom>
          <a:noFill/>
          <a:ln w="316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458640" y="417600"/>
            <a:ext cx="6850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611280" y="161928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二）理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的意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0:53Z</dcterms:modified>
  <cp:revision>5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