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jpeg" ContentType="image/jpeg"/>
  <Override PartName="/ppt/media/image6.gif" ContentType="image/gif"/>
  <Override PartName="/ppt/media/image7.png" ContentType="image/png"/>
  <Override PartName="/ppt/media/image8.gif" ContentType="image/gif"/>
  <Override PartName="/ppt/media/image9.gif" ContentType="image/gif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6494-304A-4D17-B0F4-DDEF315E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77CF-BD91-4379-9B1B-803BC5FC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13E4-A565-4FA1-8DAB-892C5D62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6E730-8D33-45F0-890A-B4F14E98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41E4-A4F0-41AF-92A4-714DEA94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3E9B-CAA3-4182-B2A7-A6CE7958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ADA4-03AB-422F-8220-87CF3BF4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2F4C-C65A-472E-8AF9-3A8F893A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114E-4E05-4007-A501-925905A3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C786-DB1B-402F-9D0B-4BD17469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208C-C9EF-4D04-9A24-48653635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053D-9373-4C99-8510-6E525FDA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8512-03D4-4B22-9C80-0DED3C9E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1BCC-14D2-476E-8EDD-B06738CF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A570-C8EA-473F-A4C6-68EB407A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D563-55BD-464E-BB64-FDF95D93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52EC-DFD7-454B-8F72-0A3CCA0A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3293-03D3-44D4-BAA0-3B1869F5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1FDC-DA51-4639-B569-D2C8A797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3337-B9AC-424F-B9A1-AECA1E12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61FB4-E267-4660-A98F-96AA97A2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B9D83-A484-4A98-8475-3B850351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543EE-F20F-443D-8A85-F62CD6FC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FA60-B871-4C9A-A445-45F460FC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655B5-38A6-463F-8A6E-7166740C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976D8-F1E5-4EF8-85B0-5339094D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D940-DEFA-4C07-B9C4-FBCC5567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3B0E-CEA5-46E8-9BDA-EFF809B0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E609-C36B-4321-A2BD-8CA5339A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C9A52-0049-42FF-9574-E4E35EBC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5FCE-2DF4-42DD-8770-12E9ACAE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9F9F-B73C-4E61-81EF-3621A41A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62EDC-5C54-4772-A71C-A7E96735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1D36-776F-4CBB-88FC-715B6392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3037B-EC52-461A-88E7-2154F8DA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3C7C8-B0A1-49D2-BEB7-0A600562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F7D63-2DBD-425D-AE74-B5A7115C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4DD81-5254-44A2-A2AB-79FEAE1B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4591-3ACA-4B28-A1D4-5B212B94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7946-3B94-4887-8D0B-40404090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C50B6-3101-468D-838A-32E56E94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32FD6-5A0B-444A-B697-3034D533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C9CB5-BCFE-47AF-A359-D84D4EB1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2C0DB-8296-416C-87BE-3C215BD9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73A56-3B06-4EF5-B6D2-411C1D3D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7EBD5-C6D3-4940-91AA-19681159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72CAB-710F-438F-8BAB-FD12AEAA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EC20-89E2-40F1-8065-9A3A5C3D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7F899-7053-40DF-9B92-8E6CB138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2400C-9EEF-4348-A82B-03832626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CFF29-9F4D-44B7-8FD5-DFC8ABF0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D2A7A-E596-4B90-A647-A03CB29F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3E2B7-A6FE-4748-AA54-A4927C01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59AB0-CCF2-47AE-98D0-19F2B17C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E2D7A-8E5D-4634-A092-9D8D1735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B846-855A-4150-943C-F519CC1E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94DEE-7A5F-4BE4-BE16-7FF18B34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A829-93D7-4E59-85B0-79F71BFE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B6916-3395-484A-9145-53241C3A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9FA3F-F099-43C3-A48A-09472992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1520D-9C76-46FD-8754-796A812E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6BFC1-85AB-4691-86B8-9E9C8FBE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43CF7-4BBC-45E3-9CEB-E964C56E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477D3-585C-48D3-B2F5-F42AE9B4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06372-C764-4647-A952-B486EC6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2E76-81CB-420D-8023-310A0DF4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C572-4437-4367-AF4A-297DA6F8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D995A-7AF0-4A31-BF87-0F0A3981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7649F-53B8-400D-9489-C1A12D1F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32772-1E68-4135-A7D2-4F7C8C8F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EBDE0-8822-46E5-9F3C-1EB9FF26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8AF70-A84D-4027-A722-FB294754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BEEBC-C809-4E8D-AF64-A471961C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3E302-322C-443E-96D4-7988AD25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0365D-82E3-4CBD-AA6F-DE88E4C6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FE577-A874-4BF2-B02B-82744FEB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D6ACF-73F6-401D-89A4-18DCF509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49413-4A38-4CF2-8311-430B6BC9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566EF-6137-444D-A580-C52BF099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44AB1-1AB8-47B6-B5B1-4BB2D5CF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76267-84A6-4D76-9CF6-98C5AA5F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A659E-E411-4779-9B09-7A4DDF1F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C8D0F-284C-43E7-9D0D-DD977469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4835-2EBA-4F32-9F1E-222EDBCF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80808"/>
                </a:gs>
                <a:gs pos="50000">
                  <a:srgbClr val="000000"/>
                </a:gs>
                <a:gs pos="100000">
                  <a:srgbClr val="0808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0CBE-4095-4528-BF3F-771381A08AEC}" type="slidenum"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5" name="Freeform 4"/>
              <p:cNvSpPr/>
              <p:nvPr/>
            </p:nvSpPr>
            <p:spPr>
              <a:xfrm>
                <a:off x="2220840" y="1771560"/>
                <a:ext cx="446868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384120" y="1817640"/>
                <a:ext cx="875016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3755880" y="1693800"/>
                <a:ext cx="222084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6786360" y="3224160"/>
                <a:ext cx="199404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>
                <a:off x="7864560" y="5664240"/>
                <a:ext cx="102528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7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9" name="Rectangle 18"/>
              <p:cNvSpPr/>
              <p:nvPr/>
            </p:nvSpPr>
            <p:spPr>
              <a:xfrm rot="6798600">
                <a:off x="95400" y="61603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0" name="Rectangle 19"/>
              <p:cNvSpPr/>
              <p:nvPr/>
            </p:nvSpPr>
            <p:spPr>
              <a:xfrm rot="6798600">
                <a:off x="49320" y="6155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1" name="Rectangle 20"/>
              <p:cNvSpPr/>
              <p:nvPr/>
            </p:nvSpPr>
            <p:spPr>
              <a:xfrm rot="6798600">
                <a:off x="6480" y="6147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2" name="Rectangle 21"/>
              <p:cNvSpPr/>
              <p:nvPr/>
            </p:nvSpPr>
            <p:spPr>
              <a:xfrm rot="5999400">
                <a:off x="32904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3" name="Rectangle 22"/>
              <p:cNvSpPr/>
              <p:nvPr/>
            </p:nvSpPr>
            <p:spPr>
              <a:xfrm rot="5999400">
                <a:off x="28620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4" name="Rectangle 23"/>
              <p:cNvSpPr/>
              <p:nvPr/>
            </p:nvSpPr>
            <p:spPr>
              <a:xfrm rot="6249600">
                <a:off x="238320" y="6168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5" name="Rectangle 24"/>
              <p:cNvSpPr/>
              <p:nvPr/>
            </p:nvSpPr>
            <p:spPr>
              <a:xfrm rot="6237600">
                <a:off x="192240" y="61650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6" name="Rectangle 25"/>
              <p:cNvSpPr/>
              <p:nvPr/>
            </p:nvSpPr>
            <p:spPr>
              <a:xfrm rot="5380200">
                <a:off x="573480" y="61380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7" name="Rectangle 26"/>
              <p:cNvSpPr/>
              <p:nvPr/>
            </p:nvSpPr>
            <p:spPr>
              <a:xfrm rot="5380200">
                <a:off x="524160" y="6142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8" name="Rectangle 27"/>
              <p:cNvSpPr/>
              <p:nvPr/>
            </p:nvSpPr>
            <p:spPr>
              <a:xfrm rot="5583000">
                <a:off x="476640" y="615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" name="Rectangle 28"/>
              <p:cNvSpPr/>
              <p:nvPr/>
            </p:nvSpPr>
            <p:spPr>
              <a:xfrm rot="5737200">
                <a:off x="425880" y="61585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" name="Rectangle 29"/>
              <p:cNvSpPr/>
              <p:nvPr/>
            </p:nvSpPr>
            <p:spPr>
              <a:xfrm rot="4715400">
                <a:off x="816120" y="607464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1" name="Rectangle 30"/>
              <p:cNvSpPr/>
              <p:nvPr/>
            </p:nvSpPr>
            <p:spPr>
              <a:xfrm rot="4924800">
                <a:off x="768600" y="60825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2" name="Rectangle 31"/>
              <p:cNvSpPr/>
              <p:nvPr/>
            </p:nvSpPr>
            <p:spPr>
              <a:xfrm rot="4924800">
                <a:off x="721080" y="6104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3" name="Rectangle 32"/>
              <p:cNvSpPr/>
              <p:nvPr/>
            </p:nvSpPr>
            <p:spPr>
              <a:xfrm rot="5041200">
                <a:off x="673200" y="61095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4" name="Rectangle 33"/>
              <p:cNvSpPr/>
              <p:nvPr/>
            </p:nvSpPr>
            <p:spPr>
              <a:xfrm rot="3816600">
                <a:off x="1051560" y="5968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5" name="Rectangle 34"/>
              <p:cNvSpPr/>
              <p:nvPr/>
            </p:nvSpPr>
            <p:spPr>
              <a:xfrm rot="3816600">
                <a:off x="1004040" y="59968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6" name="Rectangle 35"/>
              <p:cNvSpPr/>
              <p:nvPr/>
            </p:nvSpPr>
            <p:spPr>
              <a:xfrm rot="4104000">
                <a:off x="957600" y="60141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7" name="Rectangle 36"/>
              <p:cNvSpPr/>
              <p:nvPr/>
            </p:nvSpPr>
            <p:spPr>
              <a:xfrm rot="4324800">
                <a:off x="909720" y="6034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8" name="Rectangle 37"/>
              <p:cNvSpPr/>
              <p:nvPr/>
            </p:nvSpPr>
            <p:spPr>
              <a:xfrm rot="3367800">
                <a:off x="1265400" y="5842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9" name="Rectangle 38"/>
              <p:cNvSpPr/>
              <p:nvPr/>
            </p:nvSpPr>
            <p:spPr>
              <a:xfrm rot="3367800">
                <a:off x="1222560" y="5868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0" name="Rectangle 39"/>
              <p:cNvSpPr/>
              <p:nvPr/>
            </p:nvSpPr>
            <p:spPr>
              <a:xfrm rot="3367800">
                <a:off x="1179720" y="5896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1" name="Rectangle 40"/>
              <p:cNvSpPr/>
              <p:nvPr/>
            </p:nvSpPr>
            <p:spPr>
              <a:xfrm rot="3816600">
                <a:off x="1135800" y="5923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3" name="Rectangle 42"/>
              <p:cNvSpPr/>
              <p:nvPr/>
            </p:nvSpPr>
            <p:spPr>
              <a:xfrm rot="2302200">
                <a:off x="1426680" y="5724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" name="Rectangle 43"/>
              <p:cNvSpPr/>
              <p:nvPr/>
            </p:nvSpPr>
            <p:spPr>
              <a:xfrm rot="2707200">
                <a:off x="1387800" y="57524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" name="Rectangle 44"/>
              <p:cNvSpPr/>
              <p:nvPr/>
            </p:nvSpPr>
            <p:spPr>
              <a:xfrm rot="2707200">
                <a:off x="1346400" y="5780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" name="Rectangle 52"/>
              <p:cNvSpPr/>
              <p:nvPr/>
            </p:nvSpPr>
            <p:spPr>
              <a:xfrm rot="1308600">
                <a:off x="1689120" y="543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" name="Rectangle 53"/>
              <p:cNvSpPr/>
              <p:nvPr/>
            </p:nvSpPr>
            <p:spPr>
              <a:xfrm rot="469800">
                <a:off x="1860120" y="51199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55"/>
              <p:cNvSpPr/>
              <p:nvPr/>
            </p:nvSpPr>
            <p:spPr>
              <a:xfrm rot="733800">
                <a:off x="1832040" y="52009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57"/>
              <p:cNvSpPr/>
              <p:nvPr/>
            </p:nvSpPr>
            <p:spPr>
              <a:xfrm rot="21306000">
                <a:off x="1922040" y="491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59"/>
              <p:cNvSpPr/>
              <p:nvPr/>
            </p:nvSpPr>
            <p:spPr>
              <a:xfrm rot="21599400"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62"/>
              <p:cNvSpPr/>
              <p:nvPr/>
            </p:nvSpPr>
            <p:spPr>
              <a:xfrm rot="21119400">
                <a:off x="1936440" y="4748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63"/>
              <p:cNvSpPr/>
              <p:nvPr/>
            </p:nvSpPr>
            <p:spPr>
              <a:xfrm rot="21119400">
                <a:off x="1936440" y="47865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" name="Rectangle 66"/>
              <p:cNvSpPr/>
              <p:nvPr/>
            </p:nvSpPr>
            <p:spPr>
              <a:xfrm rot="20630400">
                <a:off x="1925280" y="4546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8" name="Rectangle 67"/>
              <p:cNvSpPr/>
              <p:nvPr/>
            </p:nvSpPr>
            <p:spPr>
              <a:xfrm rot="20630400">
                <a:off x="1929960" y="458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9" name="Rectangle 68"/>
              <p:cNvSpPr/>
              <p:nvPr/>
            </p:nvSpPr>
            <p:spPr>
              <a:xfrm rot="20793600">
                <a:off x="1934640" y="462780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0" name="Rectangle 69"/>
              <p:cNvSpPr/>
              <p:nvPr/>
            </p:nvSpPr>
            <p:spPr>
              <a:xfrm rot="20055600">
                <a:off x="1849320" y="432900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1" name="Rectangle 70"/>
              <p:cNvSpPr/>
              <p:nvPr/>
            </p:nvSpPr>
            <p:spPr>
              <a:xfrm rot="20257800">
                <a:off x="1866600" y="4368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3" name="Rectangle 72"/>
              <p:cNvSpPr/>
              <p:nvPr/>
            </p:nvSpPr>
            <p:spPr>
              <a:xfrm rot="20257800">
                <a:off x="1895040" y="44370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1" name="Rectangle 80"/>
              <p:cNvSpPr/>
              <p:nvPr/>
            </p:nvSpPr>
            <p:spPr>
              <a:xfrm rot="19257600">
                <a:off x="1695600" y="411156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3" name="Rectangle 82"/>
              <p:cNvSpPr/>
              <p:nvPr/>
            </p:nvSpPr>
            <p:spPr>
              <a:xfrm rot="6575400">
                <a:off x="-344520" y="498132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5" name="Rectangle 84"/>
              <p:cNvSpPr/>
              <p:nvPr/>
            </p:nvSpPr>
            <p:spPr>
              <a:xfrm rot="18642600">
                <a:off x="1437120" y="392220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6" name="Rectangle 85"/>
              <p:cNvSpPr/>
              <p:nvPr/>
            </p:nvSpPr>
            <p:spPr>
              <a:xfrm rot="18642600">
                <a:off x="1473840" y="394236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" name="Rectangle 88"/>
              <p:cNvSpPr/>
              <p:nvPr/>
            </p:nvSpPr>
            <p:spPr>
              <a:xfrm rot="17961000">
                <a:off x="1248120" y="3846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" name="Rectangle 89"/>
              <p:cNvSpPr/>
              <p:nvPr/>
            </p:nvSpPr>
            <p:spPr>
              <a:xfrm rot="17961000">
                <a:off x="1290960" y="38599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" name="Rectangle 90"/>
              <p:cNvSpPr/>
              <p:nvPr/>
            </p:nvSpPr>
            <p:spPr>
              <a:xfrm rot="18085200">
                <a:off x="1326240" y="3870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" name="Rectangle 91"/>
              <p:cNvSpPr/>
              <p:nvPr/>
            </p:nvSpPr>
            <p:spPr>
              <a:xfrm rot="18379200">
                <a:off x="1366200" y="38898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" name="Rectangle 92"/>
              <p:cNvSpPr/>
              <p:nvPr/>
            </p:nvSpPr>
            <p:spPr>
              <a:xfrm rot="17261400">
                <a:off x="1027800" y="37990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" name="Rectangle 93"/>
              <p:cNvSpPr/>
              <p:nvPr/>
            </p:nvSpPr>
            <p:spPr>
              <a:xfrm rot="17349600">
                <a:off x="1072440" y="38091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" name="Rectangle 94"/>
              <p:cNvSpPr/>
              <p:nvPr/>
            </p:nvSpPr>
            <p:spPr>
              <a:xfrm rot="17349600">
                <a:off x="1119960" y="3817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" name="Rectangle 95"/>
              <p:cNvSpPr/>
              <p:nvPr/>
            </p:nvSpPr>
            <p:spPr>
              <a:xfrm rot="17611200">
                <a:off x="1167120" y="3823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" name="Rectangle 96"/>
              <p:cNvSpPr/>
              <p:nvPr/>
            </p:nvSpPr>
            <p:spPr>
              <a:xfrm rot="16737600">
                <a:off x="795960" y="37980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" name="Rectangle 97"/>
              <p:cNvSpPr/>
              <p:nvPr/>
            </p:nvSpPr>
            <p:spPr>
              <a:xfrm rot="16926600">
                <a:off x="843840" y="3794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Rectangle 98"/>
              <p:cNvSpPr/>
              <p:nvPr/>
            </p:nvSpPr>
            <p:spPr>
              <a:xfrm rot="16953000">
                <a:off x="891360" y="3790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" name="Rectangle 99"/>
              <p:cNvSpPr/>
              <p:nvPr/>
            </p:nvSpPr>
            <p:spPr>
              <a:xfrm rot="17019600">
                <a:off x="940680" y="3791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1" name="Rectangle 100"/>
              <p:cNvSpPr/>
              <p:nvPr/>
            </p:nvSpPr>
            <p:spPr>
              <a:xfrm rot="16404600">
                <a:off x="560880" y="382824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2" name="Rectangle 101"/>
              <p:cNvSpPr/>
              <p:nvPr/>
            </p:nvSpPr>
            <p:spPr>
              <a:xfrm rot="16239000">
                <a:off x="608760" y="3820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3" name="Rectangle 102"/>
              <p:cNvSpPr/>
              <p:nvPr/>
            </p:nvSpPr>
            <p:spPr>
              <a:xfrm rot="16311000">
                <a:off x="660960" y="381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4" name="Rectangle 103"/>
              <p:cNvSpPr/>
              <p:nvPr/>
            </p:nvSpPr>
            <p:spPr>
              <a:xfrm rot="16434600">
                <a:off x="710280" y="380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5" name="Rectangle 104"/>
              <p:cNvSpPr/>
              <p:nvPr/>
            </p:nvSpPr>
            <p:spPr>
              <a:xfrm rot="15467400">
                <a:off x="324360" y="3898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6" name="Rectangle 105"/>
              <p:cNvSpPr/>
              <p:nvPr/>
            </p:nvSpPr>
            <p:spPr>
              <a:xfrm rot="15379200">
                <a:off x="373680" y="3882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7" name="Rectangle 106"/>
              <p:cNvSpPr/>
              <p:nvPr/>
            </p:nvSpPr>
            <p:spPr>
              <a:xfrm rot="15489000">
                <a:off x="419760" y="38664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Rectangle 107"/>
              <p:cNvSpPr/>
              <p:nvPr/>
            </p:nvSpPr>
            <p:spPr>
              <a:xfrm rot="15680400">
                <a:off x="461160" y="3848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9" name="Rectangle 108"/>
              <p:cNvSpPr/>
              <p:nvPr/>
            </p:nvSpPr>
            <p:spPr>
              <a:xfrm rot="14223600">
                <a:off x="5400" y="404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0" name="Rectangle 109"/>
              <p:cNvSpPr/>
              <p:nvPr/>
            </p:nvSpPr>
            <p:spPr>
              <a:xfrm rot="14431200">
                <a:off x="99000" y="399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1" name="Rectangle 110"/>
              <p:cNvSpPr/>
              <p:nvPr/>
            </p:nvSpPr>
            <p:spPr>
              <a:xfrm rot="14797200">
                <a:off x="143280" y="396828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2" name="Rectangle 111"/>
              <p:cNvSpPr/>
              <p:nvPr/>
            </p:nvSpPr>
            <p:spPr>
              <a:xfrm rot="14797200">
                <a:off x="186480" y="3952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Rectangle 112"/>
              <p:cNvSpPr/>
              <p:nvPr/>
            </p:nvSpPr>
            <p:spPr>
              <a:xfrm rot="15142200">
                <a:off x="235440" y="392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6" name="Rectangle 115"/>
              <p:cNvSpPr/>
              <p:nvPr/>
            </p:nvSpPr>
            <p:spPr>
              <a:xfrm rot="3283800">
                <a:off x="54720" y="44420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8" name="Rectangle 117"/>
              <p:cNvSpPr/>
              <p:nvPr/>
            </p:nvSpPr>
            <p:spPr>
              <a:xfrm rot="5908800">
                <a:off x="317160" y="62150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Rectangle 119"/>
              <p:cNvSpPr/>
              <p:nvPr/>
            </p:nvSpPr>
            <p:spPr>
              <a:xfrm rot="5245200">
                <a:off x="572400" y="61801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2" name="Rectangle 121"/>
              <p:cNvSpPr/>
              <p:nvPr/>
            </p:nvSpPr>
            <p:spPr>
              <a:xfrm rot="3805200">
                <a:off x="1063080" y="59976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3" name="Rectangle 122"/>
              <p:cNvSpPr/>
              <p:nvPr/>
            </p:nvSpPr>
            <p:spPr>
              <a:xfrm rot="3060000">
                <a:off x="1290240" y="58546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5" name="Rectangle 124"/>
              <p:cNvSpPr/>
              <p:nvPr/>
            </p:nvSpPr>
            <p:spPr>
              <a:xfrm rot="14431200">
                <a:off x="-28440" y="39783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Rectangle 125"/>
              <p:cNvSpPr/>
              <p:nvPr/>
            </p:nvSpPr>
            <p:spPr>
              <a:xfrm rot="15193200">
                <a:off x="215640" y="38624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7" name="Rectangle 126"/>
              <p:cNvSpPr/>
              <p:nvPr/>
            </p:nvSpPr>
            <p:spPr>
              <a:xfrm rot="16629000">
                <a:off x="709200" y="37522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Rectangle 128"/>
              <p:cNvSpPr/>
              <p:nvPr/>
            </p:nvSpPr>
            <p:spPr>
              <a:xfrm rot="17923200">
                <a:off x="1170360" y="378360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0" name="Rectangle 129"/>
              <p:cNvSpPr/>
              <p:nvPr/>
            </p:nvSpPr>
            <p:spPr>
              <a:xfrm rot="18411000">
                <a:off x="1376640" y="385344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3" name="Rectangle 132"/>
              <p:cNvSpPr/>
              <p:nvPr/>
            </p:nvSpPr>
            <p:spPr>
              <a:xfrm rot="19871400">
                <a:off x="1820880" y="42674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4" name="Rectangle 133"/>
              <p:cNvSpPr/>
              <p:nvPr/>
            </p:nvSpPr>
            <p:spPr>
              <a:xfrm rot="20427600">
                <a:off x="1901520" y="4453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5" name="Rectangle 134"/>
              <p:cNvSpPr/>
              <p:nvPr/>
            </p:nvSpPr>
            <p:spPr>
              <a:xfrm rot="20845800">
                <a:off x="1933200" y="465156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6" name="Rectangle 135"/>
              <p:cNvSpPr/>
              <p:nvPr/>
            </p:nvSpPr>
            <p:spPr>
              <a:xfrm rot="21312000">
                <a:off x="1925280" y="4867560"/>
                <a:ext cx="2649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7" name="Rectangle 136"/>
              <p:cNvSpPr/>
              <p:nvPr/>
            </p:nvSpPr>
            <p:spPr>
              <a:xfrm rot="696600">
                <a:off x="1787040" y="5297760"/>
                <a:ext cx="238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0" name="Freeform 139"/>
              <p:cNvSpPr/>
              <p:nvPr/>
            </p:nvSpPr>
            <p:spPr>
              <a:xfrm>
                <a:off x="30240" y="432144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1" name="Freeform 140"/>
              <p:cNvSpPr/>
              <p:nvPr/>
            </p:nvSpPr>
            <p:spPr>
              <a:xfrm>
                <a:off x="154080" y="4208760"/>
                <a:ext cx="160200" cy="1411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3" name="Freeform 142"/>
              <p:cNvSpPr/>
              <p:nvPr/>
            </p:nvSpPr>
            <p:spPr>
              <a:xfrm>
                <a:off x="1492200" y="4416480"/>
                <a:ext cx="142920" cy="1144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4" name="Freeform 143"/>
              <p:cNvSpPr/>
              <p:nvPr/>
            </p:nvSpPr>
            <p:spPr>
              <a:xfrm>
                <a:off x="1425600" y="4311720"/>
                <a:ext cx="142920" cy="13356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8" name="Rectangle 147"/>
              <p:cNvSpPr/>
              <p:nvPr/>
            </p:nvSpPr>
            <p:spPr>
              <a:xfrm rot="244800">
                <a:off x="1868400" y="508176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9" name="Rectangle 148"/>
              <p:cNvSpPr/>
              <p:nvPr/>
            </p:nvSpPr>
            <p:spPr>
              <a:xfrm rot="16001400">
                <a:off x="460440" y="378720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1" name="Freeform 150"/>
              <p:cNvSpPr/>
              <p:nvPr/>
            </p:nvSpPr>
            <p:spPr>
              <a:xfrm rot="18742800">
                <a:off x="978480" y="563292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3" name="Oval 152"/>
              <p:cNvSpPr/>
              <p:nvPr/>
            </p:nvSpPr>
            <p:spPr>
              <a:xfrm rot="19915200">
                <a:off x="469800" y="483696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35561"/>
                  </a:gs>
                  <a:gs pos="100000">
                    <a:srgbClr val="5b5d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752D-F1EA-4E55-90FD-1E5262C4113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C549-EFAA-4DA8-A21C-650C54EAF8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6648-02D5-4527-8900-CF30632EE6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338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339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0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4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4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3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44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345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47" name="Group 12"/>
            <p:cNvGrpSpPr/>
            <p:nvPr/>
          </p:nvGrpSpPr>
          <p:grpSpPr>
            <a:xfrm>
              <a:off x="6273360" y="-21960"/>
              <a:ext cx="2870280" cy="2269080"/>
              <a:chOff x="6273360" y="-21960"/>
              <a:chExt cx="2870280" cy="2269080"/>
            </a:xfrm>
          </p:grpSpPr>
          <p:grpSp>
            <p:nvGrpSpPr>
              <p:cNvPr id="348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349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0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0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1" name="Group 16"/>
              <p:cNvGrpSpPr/>
              <p:nvPr/>
            </p:nvGrpSpPr>
            <p:grpSpPr>
              <a:xfrm>
                <a:off x="6273360" y="-21960"/>
                <a:ext cx="2867400" cy="2269080"/>
                <a:chOff x="6273360" y="-21960"/>
                <a:chExt cx="2867400" cy="2269080"/>
              </a:xfrm>
            </p:grpSpPr>
            <p:grpSp>
              <p:nvGrpSpPr>
                <p:cNvPr id="352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353" name="Freeform 18"/>
                  <p:cNvSpPr/>
                  <p:nvPr/>
                </p:nvSpPr>
                <p:spPr>
                  <a:xfrm rot="2711400">
                    <a:off x="7760160" y="1133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4" name="Freeform 19"/>
                  <p:cNvSpPr/>
                  <p:nvPr/>
                </p:nvSpPr>
                <p:spPr>
                  <a:xfrm rot="2711400">
                    <a:off x="8404560" y="1601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55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356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7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58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359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0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61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362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3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64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365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6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67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368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9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70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371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2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73" name="Group 38"/>
                <p:cNvGrpSpPr/>
                <p:nvPr/>
              </p:nvGrpSpPr>
              <p:grpSpPr>
                <a:xfrm>
                  <a:off x="6537600" y="906120"/>
                  <a:ext cx="1065240" cy="1140840"/>
                  <a:chOff x="6537600" y="906120"/>
                  <a:chExt cx="1065240" cy="1140840"/>
                </a:xfrm>
              </p:grpSpPr>
              <p:sp>
                <p:nvSpPr>
                  <p:cNvPr id="374" name="Freeform 39"/>
                  <p:cNvSpPr/>
                  <p:nvPr/>
                </p:nvSpPr>
                <p:spPr>
                  <a:xfrm flipH="1" rot="18888600">
                    <a:off x="6791040" y="1196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5" name="Freeform 40"/>
                  <p:cNvSpPr/>
                  <p:nvPr/>
                </p:nvSpPr>
                <p:spPr>
                  <a:xfrm flipH="1" rot="18888600">
                    <a:off x="6555960" y="166392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76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77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79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80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1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82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383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4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85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86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7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88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9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0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1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92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3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4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95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6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7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398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9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00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01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02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03" name="Group 68"/>
                <p:cNvGrpSpPr/>
                <p:nvPr/>
              </p:nvGrpSpPr>
              <p:grpSpPr>
                <a:xfrm>
                  <a:off x="7111800" y="15840"/>
                  <a:ext cx="608040" cy="785160"/>
                  <a:chOff x="7111800" y="15840"/>
                  <a:chExt cx="608040" cy="785160"/>
                </a:xfrm>
              </p:grpSpPr>
              <p:sp>
                <p:nvSpPr>
                  <p:cNvPr id="404" name="Freeform 69"/>
                  <p:cNvSpPr/>
                  <p:nvPr/>
                </p:nvSpPr>
                <p:spPr>
                  <a:xfrm flipH="1" rot="3474000">
                    <a:off x="7239240" y="476640"/>
                    <a:ext cx="565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05" name="Freeform 70"/>
                  <p:cNvSpPr/>
                  <p:nvPr/>
                </p:nvSpPr>
                <p:spPr>
                  <a:xfrm flipH="1" rot="3474000">
                    <a:off x="7113600" y="103680"/>
                    <a:ext cx="303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06" name="Group 71"/>
                <p:cNvGrpSpPr/>
                <p:nvPr/>
              </p:nvGrpSpPr>
              <p:grpSpPr>
                <a:xfrm>
                  <a:off x="7287840" y="-21960"/>
                  <a:ext cx="465840" cy="809280"/>
                  <a:chOff x="7287840" y="-21960"/>
                  <a:chExt cx="465840" cy="809280"/>
                </a:xfrm>
              </p:grpSpPr>
              <p:sp>
                <p:nvSpPr>
                  <p:cNvPr id="407" name="Freeform 72"/>
                  <p:cNvSpPr/>
                  <p:nvPr/>
                </p:nvSpPr>
                <p:spPr>
                  <a:xfrm flipH="1" rot="4126800">
                    <a:off x="7331400" y="458280"/>
                    <a:ext cx="544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08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09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410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1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12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413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4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415" name="Freeform 80"/>
                <p:cNvSpPr/>
                <p:nvPr/>
              </p:nvSpPr>
              <p:spPr>
                <a:xfrm flipH="1" rot="4578600">
                  <a:off x="7417080" y="48384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0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0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grpSp>
              <p:nvGrpSpPr>
                <p:cNvPr id="417" name="Group 82"/>
                <p:cNvGrpSpPr/>
                <p:nvPr/>
              </p:nvGrpSpPr>
              <p:grpSpPr>
                <a:xfrm>
                  <a:off x="7665840" y="-11520"/>
                  <a:ext cx="497520" cy="790920"/>
                  <a:chOff x="7665840" y="-11520"/>
                  <a:chExt cx="497520" cy="790920"/>
                </a:xfrm>
              </p:grpSpPr>
              <p:sp>
                <p:nvSpPr>
                  <p:cNvPr id="418" name="Freeform 83"/>
                  <p:cNvSpPr/>
                  <p:nvPr/>
                </p:nvSpPr>
                <p:spPr>
                  <a:xfrm rot="17742000">
                    <a:off x="7554240" y="466200"/>
                    <a:ext cx="54396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9" name="Freeform 84"/>
                  <p:cNvSpPr/>
                  <p:nvPr/>
                </p:nvSpPr>
                <p:spPr>
                  <a:xfrm rot="17742000">
                    <a:off x="7886880" y="77760"/>
                    <a:ext cx="2919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20" name="Group 85"/>
                <p:cNvGrpSpPr/>
                <p:nvPr/>
              </p:nvGrpSpPr>
              <p:grpSpPr>
                <a:xfrm>
                  <a:off x="7662600" y="38160"/>
                  <a:ext cx="786240" cy="747720"/>
                  <a:chOff x="7662600" y="38160"/>
                  <a:chExt cx="786240" cy="747720"/>
                </a:xfrm>
              </p:grpSpPr>
              <p:sp>
                <p:nvSpPr>
                  <p:cNvPr id="421" name="Freeform 86"/>
                  <p:cNvSpPr/>
                  <p:nvPr/>
                </p:nvSpPr>
                <p:spPr>
                  <a:xfrm rot="18822600">
                    <a:off x="7620840" y="454320"/>
                    <a:ext cx="5925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2" name="Freeform 87"/>
                  <p:cNvSpPr/>
                  <p:nvPr/>
                </p:nvSpPr>
                <p:spPr>
                  <a:xfrm rot="18822600">
                    <a:off x="8101440" y="119160"/>
                    <a:ext cx="317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23" name="Group 88"/>
                <p:cNvGrpSpPr/>
                <p:nvPr/>
              </p:nvGrpSpPr>
              <p:grpSpPr>
                <a:xfrm>
                  <a:off x="7708680" y="-1080"/>
                  <a:ext cx="177840" cy="746280"/>
                  <a:chOff x="7708680" y="-1080"/>
                  <a:chExt cx="177840" cy="746280"/>
                </a:xfrm>
              </p:grpSpPr>
              <p:sp>
                <p:nvSpPr>
                  <p:cNvPr id="424" name="Freeform 89"/>
                  <p:cNvSpPr/>
                  <p:nvPr/>
                </p:nvSpPr>
                <p:spPr>
                  <a:xfrm rot="16696200">
                    <a:off x="7521120" y="478080"/>
                    <a:ext cx="48816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5" name="Freeform 90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26" name="Group 91"/>
                <p:cNvGrpSpPr/>
                <p:nvPr/>
              </p:nvGrpSpPr>
              <p:grpSpPr>
                <a:xfrm>
                  <a:off x="6710760" y="929880"/>
                  <a:ext cx="914040" cy="1248840"/>
                  <a:chOff x="6710760" y="929880"/>
                  <a:chExt cx="914040" cy="1248840"/>
                </a:xfrm>
              </p:grpSpPr>
              <p:sp>
                <p:nvSpPr>
                  <p:cNvPr id="427" name="Freeform 92"/>
                  <p:cNvSpPr/>
                  <p:nvPr/>
                </p:nvSpPr>
                <p:spPr>
                  <a:xfrm flipH="1" rot="18336000">
                    <a:off x="6859440" y="125604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8" name="Freeform 93"/>
                  <p:cNvSpPr/>
                  <p:nvPr/>
                </p:nvSpPr>
                <p:spPr>
                  <a:xfrm flipH="1" rot="18336000">
                    <a:off x="6713280" y="17870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29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30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1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32" name="Group 97"/>
                <p:cNvGrpSpPr/>
                <p:nvPr/>
              </p:nvGrpSpPr>
              <p:grpSpPr>
                <a:xfrm>
                  <a:off x="7312320" y="1001160"/>
                  <a:ext cx="364320" cy="1217880"/>
                  <a:chOff x="7312320" y="1001160"/>
                  <a:chExt cx="364320" cy="1217880"/>
                </a:xfrm>
              </p:grpSpPr>
              <p:sp>
                <p:nvSpPr>
                  <p:cNvPr id="433" name="Freeform 98"/>
                  <p:cNvSpPr/>
                  <p:nvPr/>
                </p:nvSpPr>
                <p:spPr>
                  <a:xfrm flipH="1" rot="16870800">
                    <a:off x="7136280" y="1328040"/>
                    <a:ext cx="7855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4" name="Freeform 99"/>
                  <p:cNvSpPr/>
                  <p:nvPr/>
                </p:nvSpPr>
                <p:spPr>
                  <a:xfrm flipH="1" rot="16870800">
                    <a:off x="7253640" y="1876680"/>
                    <a:ext cx="4215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35" name="Group 100"/>
                <p:cNvGrpSpPr/>
                <p:nvPr/>
              </p:nvGrpSpPr>
              <p:grpSpPr>
                <a:xfrm>
                  <a:off x="7799040" y="909000"/>
                  <a:ext cx="949680" cy="1229400"/>
                  <a:chOff x="7799040" y="909000"/>
                  <a:chExt cx="949680" cy="1229400"/>
                </a:xfrm>
              </p:grpSpPr>
              <p:sp>
                <p:nvSpPr>
                  <p:cNvPr id="436" name="Freeform 101"/>
                  <p:cNvSpPr/>
                  <p:nvPr/>
                </p:nvSpPr>
                <p:spPr>
                  <a:xfrm rot="3144000">
                    <a:off x="7689600" y="1228320"/>
                    <a:ext cx="885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7" name="Freeform 102"/>
                  <p:cNvSpPr/>
                  <p:nvPr/>
                </p:nvSpPr>
                <p:spPr>
                  <a:xfrm rot="3144000">
                    <a:off x="8266320" y="174672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38" name="Group 103"/>
                <p:cNvGrpSpPr/>
                <p:nvPr/>
              </p:nvGrpSpPr>
              <p:grpSpPr>
                <a:xfrm>
                  <a:off x="7786800" y="956160"/>
                  <a:ext cx="732240" cy="1262160"/>
                  <a:chOff x="7786800" y="956160"/>
                  <a:chExt cx="732240" cy="1262160"/>
                </a:xfrm>
              </p:grpSpPr>
              <p:sp>
                <p:nvSpPr>
                  <p:cNvPr id="439" name="Freeform 104"/>
                  <p:cNvSpPr/>
                  <p:nvPr/>
                </p:nvSpPr>
                <p:spPr>
                  <a:xfrm rot="3745200">
                    <a:off x="7627320" y="1289880"/>
                    <a:ext cx="8467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0" name="Freeform 105"/>
                  <p:cNvSpPr/>
                  <p:nvPr/>
                </p:nvSpPr>
                <p:spPr>
                  <a:xfrm rot="3745200">
                    <a:off x="8079840" y="1840320"/>
                    <a:ext cx="4539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41" name="Group 106"/>
                <p:cNvGrpSpPr/>
                <p:nvPr/>
              </p:nvGrpSpPr>
              <p:grpSpPr>
                <a:xfrm>
                  <a:off x="7756920" y="1005120"/>
                  <a:ext cx="510480" cy="1242000"/>
                  <a:chOff x="7756920" y="1005120"/>
                  <a:chExt cx="510480" cy="1242000"/>
                </a:xfrm>
              </p:grpSpPr>
              <p:sp>
                <p:nvSpPr>
                  <p:cNvPr id="442" name="Freeform 107"/>
                  <p:cNvSpPr/>
                  <p:nvPr/>
                </p:nvSpPr>
                <p:spPr>
                  <a:xfrm rot="4286400">
                    <a:off x="7536600" y="1351440"/>
                    <a:ext cx="8218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3" name="Freeform 108"/>
                  <p:cNvSpPr/>
                  <p:nvPr/>
                </p:nvSpPr>
                <p:spPr>
                  <a:xfrm rot="4286400">
                    <a:off x="7882560" y="190728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44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45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6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47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448" name="Freeform 113"/>
                  <p:cNvSpPr/>
                  <p:nvPr/>
                </p:nvSpPr>
                <p:spPr>
                  <a:xfrm rot="5755200">
                    <a:off x="7320960" y="1401480"/>
                    <a:ext cx="738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9" name="Freeform 114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60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</p:grpSp>
          <p:sp>
            <p:nvSpPr>
              <p:cNvPr id="450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1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3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4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5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6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7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8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9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0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2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3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4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5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6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8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9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0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1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545B-8F00-468F-82DC-12353B00C5D2}" type="slidenum"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14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5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6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7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8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9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4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5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6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7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8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6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7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8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9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0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1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2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3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4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5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6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7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8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9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0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1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2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3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4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5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6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7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8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9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0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1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2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3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4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5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6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7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8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9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0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1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2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3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4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5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6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7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8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9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0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1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2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3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4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5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6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7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8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9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0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1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2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3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4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5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6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7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8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9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0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1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2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3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4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5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6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7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8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9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0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1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2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3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4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5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6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7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8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9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0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1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2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3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4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5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6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7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8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9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0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1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2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3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4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5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6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7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8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9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0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1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2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3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4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5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6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7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8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9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0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1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2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3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4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5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6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7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8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59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60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1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2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3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4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5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6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7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8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9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0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1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2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73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74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5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6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7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8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9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0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1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2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3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4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5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6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87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88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9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0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1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2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3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4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5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6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7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8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9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0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701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702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3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4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5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6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7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8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9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0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1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2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3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4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715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716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7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8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9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0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1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2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3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4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5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6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7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8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729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730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1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2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3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4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5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6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7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8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9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0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1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2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743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44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745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46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47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48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49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0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1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2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3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4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5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6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7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58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CEDA-566C-4757-B855-5B12FEEC0F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9B73-C886-4B3D-93A8-C3AD110DF7F8}" type="datetime">
              <a:rPr b="1" lang="zh-CN" sz="1400" spc="-1" strike="noStrike">
                <a:solidFill>
                  <a:srgbClr val="000000"/>
                </a:solidFill>
                <a:latin typeface="Arial Narrow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E134-7A0D-4351-BE4C-F2E20412D20B}" type="slidenum">
              <a:rPr b="1" lang="zh-CN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WordArt 2"/>
          <p:cNvSpPr txBox="1"/>
          <p:nvPr/>
        </p:nvSpPr>
        <p:spPr>
          <a:xfrm>
            <a:off x="1763640" y="98100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Object Clause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2" name="WordArt 3"/>
          <p:cNvSpPr txBox="1"/>
          <p:nvPr/>
        </p:nvSpPr>
        <p:spPr>
          <a:xfrm>
            <a:off x="2843280" y="2924280"/>
            <a:ext cx="2736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宾语从句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3" name="WordArt 4"/>
          <p:cNvSpPr txBox="1"/>
          <p:nvPr/>
        </p:nvSpPr>
        <p:spPr>
          <a:xfrm>
            <a:off x="2124000" y="4149720"/>
            <a:ext cx="496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Bookman Old Style"/>
              </a:rPr>
              <a:t>General Review</a:t>
            </a:r>
            <a:endParaRPr b="1" i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44" name="AutoShape 5">
            <a:hlinkClick r:id="" action="ppaction://hlinkshowjump?jump=nextslide"/>
          </p:cNvPr>
          <p:cNvSpPr/>
          <p:nvPr/>
        </p:nvSpPr>
        <p:spPr>
          <a:xfrm>
            <a:off x="7596360" y="6093000"/>
            <a:ext cx="1079280" cy="765000"/>
          </a:xfrm>
          <a:custGeom>
            <a:avLst/>
            <a:gdLst>
              <a:gd name="textAreaLeft" fmla="*/ 47520 w 1079280"/>
              <a:gd name="textAreaRight" fmla="*/ 1031760 w 107928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30470" h="21600">
                <a:moveTo>
                  <a:pt x="0" y="0"/>
                </a:moveTo>
                <a:lnTo>
                  <a:pt x="30470" y="0"/>
                </a:lnTo>
                <a:lnTo>
                  <a:pt x="30470" y="21600"/>
                </a:lnTo>
                <a:lnTo>
                  <a:pt x="0" y="21600"/>
                </a:lnTo>
                <a:close/>
              </a:path>
              <a:path fill="lightenLess" w="30470" h="21600">
                <a:moveTo>
                  <a:pt x="0" y="0"/>
                </a:moveTo>
                <a:lnTo>
                  <a:pt x="30470" y="0"/>
                </a:lnTo>
                <a:lnTo>
                  <a:pt x="29120" y="1350"/>
                </a:lnTo>
                <a:lnTo>
                  <a:pt x="1350" y="1350"/>
                </a:lnTo>
                <a:close/>
              </a:path>
              <a:path fill="darken" w="30470" h="21600">
                <a:moveTo>
                  <a:pt x="30470" y="0"/>
                </a:moveTo>
                <a:lnTo>
                  <a:pt x="30470" y="21600"/>
                </a:lnTo>
                <a:lnTo>
                  <a:pt x="29120" y="20250"/>
                </a:lnTo>
                <a:lnTo>
                  <a:pt x="29120" y="1350"/>
                </a:lnTo>
                <a:close/>
              </a:path>
              <a:path fill="darkenLess" w="30470" h="21600">
                <a:moveTo>
                  <a:pt x="3047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120" y="20250"/>
                </a:lnTo>
                <a:close/>
              </a:path>
              <a:path fill="lighten" w="3047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470" h="21600">
                <a:moveTo>
                  <a:pt x="8191" y="3756"/>
                </a:moveTo>
                <a:lnTo>
                  <a:pt x="22279" y="10800"/>
                </a:lnTo>
                <a:lnTo>
                  <a:pt x="8191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2"/>
          <p:cNvSpPr/>
          <p:nvPr/>
        </p:nvSpPr>
        <p:spPr>
          <a:xfrm>
            <a:off x="0" y="-127080"/>
            <a:ext cx="10117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如果宾语从句为一般疑问句，用连词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if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Whether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)I wonder if (whether) he will help me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注意在下列情况下一般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hether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而不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if 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3" name="Rectangle 4"/>
          <p:cNvSpPr/>
          <p:nvPr/>
        </p:nvSpPr>
        <p:spPr>
          <a:xfrm>
            <a:off x="119160" y="1989000"/>
            <a:ext cx="92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I am interested in whether 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ll go to have a picni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4" name="Rectangle 6"/>
          <p:cNvSpPr/>
          <p:nvPr/>
        </p:nvSpPr>
        <p:spPr>
          <a:xfrm>
            <a:off x="765360" y="1413000"/>
            <a:ext cx="54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作介词的宾语时，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heth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而不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if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5" name="Rectangle 8"/>
          <p:cNvSpPr/>
          <p:nvPr/>
        </p:nvSpPr>
        <p:spPr>
          <a:xfrm>
            <a:off x="435240" y="3141720"/>
            <a:ext cx="77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hether this is true or not , I am not sure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6" name="Rectangle 10"/>
          <p:cNvSpPr/>
          <p:nvPr/>
        </p:nvSpPr>
        <p:spPr>
          <a:xfrm>
            <a:off x="1027440" y="2565360"/>
            <a:ext cx="59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②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hether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引导的从句可移到主句之前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不能。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7" name="Rectangle 12"/>
          <p:cNvSpPr/>
          <p:nvPr/>
        </p:nvSpPr>
        <p:spPr>
          <a:xfrm>
            <a:off x="31320" y="4221000"/>
            <a:ext cx="84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e did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t know whether or not she had come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8" name="Rectangle 14"/>
          <p:cNvSpPr/>
          <p:nvPr/>
        </p:nvSpPr>
        <p:spPr>
          <a:xfrm>
            <a:off x="347040" y="3716280"/>
            <a:ext cx="52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面紧接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or no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时，只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hether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9" name="Rectangle 16"/>
          <p:cNvSpPr/>
          <p:nvPr/>
        </p:nvSpPr>
        <p:spPr>
          <a:xfrm>
            <a:off x="1338840" y="5373720"/>
            <a:ext cx="607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Please let me know if you like it 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请告诉我你是否喜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如果你喜欢，请告诉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0" name="Rectangle 18"/>
          <p:cNvSpPr/>
          <p:nvPr/>
        </p:nvSpPr>
        <p:spPr>
          <a:xfrm>
            <a:off x="592920" y="4869000"/>
            <a:ext cx="49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会引起歧义时，只用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whether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92" name="Picture 3" descr="边框56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Text Box 4"/>
            <p:cNvSpPr/>
            <p:nvPr/>
          </p:nvSpPr>
          <p:spPr>
            <a:xfrm>
              <a:off x="1219320" y="762120"/>
              <a:ext cx="7619760" cy="60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The radio says it _________ cloudy tomorrow. (be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The headmaster hopes everything ______ well. (go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Tom says that they ____________ (play) basketball at six o’clock yesterday evening. 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I hear they __________ (return) it already. 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He said that they _________ members of the Party since 1948. (be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He asked what they __________ at eight last night. (do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The teacher told his class that light _______ faster than sound. (travel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I think you __________ about the relay race now. (talk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e1f08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1f08"/>
                  </a:solidFill>
                  <a:latin typeface="Times New Roman"/>
                  <a:ea typeface="宋体"/>
                </a:rPr>
                <a:t>I didn’t know whom the letters _________ from. (be)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894" name="Text Box 5"/>
          <p:cNvSpPr/>
          <p:nvPr/>
        </p:nvSpPr>
        <p:spPr>
          <a:xfrm>
            <a:off x="3886200" y="7621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will b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5" name="Text Box 6"/>
          <p:cNvSpPr/>
          <p:nvPr/>
        </p:nvSpPr>
        <p:spPr>
          <a:xfrm>
            <a:off x="5943600" y="1295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go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6" name="Text Box 7"/>
          <p:cNvSpPr/>
          <p:nvPr/>
        </p:nvSpPr>
        <p:spPr>
          <a:xfrm>
            <a:off x="4114800" y="19051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were playing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7" name="Text Box 8"/>
          <p:cNvSpPr/>
          <p:nvPr/>
        </p:nvSpPr>
        <p:spPr>
          <a:xfrm>
            <a:off x="2971800" y="2819520"/>
            <a:ext cx="26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ave returned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8" name="Text Box 9"/>
          <p:cNvSpPr/>
          <p:nvPr/>
        </p:nvSpPr>
        <p:spPr>
          <a:xfrm>
            <a:off x="3809880" y="3352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ad been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9" name="Text Box 10"/>
          <p:cNvSpPr/>
          <p:nvPr/>
        </p:nvSpPr>
        <p:spPr>
          <a:xfrm>
            <a:off x="6095880" y="4800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travel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0" name="Text Box 11"/>
          <p:cNvSpPr/>
          <p:nvPr/>
        </p:nvSpPr>
        <p:spPr>
          <a:xfrm>
            <a:off x="3200400" y="5715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are talking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1" name="Text Box 12"/>
          <p:cNvSpPr/>
          <p:nvPr/>
        </p:nvSpPr>
        <p:spPr>
          <a:xfrm>
            <a:off x="5715000" y="6248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wer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2" name="Text Box 13"/>
          <p:cNvSpPr/>
          <p:nvPr/>
        </p:nvSpPr>
        <p:spPr>
          <a:xfrm>
            <a:off x="4191120" y="4267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were doing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2" descr="边框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4" name="Text Box 3"/>
          <p:cNvSpPr/>
          <p:nvPr/>
        </p:nvSpPr>
        <p:spPr>
          <a:xfrm>
            <a:off x="1371600" y="923760"/>
            <a:ext cx="86011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10. I didn’t know what time he _______ the letter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(writ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11. Miss Wang told me that the earth ______(move)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round the earth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12. Could you tell me who _________ away the book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already? (tak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13. Ling Feng told me he _________ to Beijing severa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times. (b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14. Our teacher told us in class the sun _______ in th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east.  (ris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Times New Roman"/>
                <a:ea typeface="宋体"/>
              </a:rPr>
              <a:t>15. Can you tell me what they ______ yesterday? (do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5" name="Text Box 4"/>
          <p:cNvSpPr/>
          <p:nvPr/>
        </p:nvSpPr>
        <p:spPr>
          <a:xfrm>
            <a:off x="548640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wro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6" name="Text Box 5"/>
          <p:cNvSpPr/>
          <p:nvPr/>
        </p:nvSpPr>
        <p:spPr>
          <a:xfrm>
            <a:off x="624852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mov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7" name="Text Box 6"/>
          <p:cNvSpPr/>
          <p:nvPr/>
        </p:nvSpPr>
        <p:spPr>
          <a:xfrm>
            <a:off x="4876920" y="31240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as taken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8" name="Text Box 7"/>
          <p:cNvSpPr/>
          <p:nvPr/>
        </p:nvSpPr>
        <p:spPr>
          <a:xfrm>
            <a:off x="4724280" y="42670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ad been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9" name="Text Box 8"/>
          <p:cNvSpPr/>
          <p:nvPr/>
        </p:nvSpPr>
        <p:spPr>
          <a:xfrm>
            <a:off x="6659640" y="530064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ris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0" name="Text Box 9"/>
          <p:cNvSpPr/>
          <p:nvPr/>
        </p:nvSpPr>
        <p:spPr>
          <a:xfrm>
            <a:off x="5580000" y="6461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did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over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2"/>
          <p:cNvSpPr/>
          <p:nvPr/>
        </p:nvSpPr>
        <p:spPr>
          <a:xfrm>
            <a:off x="1219320" y="609480"/>
            <a:ext cx="739116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ahoma"/>
                <a:ea typeface="华文新魏"/>
              </a:rPr>
              <a:t>直接引语变间接引语与宾语从句的关系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2" name="Picture 3" descr="line1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15228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4"/>
          <p:cNvSpPr/>
          <p:nvPr/>
        </p:nvSpPr>
        <p:spPr>
          <a:xfrm>
            <a:off x="228600" y="2286000"/>
            <a:ext cx="5486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1f08"/>
                </a:solidFill>
                <a:latin typeface="Tahoma"/>
                <a:ea typeface="华文新魏"/>
              </a:rPr>
              <a:t>陈述句变为引导的宾语从句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4" name="Text Box 5"/>
          <p:cNvSpPr/>
          <p:nvPr/>
        </p:nvSpPr>
        <p:spPr>
          <a:xfrm>
            <a:off x="395280" y="2924280"/>
            <a:ext cx="712944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.g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1.     He said, “You are younger than I ”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.     He says, “Tom is a good student ”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332000" y="4149720"/>
            <a:ext cx="67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ahoma"/>
                <a:ea typeface="宋体"/>
              </a:rPr>
              <a:t>He said that I was younger than him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1403280" y="5445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ahoma"/>
                <a:ea typeface="宋体"/>
              </a:rPr>
              <a:t>He says that Tom is a good student.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7" name="AutoShape 8"/>
          <p:cNvSpPr/>
          <p:nvPr/>
        </p:nvSpPr>
        <p:spPr>
          <a:xfrm>
            <a:off x="468360" y="386064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10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8" name="AutoShape 9"/>
          <p:cNvSpPr/>
          <p:nvPr/>
        </p:nvSpPr>
        <p:spPr>
          <a:xfrm>
            <a:off x="395280" y="515772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10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1219320" y="609480"/>
            <a:ext cx="739116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ahoma"/>
                <a:ea typeface="华文新魏"/>
              </a:rPr>
              <a:t>直接引语变间接引语与宾语从句的关系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20" name="Picture 3" descr="line1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15228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4"/>
          <p:cNvSpPr/>
          <p:nvPr/>
        </p:nvSpPr>
        <p:spPr>
          <a:xfrm>
            <a:off x="0" y="2209680"/>
            <a:ext cx="70102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1f08"/>
                </a:solidFill>
                <a:latin typeface="华文新魏"/>
                <a:ea typeface="华文新魏"/>
              </a:rPr>
              <a:t>一般疑问句变为</a:t>
            </a:r>
            <a:r>
              <a:rPr b="1" lang="en-US" sz="2800" spc="-1" strike="noStrike">
                <a:solidFill>
                  <a:srgbClr val="fe1f08"/>
                </a:solidFill>
                <a:latin typeface="华文新魏"/>
                <a:ea typeface="华文新魏"/>
              </a:rPr>
              <a:t>if (whether)</a:t>
            </a:r>
            <a:r>
              <a:rPr b="1" lang="zh-CN" sz="2800" spc="-1" strike="noStrike">
                <a:solidFill>
                  <a:srgbClr val="fe1f08"/>
                </a:solidFill>
                <a:latin typeface="华文新魏"/>
                <a:ea typeface="华文新魏"/>
              </a:rPr>
              <a:t>引导的宾语从句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2" name="Text Box 5"/>
          <p:cNvSpPr/>
          <p:nvPr/>
        </p:nvSpPr>
        <p:spPr>
          <a:xfrm>
            <a:off x="0" y="3048120"/>
            <a:ext cx="87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e.g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he said, “ Do you often come here to read newspaper? ”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Will they go to visit the Great Wall?” he ask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3" name="Text Box 6"/>
          <p:cNvSpPr/>
          <p:nvPr/>
        </p:nvSpPr>
        <p:spPr>
          <a:xfrm>
            <a:off x="91440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She asked if (whether) I often came here to read newspaper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4" name="Text Box 7"/>
          <p:cNvSpPr/>
          <p:nvPr/>
        </p:nvSpPr>
        <p:spPr>
          <a:xfrm>
            <a:off x="914400" y="525780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e asked if (whether) they would go to visit the Great Wall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5" name="AutoShape 8"/>
          <p:cNvSpPr/>
          <p:nvPr/>
        </p:nvSpPr>
        <p:spPr>
          <a:xfrm>
            <a:off x="304920" y="3733920"/>
            <a:ext cx="457200" cy="761760"/>
          </a:xfrm>
          <a:custGeom>
            <a:avLst/>
            <a:gdLst>
              <a:gd name="textAreaLeft" fmla="*/ 61200 w 457200"/>
              <a:gd name="textAreaRight" fmla="*/ 396000 w 4572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10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6" name="AutoShape 9"/>
          <p:cNvSpPr/>
          <p:nvPr/>
        </p:nvSpPr>
        <p:spPr>
          <a:xfrm>
            <a:off x="380880" y="4800600"/>
            <a:ext cx="457200" cy="762120"/>
          </a:xfrm>
          <a:custGeom>
            <a:avLst/>
            <a:gdLst>
              <a:gd name="textAreaLeft" fmla="*/ 61200 w 457200"/>
              <a:gd name="textAreaRight" fmla="*/ 396000 w 4572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10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cover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>
            <a:off x="1219320" y="609480"/>
            <a:ext cx="739116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ahoma"/>
                <a:ea typeface="华文新魏"/>
              </a:rPr>
              <a:t>直接引语变间接引语与宾语从句的关系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28" name="Picture 3" descr="line1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152280"/>
          </a:xfrm>
          <a:prstGeom prst="rect">
            <a:avLst/>
          </a:prstGeom>
          <a:ln w="0">
            <a:noFill/>
          </a:ln>
        </p:spPr>
      </p:pic>
      <p:grpSp>
        <p:nvGrpSpPr>
          <p:cNvPr id="929" name="Group 4"/>
          <p:cNvGrpSpPr/>
          <p:nvPr/>
        </p:nvGrpSpPr>
        <p:grpSpPr>
          <a:xfrm>
            <a:off x="304920" y="1905120"/>
            <a:ext cx="7772400" cy="761760"/>
            <a:chOff x="304920" y="1905120"/>
            <a:chExt cx="7772400" cy="761760"/>
          </a:xfrm>
        </p:grpSpPr>
        <p:sp>
          <p:nvSpPr>
            <p:cNvPr id="930" name="Rectangle 5"/>
            <p:cNvSpPr/>
            <p:nvPr/>
          </p:nvSpPr>
          <p:spPr>
            <a:xfrm>
              <a:off x="304920" y="1905120"/>
              <a:ext cx="7772400" cy="761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1" name="Rectangle 6"/>
            <p:cNvSpPr/>
            <p:nvPr/>
          </p:nvSpPr>
          <p:spPr>
            <a:xfrm>
              <a:off x="1346400" y="2057040"/>
              <a:ext cx="566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e1f08"/>
                  </a:solidFill>
                  <a:latin typeface="Tahoma"/>
                  <a:ea typeface="宋体"/>
                </a:rPr>
                <a:t>特殊疑问句变为</a:t>
              </a:r>
              <a:r>
                <a:rPr b="1" lang="en-US" sz="2400" spc="-1" strike="noStrike">
                  <a:solidFill>
                    <a:srgbClr val="fe1f08"/>
                  </a:solidFill>
                  <a:latin typeface="Tahoma"/>
                  <a:ea typeface="宋体"/>
                </a:rPr>
                <a:t>who, what, when</a:t>
              </a:r>
              <a:r>
                <a:rPr b="1" lang="zh-CN" sz="2400" spc="-1" strike="noStrike">
                  <a:solidFill>
                    <a:srgbClr val="fe1f08"/>
                  </a:solidFill>
                  <a:latin typeface="Tahoma"/>
                  <a:ea typeface="宋体"/>
                </a:rPr>
                <a:t>等引导的宾语从句</a:t>
              </a: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32" name="Text Box 7"/>
          <p:cNvSpPr/>
          <p:nvPr/>
        </p:nvSpPr>
        <p:spPr>
          <a:xfrm>
            <a:off x="304920" y="2666880"/>
            <a:ext cx="80769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e.g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1.      He asked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Where do you live?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2.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How can we get to the post-office?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he asked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3" name="Text Box 8"/>
          <p:cNvSpPr/>
          <p:nvPr/>
        </p:nvSpPr>
        <p:spPr>
          <a:xfrm>
            <a:off x="1295280" y="38862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  <a:ea typeface="宋体"/>
              </a:rPr>
              <a:t>He asked where I lived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4" name="Text Box 9"/>
          <p:cNvSpPr/>
          <p:nvPr/>
        </p:nvSpPr>
        <p:spPr>
          <a:xfrm>
            <a:off x="14479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  <a:ea typeface="宋体"/>
              </a:rPr>
              <a:t>He asked how they could get to the post-office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5" name="AutoShape 10"/>
          <p:cNvSpPr/>
          <p:nvPr/>
        </p:nvSpPr>
        <p:spPr>
          <a:xfrm>
            <a:off x="914400" y="3352680"/>
            <a:ext cx="380880" cy="914400"/>
          </a:xfrm>
          <a:custGeom>
            <a:avLst/>
            <a:gdLst>
              <a:gd name="textAreaLeft" fmla="*/ 50760 w 380880"/>
              <a:gd name="textAreaRight" fmla="*/ 330120 w 3808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10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6" name="AutoShape 11"/>
          <p:cNvSpPr/>
          <p:nvPr/>
        </p:nvSpPr>
        <p:spPr>
          <a:xfrm>
            <a:off x="914400" y="5029200"/>
            <a:ext cx="380880" cy="914400"/>
          </a:xfrm>
          <a:custGeom>
            <a:avLst/>
            <a:gdLst>
              <a:gd name="textAreaLeft" fmla="*/ 50760 w 380880"/>
              <a:gd name="textAreaRight" fmla="*/ 330120 w 3808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10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cover dir="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2" descr="line1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152280"/>
          </a:xfrm>
          <a:prstGeom prst="rect">
            <a:avLst/>
          </a:prstGeom>
          <a:ln w="0">
            <a:noFill/>
          </a:ln>
        </p:spPr>
      </p:pic>
      <p:sp>
        <p:nvSpPr>
          <p:cNvPr id="938" name="Rectangle 3"/>
          <p:cNvSpPr/>
          <p:nvPr/>
        </p:nvSpPr>
        <p:spPr>
          <a:xfrm>
            <a:off x="1219320" y="609480"/>
            <a:ext cx="739116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ahoma"/>
                <a:ea typeface="华文新魏"/>
              </a:rPr>
              <a:t>直接引语变间接引语与宾语从句的关系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762120" y="2743200"/>
            <a:ext cx="7696080" cy="35053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e1f08"/>
                </a:solidFill>
                <a:latin typeface="Tahoma"/>
                <a:ea typeface="宋体"/>
              </a:rPr>
              <a:t>1</a:t>
            </a: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当主句的谓语动词是一般现在时或一般将来时，宾语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从句的谓语动词可以用所需要的任何一种时态。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、当主句的谓语动词是一般过去时，宾语从句的谓语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动词要用相应的过去时态，但当宾语从句叙述的内容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fe1f08"/>
                </a:solidFill>
                <a:latin typeface="Tahoma"/>
                <a:ea typeface="华文新魏"/>
              </a:rPr>
              <a:t>为客观真理时，仍然用一般现在时。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华文新魏"/>
              </a:rPr>
              <a:t>e.g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华文新魏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华文新魏"/>
              </a:rPr>
              <a:t>The teacher said that the moon moves around the sun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0" name="AutoShape 5"/>
          <p:cNvSpPr/>
          <p:nvPr/>
        </p:nvSpPr>
        <p:spPr>
          <a:xfrm>
            <a:off x="5257800" y="1600200"/>
            <a:ext cx="2819520" cy="1066680"/>
          </a:xfrm>
          <a:prstGeom prst="cloudCallout">
            <a:avLst>
              <a:gd name="adj1" fmla="val -64694"/>
              <a:gd name="adj2" fmla="val 75296"/>
            </a:avLst>
          </a:prstGeom>
          <a:solidFill>
            <a:srgbClr val="ffffcc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ahoma"/>
                <a:ea typeface="隶书"/>
              </a:rPr>
              <a:t>注  意：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边框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3"/>
          <p:cNvSpPr/>
          <p:nvPr/>
        </p:nvSpPr>
        <p:spPr>
          <a:xfrm>
            <a:off x="1371600" y="685800"/>
            <a:ext cx="77724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将下列句子合并为一句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1. Where do they stop on the way?   I asked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2. What will you speak at the meeting? Could you tell me?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3. Do they like to make friends with us?   He asked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4.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I am doing my homework.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He said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5.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I will come back.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om said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6.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Is he doing his homework?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Jim asked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600200" y="167652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I asked where they stopped on the way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600200" y="2590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Could you tell me what you will speak at the meeting?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1600200" y="3505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e asked if they liked to make friends with them.</a:t>
            </a:r>
            <a:r>
              <a:rPr b="1" lang="en-US" sz="24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6" name="Text Box 7"/>
          <p:cNvSpPr/>
          <p:nvPr/>
        </p:nvSpPr>
        <p:spPr>
          <a:xfrm>
            <a:off x="160020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He said that he was doing his homework.</a:t>
            </a:r>
            <a:r>
              <a:rPr b="1" lang="en-US" sz="24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7" name="Text Box 8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Tom said that he would come back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8" name="Text Box 9"/>
          <p:cNvSpPr/>
          <p:nvPr/>
        </p:nvSpPr>
        <p:spPr>
          <a:xfrm>
            <a:off x="1600200" y="6248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Jim asked if he was doing his homework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hecker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边框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0" name="Text Box 3"/>
          <p:cNvSpPr/>
          <p:nvPr/>
        </p:nvSpPr>
        <p:spPr>
          <a:xfrm>
            <a:off x="1447920" y="68580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7.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When will he come back?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Tom asked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8.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How can I get to the station?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Could you tell me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9.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Why is the train late?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Would you tell me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10.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Where is Tom?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They asked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676520" y="12952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Tom asked when he would come back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2" name="Text Box 5"/>
          <p:cNvSpPr/>
          <p:nvPr/>
        </p:nvSpPr>
        <p:spPr>
          <a:xfrm>
            <a:off x="1676520" y="2819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Could you tell me how I can get to the station?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1676520" y="3962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Would you tell me why the train is late?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4" name="Text Box 7"/>
          <p:cNvSpPr/>
          <p:nvPr/>
        </p:nvSpPr>
        <p:spPr>
          <a:xfrm>
            <a:off x="1828800" y="51814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ahoma"/>
                <a:ea typeface="宋体"/>
              </a:rPr>
              <a:t>They asked where Tom was.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over dir="r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 Box 2"/>
          <p:cNvSpPr/>
          <p:nvPr/>
        </p:nvSpPr>
        <p:spPr>
          <a:xfrm>
            <a:off x="0" y="836640"/>
            <a:ext cx="914400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否定转移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当主句的谓语是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think , believe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等动词时，某后作宾语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that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从句如果否定意义，通常将否定词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not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移至主句动词之前。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I don’t think he is having a meeting .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6" name=""/>
          <p:cNvSpPr/>
          <p:nvPr/>
        </p:nvSpPr>
        <p:spPr>
          <a:xfrm>
            <a:off x="539640" y="6165720"/>
            <a:ext cx="69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Arial Narrow"/>
              </a:rPr>
              <a:t>课件下载</a:t>
            </a:r>
            <a:r>
              <a:rPr b="1" lang="en-US" sz="1400" spc="-1" strike="noStrike" u="sng">
                <a:solidFill>
                  <a:srgbClr val="ff3399"/>
                </a:solidFill>
                <a:uFillTx/>
                <a:latin typeface="Arial Narrow"/>
                <a:hlinkClick r:id="rId1"/>
              </a:rPr>
              <a:t>http://www.eeppt.com/moban/kejian/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WordArt 2"/>
          <p:cNvSpPr txBox="1"/>
          <p:nvPr/>
        </p:nvSpPr>
        <p:spPr>
          <a:xfrm>
            <a:off x="1523880" y="76212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宋体"/>
              </a:rPr>
              <a:t>不同引导词引导的宾语从句</a:t>
            </a:r>
            <a:endParaRPr b="1" lang="en-US" sz="4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宋体"/>
              <a:ea typeface="华文宋体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1547640" y="2276640"/>
            <a:ext cx="640080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华文新魏"/>
                <a:ea typeface="华文新魏"/>
              </a:rPr>
              <a:t>由从属连词</a:t>
            </a:r>
            <a:r>
              <a:rPr b="1" lang="en-US" sz="3200" spc="-1" strike="noStrike">
                <a:solidFill>
                  <a:srgbClr val="fe1f08"/>
                </a:solidFill>
                <a:latin typeface="华文新魏"/>
                <a:ea typeface="华文新魏"/>
              </a:rPr>
              <a:t>that</a:t>
            </a:r>
            <a:r>
              <a:rPr b="1" lang="zh-CN" sz="3200" spc="-1" strike="noStrike">
                <a:solidFill>
                  <a:srgbClr val="fe1f08"/>
                </a:solidFill>
                <a:latin typeface="华文新魏"/>
                <a:ea typeface="华文新魏"/>
              </a:rPr>
              <a:t>引导的宾语从句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1476360" y="3645000"/>
            <a:ext cx="68580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由连接代词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华文新魏"/>
              </a:rPr>
              <a:t>Who,whom,whose,which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，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华文新魏"/>
              </a:rPr>
              <a:t>what</a:t>
            </a:r>
            <a:r>
              <a:rPr b="1" lang="en-US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和连接副词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华文新魏"/>
              </a:rPr>
              <a:t>where,how,why,whe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引导的宾语从句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1619280" y="5516640"/>
            <a:ext cx="67057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ahoma"/>
                <a:ea typeface="宋体"/>
              </a:rPr>
              <a:t>由从属连词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  <a:ea typeface="宋体"/>
              </a:rPr>
              <a:t>whether, if </a:t>
            </a:r>
            <a:r>
              <a:rPr b="1" lang="zh-CN" sz="2800" spc="-1" strike="noStrike">
                <a:solidFill>
                  <a:srgbClr val="ff00ff"/>
                </a:solidFill>
                <a:latin typeface="Tahoma"/>
                <a:ea typeface="宋体"/>
              </a:rPr>
              <a:t>引导的宾语从句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49" name="Picture 6" descr="open2"/>
          <p:cNvPicPr/>
          <p:nvPr/>
        </p:nvPicPr>
        <p:blipFill>
          <a:blip r:embed="rId3"/>
          <a:stretch/>
        </p:blipFill>
        <p:spPr>
          <a:xfrm>
            <a:off x="838080" y="2590920"/>
            <a:ext cx="838440" cy="58716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7" descr="open2"/>
          <p:cNvPicPr/>
          <p:nvPr/>
        </p:nvPicPr>
        <p:blipFill>
          <a:blip r:embed="rId4"/>
          <a:stretch/>
        </p:blipFill>
        <p:spPr>
          <a:xfrm>
            <a:off x="838080" y="4267080"/>
            <a:ext cx="838440" cy="5875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open2"/>
          <p:cNvPicPr/>
          <p:nvPr/>
        </p:nvPicPr>
        <p:blipFill>
          <a:blip r:embed="rId5"/>
          <a:stretch/>
        </p:blipFill>
        <p:spPr>
          <a:xfrm>
            <a:off x="838080" y="5791320"/>
            <a:ext cx="838440" cy="587160"/>
          </a:xfrm>
          <a:prstGeom prst="rect">
            <a:avLst/>
          </a:prstGeom>
          <a:ln w="0">
            <a:noFill/>
          </a:ln>
        </p:spPr>
      </p:pic>
      <p:sp>
        <p:nvSpPr>
          <p:cNvPr id="852" name="AutoShape 9"/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200 w 539640"/>
              <a:gd name="textAreaRight" fmla="*/ 514440 w 53964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0" h="21600">
                <a:moveTo>
                  <a:pt x="7356" y="3756"/>
                </a:moveTo>
                <a:lnTo>
                  <a:pt x="21444" y="10800"/>
                </a:lnTo>
                <a:lnTo>
                  <a:pt x="7356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WordArt 2"/>
          <p:cNvSpPr txBox="1"/>
          <p:nvPr/>
        </p:nvSpPr>
        <p:spPr>
          <a:xfrm>
            <a:off x="3203640" y="2060640"/>
            <a:ext cx="31068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Arial Black"/>
              </a:rPr>
              <a:t>Practice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8" name="Picture 3" descr="23"/>
          <p:cNvPicPr/>
          <p:nvPr/>
        </p:nvPicPr>
        <p:blipFill>
          <a:blip r:embed="rId1"/>
          <a:stretch/>
        </p:blipFill>
        <p:spPr>
          <a:xfrm>
            <a:off x="755640" y="5373720"/>
            <a:ext cx="2362320" cy="7142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" descr="03"/>
          <p:cNvPicPr/>
          <p:nvPr/>
        </p:nvPicPr>
        <p:blipFill>
          <a:blip r:embed="rId2"/>
          <a:stretch/>
        </p:blipFill>
        <p:spPr>
          <a:xfrm>
            <a:off x="1908000" y="985680"/>
            <a:ext cx="5759640" cy="3883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2"/>
          <p:cNvSpPr/>
          <p:nvPr/>
        </p:nvSpPr>
        <p:spPr>
          <a:xfrm>
            <a:off x="-457200" y="457200"/>
            <a:ext cx="99820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一、用正确的连词填空。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The teacher asked Lucy _____ she was late for school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We d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 know ________ it will rain tomorrow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The man wants to know _____ she comes from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I d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 remember ____ the train arrived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Could you show us _____ we can turn on the computer ?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She knew ____ she should work hard for the people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Could you tell me _____ is the way to the station ?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Please tell me ________ pictures they have drawn 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1" name="Text Box 3"/>
          <p:cNvSpPr/>
          <p:nvPr/>
        </p:nvSpPr>
        <p:spPr>
          <a:xfrm>
            <a:off x="4859280" y="836640"/>
            <a:ext cx="9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2" name="Text Box 4"/>
          <p:cNvSpPr/>
          <p:nvPr/>
        </p:nvSpPr>
        <p:spPr>
          <a:xfrm>
            <a:off x="3186720" y="167004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/wheth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3" name="Text Box 5"/>
          <p:cNvSpPr/>
          <p:nvPr/>
        </p:nvSpPr>
        <p:spPr>
          <a:xfrm>
            <a:off x="4698360" y="21016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er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4" name="Text Box 6"/>
          <p:cNvSpPr/>
          <p:nvPr/>
        </p:nvSpPr>
        <p:spPr>
          <a:xfrm>
            <a:off x="3708360" y="2565360"/>
            <a:ext cx="12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e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5" name="Text Box 7"/>
          <p:cNvSpPr/>
          <p:nvPr/>
        </p:nvSpPr>
        <p:spPr>
          <a:xfrm>
            <a:off x="4142520" y="29973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ho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6" name="Text Box 8"/>
          <p:cNvSpPr/>
          <p:nvPr/>
        </p:nvSpPr>
        <p:spPr>
          <a:xfrm>
            <a:off x="2486160" y="378936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h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7" name="Text Box 9"/>
          <p:cNvSpPr/>
          <p:nvPr/>
        </p:nvSpPr>
        <p:spPr>
          <a:xfrm>
            <a:off x="4069440" y="472428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ich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8" name="Text Box 10"/>
          <p:cNvSpPr/>
          <p:nvPr/>
        </p:nvSpPr>
        <p:spPr>
          <a:xfrm>
            <a:off x="3492360" y="5589720"/>
            <a:ext cx="167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how man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2"/>
          <p:cNvSpPr/>
          <p:nvPr/>
        </p:nvSpPr>
        <p:spPr>
          <a:xfrm>
            <a:off x="0" y="11160"/>
            <a:ext cx="914400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单项选择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.Could you tell me _______ 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.where he live            B.where he lives     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.where does he live       D.he lives whe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.He said that he ______ speak a little English when he  was five years old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.might       B.would       C.could       D.ca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3.I don’t think that the book is very useful , ________ 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.do I          B.is it            C.doesn’t it       D.isn’t i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4.Excuse me , can you tell me _______ 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.when can I get to the station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B.I can get to which station  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.which station can I get to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D.how I can get to the st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5.My brother asked me ______ kite _______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.who , this was               B.whose , this was 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.whose , was this            D.who , was thi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2987640" y="69228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1" name="Rectangle 4"/>
          <p:cNvSpPr/>
          <p:nvPr/>
        </p:nvSpPr>
        <p:spPr>
          <a:xfrm>
            <a:off x="3419640" y="2421000"/>
            <a:ext cx="5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1547640" y="3284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0" y="5084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3276720" y="580536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2"/>
          <p:cNvSpPr/>
          <p:nvPr/>
        </p:nvSpPr>
        <p:spPr>
          <a:xfrm>
            <a:off x="0" y="0"/>
            <a:ext cx="914400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.He asked me _____ I knew French 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.that      B.if        C.as       D.wha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.Do you know who _____ with at eight yesterday 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.he is talking     B.was he talking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.he was talking    D.is he talking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.-----What did your mother say , Tom 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----- She asked me ______ 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.why my sister is crying     B.why my sister was crying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.why is my sister crying      D.why was my sister crying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9.He told me that the sun ______ in the east 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.rises      B.raises       C.rose        D.raise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.Tom asked ______ to school late 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.who did often come          B.who often did com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.who often come                D.who often cam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6" name="Rectangle 3"/>
          <p:cNvSpPr/>
          <p:nvPr/>
        </p:nvSpPr>
        <p:spPr>
          <a:xfrm>
            <a:off x="1476360" y="26028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7" name="Rectangle 4"/>
          <p:cNvSpPr/>
          <p:nvPr/>
        </p:nvSpPr>
        <p:spPr>
          <a:xfrm>
            <a:off x="0" y="184464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8" name="Rectangle 5"/>
          <p:cNvSpPr/>
          <p:nvPr/>
        </p:nvSpPr>
        <p:spPr>
          <a:xfrm>
            <a:off x="3635280" y="314172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9" name="Rectangle 6"/>
          <p:cNvSpPr/>
          <p:nvPr/>
        </p:nvSpPr>
        <p:spPr>
          <a:xfrm>
            <a:off x="0" y="472428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3492360" y="621648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3"/>
          <p:cNvSpPr/>
          <p:nvPr/>
        </p:nvSpPr>
        <p:spPr>
          <a:xfrm>
            <a:off x="0" y="1125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n the bookshop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，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reader asked the shop-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keeper ____ </a:t>
            </a:r>
            <a:r>
              <a:rPr b="1" lang="en-US" sz="6000" spc="-1" strike="noStrike">
                <a:solidFill>
                  <a:srgbClr val="ff9900"/>
                </a:solidFill>
                <a:latin typeface="Arial Narrow"/>
              </a:rPr>
              <a:t>Who Moved </a:t>
            </a:r>
            <a:r>
              <a:rPr b="1" lang="en-US" sz="60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9900"/>
                </a:solidFill>
                <a:latin typeface="Arial Narrow"/>
              </a:rPr>
              <a:t>My Cheese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was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nteresting.    A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f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ow      C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at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2" name="Text Box 4"/>
          <p:cNvSpPr/>
          <p:nvPr/>
        </p:nvSpPr>
        <p:spPr>
          <a:xfrm>
            <a:off x="539640" y="18900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 Narrow"/>
              </a:rPr>
              <a:t>单项选择</a:t>
            </a:r>
            <a:endParaRPr b="1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3" name="Rectangle 6"/>
          <p:cNvSpPr/>
          <p:nvPr/>
        </p:nvSpPr>
        <p:spPr>
          <a:xfrm>
            <a:off x="4859280" y="4797360"/>
            <a:ext cx="2089080" cy="1008000"/>
          </a:xfrm>
          <a:prstGeom prst="rect">
            <a:avLst/>
          </a:prstGeom>
          <a:noFill/>
          <a:ln w="3816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2"/>
          <p:cNvSpPr/>
          <p:nvPr/>
        </p:nvSpPr>
        <p:spPr>
          <a:xfrm>
            <a:off x="0" y="189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 don't know ___  Mr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Green will come to see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us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e will help us with our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English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y       B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en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ow       D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ere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5" name="Rectangle 3"/>
          <p:cNvSpPr/>
          <p:nvPr/>
        </p:nvSpPr>
        <p:spPr>
          <a:xfrm>
            <a:off x="826920" y="4797360"/>
            <a:ext cx="2881440" cy="1008000"/>
          </a:xfrm>
          <a:prstGeom prst="rect">
            <a:avLst/>
          </a:prstGeom>
          <a:noFill/>
          <a:ln w="5724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2"/>
          <p:cNvSpPr/>
          <p:nvPr/>
        </p:nvSpPr>
        <p:spPr>
          <a:xfrm>
            <a:off x="0" y="333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3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e never know _____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the old man  is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They say he is a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teacher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at        B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o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ich      D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ere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755640" y="4076640"/>
            <a:ext cx="3168720" cy="1008000"/>
          </a:xfrm>
          <a:prstGeom prst="rect">
            <a:avLst/>
          </a:prstGeom>
          <a:noFill/>
          <a:ln w="5724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2"/>
          <p:cNvSpPr/>
          <p:nvPr/>
        </p:nvSpPr>
        <p:spPr>
          <a:xfrm>
            <a:off x="0" y="260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 was told __  Bill Gates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as thirteen he began to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play with computers.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that how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ow that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hen that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that when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9" name="Rectangle 3"/>
          <p:cNvSpPr/>
          <p:nvPr/>
        </p:nvSpPr>
        <p:spPr>
          <a:xfrm>
            <a:off x="900000" y="5734080"/>
            <a:ext cx="4535640" cy="934920"/>
          </a:xfrm>
          <a:prstGeom prst="rect">
            <a:avLst/>
          </a:prstGeom>
          <a:noFill/>
          <a:ln w="5724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Text Box 2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5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ould you tell me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___ ?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'm going to see him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Sorry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，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 don't know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.  where does Mr Li live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.  where did Mr Li live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.  Where  Mr Li lives 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.  where  MrLi   lived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755640" y="4581360"/>
            <a:ext cx="6696000" cy="1008360"/>
          </a:xfrm>
          <a:prstGeom prst="rect">
            <a:avLst/>
          </a:prstGeom>
          <a:noFill/>
          <a:ln w="5724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4"/>
          <p:cNvSpPr/>
          <p:nvPr/>
        </p:nvSpPr>
        <p:spPr>
          <a:xfrm>
            <a:off x="0" y="333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6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 here do you think ___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e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__  the computer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？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Sorry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，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 have no idea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／；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ought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as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；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ought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id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；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uy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oes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；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uy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3" name="Rectangle 5"/>
          <p:cNvSpPr/>
          <p:nvPr/>
        </p:nvSpPr>
        <p:spPr>
          <a:xfrm>
            <a:off x="826920" y="3141720"/>
            <a:ext cx="5257800" cy="934920"/>
          </a:xfrm>
          <a:prstGeom prst="rect">
            <a:avLst/>
          </a:prstGeom>
          <a:noFill/>
          <a:ln w="5724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5"/>
          <p:cNvSpPr/>
          <p:nvPr/>
        </p:nvSpPr>
        <p:spPr>
          <a:xfrm>
            <a:off x="0" y="47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连词</a:t>
            </a:r>
            <a:r>
              <a:rPr b="1" lang="en-US" sz="6000" spc="-1" strike="noStrike">
                <a:solidFill>
                  <a:srgbClr val="6fa9b7"/>
                </a:solidFill>
                <a:latin typeface="Arial Narrow"/>
              </a:rPr>
              <a:t>that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：只起连接作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用，在从句中不作句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子成分，也无词汇意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义，在口语中或非正式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文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体中常被省略。例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如：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4" name="AutoShape 7"/>
          <p:cNvSpPr/>
          <p:nvPr/>
        </p:nvSpPr>
        <p:spPr>
          <a:xfrm>
            <a:off x="7956720" y="6165720"/>
            <a:ext cx="647640" cy="432000"/>
          </a:xfrm>
          <a:custGeom>
            <a:avLst/>
            <a:gdLst>
              <a:gd name="textAreaLeft" fmla="*/ 27000 w 647640"/>
              <a:gd name="textAreaRight" fmla="*/ 620640 w 64764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1023" y="1350"/>
                </a:lnTo>
                <a:lnTo>
                  <a:pt x="1350" y="135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1023" y="20250"/>
                </a:lnTo>
                <a:lnTo>
                  <a:pt x="31023" y="135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23" y="2025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73" h="21600">
                <a:moveTo>
                  <a:pt x="19704" y="10800"/>
                </a:moveTo>
                <a:lnTo>
                  <a:pt x="9143" y="17844"/>
                </a:lnTo>
                <a:lnTo>
                  <a:pt x="9143" y="3756"/>
                </a:lnTo>
                <a:close/>
              </a:path>
              <a:path fill="darken" w="32373" h="21600">
                <a:moveTo>
                  <a:pt x="21559" y="3756"/>
                </a:moveTo>
                <a:lnTo>
                  <a:pt x="21559" y="17844"/>
                </a:lnTo>
                <a:lnTo>
                  <a:pt x="23230" y="17844"/>
                </a:lnTo>
                <a:lnTo>
                  <a:pt x="23230" y="375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2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7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 don't feel very well. Mum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sked me ___ this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morning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. what the matter is        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. what is wrong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. what  was  the matter  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. what wrong was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755640" y="4724280"/>
            <a:ext cx="7416720" cy="865440"/>
          </a:xfrm>
          <a:prstGeom prst="rect">
            <a:avLst/>
          </a:prstGeom>
          <a:noFill/>
          <a:ln w="57240">
            <a:solidFill>
              <a:srgbClr val="eb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Text Box 6"/>
          <p:cNvSpPr/>
          <p:nvPr/>
        </p:nvSpPr>
        <p:spPr>
          <a:xfrm>
            <a:off x="108000" y="836640"/>
            <a:ext cx="9036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(    ) Could you tell me ___?          A.when will Tom come back         B.when does Tom come back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C. when Tom will come back         D.when Tom comes back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7" name="Text Box 12"/>
          <p:cNvSpPr/>
          <p:nvPr/>
        </p:nvSpPr>
        <p:spPr>
          <a:xfrm>
            <a:off x="324000" y="9079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C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4"/>
          <p:cNvSpPr/>
          <p:nvPr/>
        </p:nvSpPr>
        <p:spPr>
          <a:xfrm>
            <a:off x="0" y="260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) Do you know __ during the coming summer holiday?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A. what will Tom do            B. what did Tom do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C. what Tom will do                D. what Tom did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9" name="Text Box 5"/>
          <p:cNvSpPr/>
          <p:nvPr/>
        </p:nvSpPr>
        <p:spPr>
          <a:xfrm>
            <a:off x="324000" y="333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C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3"/>
          <p:cNvSpPr/>
          <p:nvPr/>
        </p:nvSpPr>
        <p:spPr>
          <a:xfrm>
            <a:off x="179280" y="189000"/>
            <a:ext cx="896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) —Do you know __ I could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pass the exam?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Sorry, I've no idea.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A. that         B. whether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宋体"/>
              </a:rPr>
              <a:t>C. what       D. which 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1" name="Text Box 4"/>
          <p:cNvSpPr/>
          <p:nvPr/>
        </p:nvSpPr>
        <p:spPr>
          <a:xfrm>
            <a:off x="395280" y="333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B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 Box 2"/>
          <p:cNvSpPr/>
          <p:nvPr/>
        </p:nvSpPr>
        <p:spPr>
          <a:xfrm>
            <a:off x="0" y="260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)—Do you know ____?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     —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Next year.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. when he come                     B. when did he come 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. when he will come 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. when will he come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324000" y="40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C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ext Box 2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800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)Could you tell us ___? 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A. when you will send the  fridge to our hous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B. when will you send the fridge to our hous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C. when you would send the fridge to our hous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5" name="Text Box 3"/>
          <p:cNvSpPr/>
          <p:nvPr/>
        </p:nvSpPr>
        <p:spPr>
          <a:xfrm>
            <a:off x="539640" y="0"/>
            <a:ext cx="5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A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2"/>
          <p:cNvSpPr/>
          <p:nvPr/>
        </p:nvSpPr>
        <p:spPr>
          <a:xfrm>
            <a:off x="0" y="62064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800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) Mr King didn‘t know __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  yesterday evening.      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A. when does his son come hom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B. when did his son come  hom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C. when his son came home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7" name="Text Box 3"/>
          <p:cNvSpPr/>
          <p:nvPr/>
        </p:nvSpPr>
        <p:spPr>
          <a:xfrm>
            <a:off x="468360" y="476280"/>
            <a:ext cx="43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8" name="Text Box 4"/>
          <p:cNvSpPr/>
          <p:nvPr/>
        </p:nvSpPr>
        <p:spPr>
          <a:xfrm>
            <a:off x="250920" y="620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C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2"/>
          <p:cNvSpPr/>
          <p:nvPr/>
        </p:nvSpPr>
        <p:spPr>
          <a:xfrm>
            <a:off x="0" y="33336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) Excuse me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，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an you tell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me ___?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. does the train leave 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. If the train had left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. if the train leaves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D. did the train leav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324000" y="4665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C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2"/>
          <p:cNvSpPr/>
          <p:nvPr/>
        </p:nvSpPr>
        <p:spPr>
          <a:xfrm>
            <a:off x="0" y="549360"/>
            <a:ext cx="896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) I wonder _________.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. where have you gone    B. where you have gone    C. where have you been    D. where you have been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2" name="Text Box 3"/>
          <p:cNvSpPr/>
          <p:nvPr/>
        </p:nvSpPr>
        <p:spPr>
          <a:xfrm>
            <a:off x="324000" y="60948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D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2"/>
          <p:cNvSpPr/>
          <p:nvPr/>
        </p:nvSpPr>
        <p:spPr>
          <a:xfrm>
            <a:off x="0" y="26028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) He wants to know ___ America.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A. when will Mr Li leave for 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B. when will Mr Wang stay in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C. why will Mr Wang stay in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800280" indent="-80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D. when Mr Wang will leave for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4" name="Text Box 3"/>
          <p:cNvSpPr/>
          <p:nvPr/>
        </p:nvSpPr>
        <p:spPr>
          <a:xfrm>
            <a:off x="324000" y="33336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D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WordArt 2" descr=""/>
          <p:cNvPicPr/>
          <p:nvPr/>
        </p:nvPicPr>
        <p:blipFill>
          <a:blip r:embed="rId1"/>
          <a:stretch/>
        </p:blipFill>
        <p:spPr>
          <a:xfrm>
            <a:off x="1749600" y="987480"/>
            <a:ext cx="6662520" cy="592200"/>
          </a:xfrm>
          <a:prstGeom prst="rect">
            <a:avLst/>
          </a:prstGeom>
          <a:ln w="0">
            <a:noFill/>
          </a:ln>
        </p:spPr>
      </p:pic>
      <p:sp>
        <p:nvSpPr>
          <p:cNvPr id="856" name="Rectangle 3"/>
          <p:cNvSpPr/>
          <p:nvPr/>
        </p:nvSpPr>
        <p:spPr>
          <a:xfrm>
            <a:off x="990720" y="1981080"/>
            <a:ext cx="739116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ahoma"/>
                <a:ea typeface="华文新魏"/>
              </a:rPr>
              <a:t>注</a:t>
            </a:r>
            <a:r>
              <a:rPr b="1" lang="zh-CN" sz="2400" spc="-1" strike="noStrike">
                <a:solidFill>
                  <a:srgbClr val="ff3399"/>
                </a:solidFill>
                <a:latin typeface="Tahoma"/>
                <a:ea typeface="华文新魏"/>
              </a:rPr>
              <a:t>：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华文新魏"/>
              </a:rPr>
              <a:t>that </a:t>
            </a:r>
            <a:r>
              <a:rPr b="1" lang="zh-CN" sz="2400" spc="-1" strike="noStrike">
                <a:solidFill>
                  <a:srgbClr val="ff6600"/>
                </a:solidFill>
                <a:latin typeface="Tahoma"/>
                <a:ea typeface="华文新魏"/>
              </a:rPr>
              <a:t>在句中无词汇意义，在从句中不能充当成分，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ahoma"/>
                <a:ea typeface="华文新魏"/>
              </a:rPr>
              <a:t>在口语当中往往省略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7" name="Text Box 4"/>
          <p:cNvSpPr/>
          <p:nvPr/>
        </p:nvSpPr>
        <p:spPr>
          <a:xfrm>
            <a:off x="228600" y="3200400"/>
            <a:ext cx="86104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e.g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 hear (that) _______________________.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（一小时后他会回来）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e said (that) ______________________.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（他非常想念我们）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teacher told us (that) ___________________________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（地球围着太阳转）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8" name="Text Box 5"/>
          <p:cNvSpPr/>
          <p:nvPr/>
        </p:nvSpPr>
        <p:spPr>
          <a:xfrm>
            <a:off x="228600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he will be back in an hou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2438280" y="41911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he missed us very much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0" name="Text Box 7"/>
          <p:cNvSpPr/>
          <p:nvPr/>
        </p:nvSpPr>
        <p:spPr>
          <a:xfrm>
            <a:off x="3886200" y="48006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the earth moves around the su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61" name="Picture 8" descr="return"/>
          <p:cNvPicPr/>
          <p:nvPr/>
        </p:nvPicPr>
        <p:blipFill>
          <a:blip r:embed="rId2"/>
          <a:stretch/>
        </p:blipFill>
        <p:spPr>
          <a:xfrm>
            <a:off x="0" y="5791320"/>
            <a:ext cx="685800" cy="331560"/>
          </a:xfrm>
          <a:prstGeom prst="rect">
            <a:avLst/>
          </a:prstGeom>
          <a:ln w="0">
            <a:noFill/>
          </a:ln>
        </p:spPr>
      </p:pic>
      <p:sp>
        <p:nvSpPr>
          <p:cNvPr id="862" name="AutoShape 9"/>
          <p:cNvSpPr/>
          <p:nvPr/>
        </p:nvSpPr>
        <p:spPr>
          <a:xfrm>
            <a:off x="8028000" y="6237360"/>
            <a:ext cx="647640" cy="360360"/>
          </a:xfrm>
          <a:custGeom>
            <a:avLst/>
            <a:gdLst>
              <a:gd name="textAreaLeft" fmla="*/ 22320 w 647640"/>
              <a:gd name="textAreaRight" fmla="*/ 625320 w 64764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52" y="1350"/>
                </a:lnTo>
                <a:lnTo>
                  <a:pt x="1350" y="135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52" y="20250"/>
                </a:lnTo>
                <a:lnTo>
                  <a:pt x="37452" y="135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452" y="2025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8802" h="21600">
                <a:moveTo>
                  <a:pt x="12357" y="3756"/>
                </a:moveTo>
                <a:lnTo>
                  <a:pt x="26445" y="10800"/>
                </a:lnTo>
                <a:lnTo>
                  <a:pt x="12357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2"/>
          <p:cNvSpPr/>
          <p:nvPr/>
        </p:nvSpPr>
        <p:spPr>
          <a:xfrm>
            <a:off x="0" y="47628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(    ) I want to know if __ a  meeting tomorrow.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A. you have                     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B. you will hav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C. do you have                  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D. will you have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6" name="Text Box 3"/>
          <p:cNvSpPr/>
          <p:nvPr/>
        </p:nvSpPr>
        <p:spPr>
          <a:xfrm>
            <a:off x="250920" y="62064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B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2"/>
          <p:cNvSpPr/>
          <p:nvPr/>
        </p:nvSpPr>
        <p:spPr>
          <a:xfrm>
            <a:off x="0" y="18900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)  He asked me whether I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___ to his birthday party if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I ___ time.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A. was going, had  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B. would go ,would have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C. will go, have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8" name="Text Box 3"/>
          <p:cNvSpPr/>
          <p:nvPr/>
        </p:nvSpPr>
        <p:spPr>
          <a:xfrm>
            <a:off x="250920" y="26028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A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2"/>
          <p:cNvSpPr/>
          <p:nvPr/>
        </p:nvSpPr>
        <p:spPr>
          <a:xfrm>
            <a:off x="0" y="62064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   ) He said he ____ to visit that famous museum the next week.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  <a:ea typeface="华文中宋"/>
              </a:rPr>
              <a:t>A. will go     B. should go    C. were going  D. would go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0" name="Text Box 4"/>
          <p:cNvSpPr/>
          <p:nvPr/>
        </p:nvSpPr>
        <p:spPr>
          <a:xfrm>
            <a:off x="324000" y="69228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D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Text Box 2"/>
          <p:cNvSpPr/>
          <p:nvPr/>
        </p:nvSpPr>
        <p:spPr>
          <a:xfrm>
            <a:off x="0" y="3333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) He asked __ they could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go to Beijing or Nanjing.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A. how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B. what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. if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D. whether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2" name="Text Box 3"/>
          <p:cNvSpPr/>
          <p:nvPr/>
        </p:nvSpPr>
        <p:spPr>
          <a:xfrm>
            <a:off x="179280" y="47628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3415"/>
                </a:solidFill>
                <a:latin typeface="Arial Narrow"/>
              </a:rPr>
              <a:t>D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amond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使用规范说明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 Narrow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pic>
          <p:nvPicPr>
            <p:cNvPr id="10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3"/>
          <p:cNvSpPr/>
          <p:nvPr/>
        </p:nvSpPr>
        <p:spPr>
          <a:xfrm>
            <a:off x="0" y="3222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3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连接代词</a:t>
            </a: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who, whom,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whose,what, which: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它们起连接作用，作句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子成分，各有其自己的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意义。例如：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7667640" y="6021360"/>
            <a:ext cx="720720" cy="503280"/>
          </a:xfrm>
          <a:custGeom>
            <a:avLst/>
            <a:gdLst>
              <a:gd name="textAreaLeft" fmla="*/ 31320 w 720720"/>
              <a:gd name="textAreaRight" fmla="*/ 689400 w 72072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76" y="1350"/>
                </a:lnTo>
                <a:lnTo>
                  <a:pt x="1350" y="135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76" y="20250"/>
                </a:lnTo>
                <a:lnTo>
                  <a:pt x="29576" y="135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576" y="2025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926" h="21600">
                <a:moveTo>
                  <a:pt x="8419" y="3756"/>
                </a:moveTo>
                <a:lnTo>
                  <a:pt x="22507" y="10800"/>
                </a:lnTo>
                <a:lnTo>
                  <a:pt x="8419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2"/>
          <p:cNvSpPr/>
          <p:nvPr/>
        </p:nvSpPr>
        <p:spPr>
          <a:xfrm>
            <a:off x="0" y="33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99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The teacher a</a:t>
            </a:r>
            <a:r>
              <a:rPr b="1" lang="en-US" sz="6000" spc="-1" strike="noStrike">
                <a:solidFill>
                  <a:srgbClr val="f2aa68"/>
                </a:solidFill>
                <a:latin typeface="Arial Narrow"/>
              </a:rPr>
              <a:t>sked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the new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student </a:t>
            </a:r>
            <a:r>
              <a:rPr b="1" lang="en-US" sz="6000" spc="-1" strike="noStrike">
                <a:solidFill>
                  <a:srgbClr val="ff9900"/>
                </a:solidFill>
                <a:latin typeface="Arial Narrow"/>
              </a:rPr>
              <a:t>which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class he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was in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？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611280" y="3716280"/>
            <a:ext cx="784836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which</a:t>
            </a:r>
            <a:r>
              <a:rPr b="1" lang="zh-CN" sz="5400" spc="-1" strike="noStrike">
                <a:solidFill>
                  <a:srgbClr val="ffffff"/>
                </a:solidFill>
                <a:latin typeface="Arial Narrow"/>
              </a:rPr>
              <a:t>引导宾语从句，在从句中作定语，修饰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class</a:t>
            </a:r>
            <a:r>
              <a:rPr b="1" lang="zh-CN" sz="5400" spc="-1" strike="noStrike">
                <a:solidFill>
                  <a:srgbClr val="ffffff"/>
                </a:solidFill>
                <a:latin typeface="Arial Narrow"/>
              </a:rPr>
              <a:t>，意为“哪个”。</a:t>
            </a:r>
            <a:endParaRPr b="1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5364000" y="2205000"/>
            <a:ext cx="2448000" cy="0"/>
          </a:xfrm>
          <a:prstGeom prst="line">
            <a:avLst/>
          </a:prstGeom>
          <a:ln w="5724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8" name="Line 5"/>
          <p:cNvSpPr/>
          <p:nvPr/>
        </p:nvSpPr>
        <p:spPr>
          <a:xfrm>
            <a:off x="900000" y="3068640"/>
            <a:ext cx="2232000" cy="0"/>
          </a:xfrm>
          <a:prstGeom prst="line">
            <a:avLst/>
          </a:prstGeom>
          <a:ln w="5724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9" name="AutoShape 6"/>
          <p:cNvSpPr/>
          <p:nvPr/>
        </p:nvSpPr>
        <p:spPr>
          <a:xfrm>
            <a:off x="7956720" y="6381720"/>
            <a:ext cx="718920" cy="476280"/>
          </a:xfrm>
          <a:custGeom>
            <a:avLst/>
            <a:gdLst>
              <a:gd name="textAreaLeft" fmla="*/ 29520 w 718920"/>
              <a:gd name="textAreaRight" fmla="*/ 689400 w 71892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32596" h="21600">
                <a:moveTo>
                  <a:pt x="0" y="0"/>
                </a:moveTo>
                <a:lnTo>
                  <a:pt x="32596" y="0"/>
                </a:lnTo>
                <a:lnTo>
                  <a:pt x="32596" y="21600"/>
                </a:lnTo>
                <a:lnTo>
                  <a:pt x="0" y="21600"/>
                </a:lnTo>
                <a:close/>
              </a:path>
              <a:path fill="lightenLess" w="32596" h="21600">
                <a:moveTo>
                  <a:pt x="0" y="0"/>
                </a:moveTo>
                <a:lnTo>
                  <a:pt x="32596" y="0"/>
                </a:lnTo>
                <a:lnTo>
                  <a:pt x="31246" y="1350"/>
                </a:lnTo>
                <a:lnTo>
                  <a:pt x="1350" y="1350"/>
                </a:lnTo>
                <a:close/>
              </a:path>
              <a:path fill="darken" w="32596" h="21600">
                <a:moveTo>
                  <a:pt x="32596" y="0"/>
                </a:moveTo>
                <a:lnTo>
                  <a:pt x="32596" y="21600"/>
                </a:lnTo>
                <a:lnTo>
                  <a:pt x="31246" y="20250"/>
                </a:lnTo>
                <a:lnTo>
                  <a:pt x="31246" y="1350"/>
                </a:lnTo>
                <a:close/>
              </a:path>
              <a:path fill="darkenLess" w="32596" h="21600">
                <a:moveTo>
                  <a:pt x="3259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246" y="20250"/>
                </a:lnTo>
                <a:close/>
              </a:path>
              <a:path fill="lighten" w="3259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596" h="21600">
                <a:moveTo>
                  <a:pt x="9254" y="3756"/>
                </a:moveTo>
                <a:lnTo>
                  <a:pt x="23342" y="10800"/>
                </a:lnTo>
                <a:lnTo>
                  <a:pt x="9254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2"/>
          <p:cNvSpPr/>
          <p:nvPr/>
        </p:nvSpPr>
        <p:spPr>
          <a:xfrm>
            <a:off x="0" y="404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99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an you tell me</a:t>
            </a:r>
            <a:r>
              <a:rPr b="1" lang="en-US" sz="60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 Narrow"/>
              </a:rPr>
              <a:t>whom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he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s </a:t>
            </a:r>
            <a:r>
              <a:rPr b="1" lang="en-US" sz="6000" spc="-1" strike="noStrike">
                <a:solidFill>
                  <a:srgbClr val="006666"/>
                </a:solidFill>
                <a:latin typeface="Arial Narrow"/>
              </a:rPr>
              <a:t>waiting for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？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1" name="Text Box 3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99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2" name="Text Box 4"/>
          <p:cNvSpPr/>
          <p:nvPr/>
        </p:nvSpPr>
        <p:spPr>
          <a:xfrm>
            <a:off x="900000" y="2492280"/>
            <a:ext cx="82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Could you show me </a:t>
            </a:r>
            <a:r>
              <a:rPr b="1" lang="en-US" sz="6000" spc="-1" strike="noStrike">
                <a:solidFill>
                  <a:srgbClr val="ff0000"/>
                </a:solidFill>
                <a:latin typeface="Arial Narrow"/>
              </a:rPr>
              <a:t>which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room I should </a:t>
            </a:r>
            <a:r>
              <a:rPr b="1" lang="en-US" sz="6000" spc="-1" strike="noStrike">
                <a:solidFill>
                  <a:srgbClr val="006666"/>
                </a:solidFill>
                <a:latin typeface="Arial Narrow"/>
              </a:rPr>
              <a:t>live in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3" name="AutoShape 5"/>
          <p:cNvSpPr/>
          <p:nvPr/>
        </p:nvSpPr>
        <p:spPr>
          <a:xfrm>
            <a:off x="7451640" y="6165720"/>
            <a:ext cx="720720" cy="432000"/>
          </a:xfrm>
          <a:custGeom>
            <a:avLst/>
            <a:gdLst>
              <a:gd name="textAreaLeft" fmla="*/ 27000 w 720720"/>
              <a:gd name="textAreaRight" fmla="*/ 693720 w 72072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74" y="1350"/>
                </a:lnTo>
                <a:lnTo>
                  <a:pt x="1350" y="135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74" y="20250"/>
                </a:lnTo>
                <a:lnTo>
                  <a:pt x="34674" y="135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74" y="2025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6024" h="21600">
                <a:moveTo>
                  <a:pt x="10968" y="3756"/>
                </a:moveTo>
                <a:lnTo>
                  <a:pt x="25056" y="10800"/>
                </a:lnTo>
                <a:lnTo>
                  <a:pt x="10968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4" name=""/>
          <p:cNvSpPr/>
          <p:nvPr/>
        </p:nvSpPr>
        <p:spPr>
          <a:xfrm>
            <a:off x="828720" y="4510080"/>
            <a:ext cx="733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ppt课件模板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ttp://www.eeppt.com/moban/kejian/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99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I wonder </a:t>
            </a:r>
            <a:r>
              <a:rPr b="1" lang="en-US" sz="6000" spc="-1" strike="noStrike">
                <a:solidFill>
                  <a:srgbClr val="f2aa68"/>
                </a:solidFill>
                <a:latin typeface="Arial Narrow"/>
              </a:rPr>
              <a:t>where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e got so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much money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6" name="Text Box 5"/>
          <p:cNvSpPr/>
          <p:nvPr/>
        </p:nvSpPr>
        <p:spPr>
          <a:xfrm>
            <a:off x="826920" y="191628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Narrow"/>
              </a:rPr>
              <a:t>对他从哪里弄到那么多钱我感到疑惑。</a:t>
            </a:r>
            <a:endParaRPr b="1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179280" y="3933720"/>
            <a:ext cx="8713800" cy="1831320"/>
          </a:xfrm>
          <a:prstGeom prst="rect">
            <a:avLst/>
          </a:prstGeom>
          <a:noFill/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aa68"/>
                </a:solidFill>
                <a:latin typeface="Tahoma"/>
              </a:rPr>
              <a:t>where</a:t>
            </a:r>
            <a:r>
              <a:rPr b="1" lang="zh-CN" sz="5400" spc="-1" strike="noStrike">
                <a:solidFill>
                  <a:srgbClr val="ffffff"/>
                </a:solidFill>
                <a:latin typeface="华文中宋"/>
              </a:rPr>
              <a:t>在从句中作地点状语</a:t>
            </a:r>
            <a:r>
              <a:rPr b="1" lang="en-US" sz="5400" spc="-1" strike="noStrike">
                <a:solidFill>
                  <a:srgbClr val="ffffff"/>
                </a:solidFill>
                <a:latin typeface="华文中宋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华文中宋"/>
              </a:rPr>
              <a:t>修饰</a:t>
            </a:r>
            <a:r>
              <a:rPr b="1" lang="en-US" sz="5400" spc="-1" strike="noStrike">
                <a:solidFill>
                  <a:srgbClr val="f2aa68"/>
                </a:solidFill>
                <a:latin typeface="Tahoma"/>
              </a:rPr>
              <a:t>got</a:t>
            </a:r>
            <a:r>
              <a:rPr b="1" lang="zh-CN" sz="5400" spc="-1" strike="noStrike">
                <a:solidFill>
                  <a:srgbClr val="ffffff"/>
                </a:solidFill>
                <a:latin typeface="华文中宋"/>
              </a:rPr>
              <a:t>，意为“哪里”； “什么地方”。 </a:t>
            </a:r>
            <a:endParaRPr b="1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8" name="AutoShape 7"/>
          <p:cNvSpPr/>
          <p:nvPr/>
        </p:nvSpPr>
        <p:spPr>
          <a:xfrm>
            <a:off x="7740720" y="6308640"/>
            <a:ext cx="863640" cy="549360"/>
          </a:xfrm>
          <a:custGeom>
            <a:avLst/>
            <a:gdLst>
              <a:gd name="textAreaLeft" fmla="*/ 34200 w 863640"/>
              <a:gd name="textAreaRight" fmla="*/ 829440 w 863640"/>
              <a:gd name="textAreaTop" fmla="*/ 34200 h 549360"/>
              <a:gd name="textAreaBottom" fmla="*/ 51516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2599" y="1350"/>
                </a:lnTo>
                <a:lnTo>
                  <a:pt x="1350" y="1350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2599" y="20250"/>
                </a:lnTo>
                <a:lnTo>
                  <a:pt x="32599" y="1350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599" y="20250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949" h="21600">
                <a:moveTo>
                  <a:pt x="9931" y="3756"/>
                </a:moveTo>
                <a:lnTo>
                  <a:pt x="24018" y="10800"/>
                </a:lnTo>
                <a:lnTo>
                  <a:pt x="9931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2"/>
          <p:cNvSpPr/>
          <p:nvPr/>
        </p:nvSpPr>
        <p:spPr>
          <a:xfrm>
            <a:off x="0" y="404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99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e didn't tell me </a:t>
            </a:r>
            <a:r>
              <a:rPr b="1" lang="en-US" sz="6000" spc="-1" strike="noStrike">
                <a:solidFill>
                  <a:srgbClr val="f2aa68"/>
                </a:solidFill>
                <a:latin typeface="Arial Narrow"/>
              </a:rPr>
              <a:t>how old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his friend was</a:t>
            </a:r>
            <a:r>
              <a:rPr b="1" lang="zh-CN" sz="6000" spc="-1" strike="noStrike">
                <a:solidFill>
                  <a:srgbClr val="ffffff"/>
                </a:solidFill>
                <a:latin typeface="Arial Narrow"/>
              </a:rPr>
              <a:t>．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0" name="Text Box 4"/>
          <p:cNvSpPr/>
          <p:nvPr/>
        </p:nvSpPr>
        <p:spPr>
          <a:xfrm>
            <a:off x="395280" y="2924280"/>
            <a:ext cx="8353440" cy="1739880"/>
          </a:xfrm>
          <a:prstGeom prst="rect">
            <a:avLst/>
          </a:prstGeom>
          <a:noFill/>
          <a:ln w="9360">
            <a:solidFill>
              <a:srgbClr val="f2a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aa68"/>
                </a:solidFill>
                <a:latin typeface="Arial Narrow"/>
              </a:rPr>
              <a:t>how</a:t>
            </a:r>
            <a:r>
              <a:rPr b="1" lang="zh-CN" sz="5400" spc="-1" strike="noStrike">
                <a:solidFill>
                  <a:srgbClr val="ffffff"/>
                </a:solidFill>
                <a:latin typeface="Arial Narrow"/>
              </a:rPr>
              <a:t>引导宾语从句，作程度状语，修饰</a:t>
            </a:r>
            <a:r>
              <a:rPr b="1" lang="en-US" sz="5400" spc="-1" strike="noStrike">
                <a:solidFill>
                  <a:srgbClr val="f2aa68"/>
                </a:solidFill>
                <a:latin typeface="Arial Narrow"/>
              </a:rPr>
              <a:t>old</a:t>
            </a:r>
            <a:r>
              <a:rPr b="1" lang="zh-CN" sz="5400" spc="-1" strike="noStrike">
                <a:solidFill>
                  <a:srgbClr val="ffffff"/>
                </a:solidFill>
                <a:latin typeface="Arial Narrow"/>
              </a:rPr>
              <a:t>，意为“怎样”；“如何”等意。</a:t>
            </a:r>
            <a:endParaRPr b="1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1" name="AutoShape 5"/>
          <p:cNvSpPr/>
          <p:nvPr/>
        </p:nvSpPr>
        <p:spPr>
          <a:xfrm>
            <a:off x="7596360" y="5950080"/>
            <a:ext cx="863280" cy="503280"/>
          </a:xfrm>
          <a:custGeom>
            <a:avLst/>
            <a:gdLst>
              <a:gd name="textAreaLeft" fmla="*/ 31320 w 863280"/>
              <a:gd name="textAreaRight" fmla="*/ 831960 w 86328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37040" h="21600">
                <a:moveTo>
                  <a:pt x="0" y="0"/>
                </a:moveTo>
                <a:lnTo>
                  <a:pt x="37040" y="0"/>
                </a:lnTo>
                <a:lnTo>
                  <a:pt x="37040" y="21600"/>
                </a:lnTo>
                <a:lnTo>
                  <a:pt x="0" y="21600"/>
                </a:lnTo>
                <a:close/>
              </a:path>
              <a:path fill="lightenLess" w="37040" h="21600">
                <a:moveTo>
                  <a:pt x="0" y="0"/>
                </a:moveTo>
                <a:lnTo>
                  <a:pt x="37040" y="0"/>
                </a:lnTo>
                <a:lnTo>
                  <a:pt x="35690" y="1350"/>
                </a:lnTo>
                <a:lnTo>
                  <a:pt x="1350" y="1350"/>
                </a:lnTo>
                <a:close/>
              </a:path>
              <a:path fill="darken" w="37040" h="21600">
                <a:moveTo>
                  <a:pt x="37040" y="0"/>
                </a:moveTo>
                <a:lnTo>
                  <a:pt x="37040" y="21600"/>
                </a:lnTo>
                <a:lnTo>
                  <a:pt x="35690" y="20250"/>
                </a:lnTo>
                <a:lnTo>
                  <a:pt x="35690" y="1350"/>
                </a:lnTo>
                <a:close/>
              </a:path>
              <a:path fill="darkenLess" w="37040" h="21600">
                <a:moveTo>
                  <a:pt x="3704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690" y="20250"/>
                </a:lnTo>
                <a:close/>
              </a:path>
              <a:path fill="lighten" w="3704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040" h="21600">
                <a:moveTo>
                  <a:pt x="11476" y="3756"/>
                </a:moveTo>
                <a:lnTo>
                  <a:pt x="25564" y="10800"/>
                </a:lnTo>
                <a:lnTo>
                  <a:pt x="11476" y="17844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8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02:59:33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5:46:37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