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6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BB4-CF04-4EF1-929D-8BBD80B1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6C9-EF1D-4F19-916B-845C69A7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FCC-F269-4924-9B26-17172D14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EEE-F141-44FB-8E6F-92B92566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F69D-7572-44F3-9478-AD5E6337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E7CA-D471-4716-9BB1-758A8459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B9B9-9809-49AC-ABF6-19CED91C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5C3A-EF1C-4B87-8415-9D5C2A51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C6C9-1368-4DDF-8F5A-A76B268C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DF48-BEA1-4847-AE21-14400659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922F-ED4A-4B0F-B0A2-3B29DE26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51A-BA3B-42B4-96BF-B865E6CC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0D48-AAF0-47A3-8F95-33E73EFD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BB48-BC3D-42C2-AAAC-A9EE06D4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3A00-3147-48E5-BA9A-AC341753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1740-EA18-46C6-9710-9946ADD8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7B15-7621-493E-990F-A57006EB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609-C108-4DE0-AA7B-29C66AAB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2B3-DA74-493C-B4F6-6F7A0758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D93-37FA-470C-89D0-BA84A919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1FF-675B-4576-AA74-AD155434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ABEF-8ECD-4962-B02C-1E134EDC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F68-3742-4781-B64A-2EEBB8ED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FE9-BECC-45B4-A702-53429A34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62A3-F956-4E1C-BCF1-E47C5B9774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2C99-83D6-4D2C-BF4F-CEBF1C83B89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25A4-1D00-4F4B-80F9-E09E0FF4E8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:\大师\草船借箭\jpg\12.bmp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dzy"/>
          <p:cNvPicPr/>
          <p:nvPr/>
        </p:nvPicPr>
        <p:blipFill>
          <a:blip r:embed="rId2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草船借箭一"/>
          <p:cNvPicPr/>
          <p:nvPr/>
        </p:nvPicPr>
        <p:blipFill>
          <a:blip r:embed="rId3"/>
          <a:stretch/>
        </p:blipFill>
        <p:spPr>
          <a:xfrm>
            <a:off x="3886200" y="18860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1905120" y="380880"/>
            <a:ext cx="5105160" cy="12621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义务教育课程标准实验教科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人教版小学语文五年级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562720" y="548496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达州职业技术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师范系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09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级语文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邓兴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450800" y="1752480"/>
            <a:ext cx="1003320" cy="4343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草船借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:\大师\草船借箭\jpg\3.jpg"/>
          <p:cNvPicPr/>
          <p:nvPr/>
        </p:nvPicPr>
        <p:blipFill>
          <a:blip r:embed="rId1"/>
          <a:stretch/>
        </p:blipFill>
        <p:spPr>
          <a:xfrm>
            <a:off x="0" y="-3240"/>
            <a:ext cx="4678200" cy="6861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H:\大师\草船借箭\jpg\4.jpg"/>
          <p:cNvPicPr/>
          <p:nvPr/>
        </p:nvPicPr>
        <p:blipFill>
          <a:blip r:embed="rId2"/>
          <a:stretch/>
        </p:blipFill>
        <p:spPr>
          <a:xfrm>
            <a:off x="4395960" y="-3240"/>
            <a:ext cx="4748040" cy="6861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1520" y="6435720"/>
            <a:ext cx="69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件下载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160020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2971800" y="1371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267080" y="1371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556272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693432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800100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45720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67652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297180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19112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70102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6386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3276720" y="2666880"/>
            <a:ext cx="6094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800100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3352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写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2209680" y="5754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6248520" y="58309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0" y="4800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认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609480" y="990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1752480" y="1066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2971800" y="990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á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4343400" y="1066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562720" y="990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7086600" y="1066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"/>
          <p:cNvSpPr/>
          <p:nvPr/>
        </p:nvSpPr>
        <p:spPr>
          <a:xfrm>
            <a:off x="8001000" y="1066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"/>
          <p:cNvSpPr/>
          <p:nvPr/>
        </p:nvSpPr>
        <p:spPr>
          <a:xfrm>
            <a:off x="5335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3"/>
          <p:cNvSpPr/>
          <p:nvPr/>
        </p:nvSpPr>
        <p:spPr>
          <a:xfrm>
            <a:off x="18288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297180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hà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5"/>
          <p:cNvSpPr/>
          <p:nvPr/>
        </p:nvSpPr>
        <p:spPr>
          <a:xfrm>
            <a:off x="43434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é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6"/>
          <p:cNvSpPr/>
          <p:nvPr/>
        </p:nvSpPr>
        <p:spPr>
          <a:xfrm>
            <a:off x="563868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70102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u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8"/>
          <p:cNvSpPr/>
          <p:nvPr/>
        </p:nvSpPr>
        <p:spPr>
          <a:xfrm>
            <a:off x="792468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é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9"/>
          <p:cNvSpPr/>
          <p:nvPr/>
        </p:nvSpPr>
        <p:spPr>
          <a:xfrm>
            <a:off x="2362320" y="5410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0"/>
          <p:cNvSpPr/>
          <p:nvPr/>
        </p:nvSpPr>
        <p:spPr>
          <a:xfrm>
            <a:off x="6324480" y="5410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457200" y="990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周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7315200" y="3625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丞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486400" y="3625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弓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533520" y="4768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擂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3733920" y="3625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水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315200" y="2362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私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457200" y="5867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青布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7238880" y="1066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都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3809880" y="2438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曹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2057400" y="990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妒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0" y="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400800" y="480060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心甘情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3733920" y="1030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推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5486400" y="1030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迟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5486400" y="2438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探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2057400" y="2438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调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2057400" y="36212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呐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457200" y="36212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支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3581280" y="4724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军令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3505320" y="5830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自有妙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1"/>
          <p:cNvSpPr/>
          <p:nvPr/>
        </p:nvSpPr>
        <p:spPr>
          <a:xfrm>
            <a:off x="6553080" y="5791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神机妙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2"/>
          <p:cNvSpPr/>
          <p:nvPr/>
        </p:nvSpPr>
        <p:spPr>
          <a:xfrm>
            <a:off x="533520" y="243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惩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课文赏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0" y="12733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有一天，周瑜请诸葛亮商议军事，说：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我们就要跟曹军交战。水上交战，用什么兵器最好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诸葛亮说：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用弓箭最好。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周瑜说：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对，先生跟我想的一样。现在军中缺箭，想请先生负责赶造十万支。这是公事，希望先生不要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推却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诸葛亮说：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都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督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委托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当然照办。不知道这十万支箭什么时候用？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0" y="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周瑜看到诸葛亮挺有才干，心里很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妒忌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6705720" y="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妒忌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对才能、名誉、地位或境遇等比自己好的人心怀怨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6705720" y="1752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推却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拒绝；推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6858000" y="289548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都：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dū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都市；首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dōu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都是；都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6705720" y="5103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委托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请人或机构等代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0"/>
            <a:ext cx="66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周瑜问：“十天造得好吗？”诸葛亮说：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然就要交战，十天造好，必然误大事。”周瑜问：“先生预计几天可以造好？”诸葛亮说：“只要三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.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周瑜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: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军情紧急，可不能开玩笑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诸葛亮说：“怎么敢跟都督开玩笑？我愿意立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军令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三天造不好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甘受惩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”周瑜很高兴，叫诸葛亮当面立下军令状，有摆了酒席招待他。诸葛亮说：“今天来不及了。从明天起，到第三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6858000" y="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既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(j ì 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既然  既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6934320" y="1600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军令状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接受军令的保证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6934320" y="38098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甘受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心甘情愿的接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7010280" y="565776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惩罚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处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0" y="0"/>
            <a:ext cx="66294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请派五百个军士到江边来搬箭。”诸葛亮喝了几杯就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鲁肃对周瑜说：“十万只箭，三天怎么造得成呢？诸葛亮说的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话吧？”周瑜说：“是他自己说的，我可没逼他。我得吩咐军匠们，叫他们故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迟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造箭用的材料，不给他准备齐全。到时候造不成，定他的罪，他就没话可说了。你去探听探听，看他怎麽打算，回来报告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7010280" y="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假：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jiǎ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真假  假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jià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假期  暑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6934320" y="3200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迟延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拖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3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鲁肃见了诸葛亮。诸葛亮说：“三天之内要造十万只箭，得请你帮帮我的忙。”鲁肃说：“都是你自己找的，我怎么帮得了你的忙？”诸葛亮说：“你借给我二十条船，每条船上要三十名军士。船用青布幔子遮起来，还要一千多个草把子，排在船的两边。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自有妙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第三天管保有十万支箭。不过不能让都督知道，他要是知道了，我的计划就完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6629400" y="4191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自有妙用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自然有巧妙的用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0" y="0"/>
            <a:ext cx="6553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鲁肃答应了。他不知道诸葛亮借船有什么用，回来报告周瑜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果然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不提借船的事。只说诸葛亮不用竹子、翎毛、胶漆这些材料。周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疑惑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起来，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到了第三天，看他怎么办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鲁肃私自拨了二十条快船，每条船上配三十名军士，照诸葛亮说的，布置好青布幔子和草把子，等诸葛亮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调度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6248520" y="609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果然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表示事实与所说或所料相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6324480" y="23623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疑惑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本课指心里不明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6324480" y="565776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调度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管理并安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0" y="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第一天，不见诸葛亮有什么动静；第二天，仍然不见诸葛亮有什么动静；直到第三天四更时候，诸葛亮秘密地把鲁肃请到船里。鲁肃问他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你叫我来做什么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诸葛亮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请你去取箭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鲁肃问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哪里去取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诸葛亮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不用问，去了就知道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诸葛亮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吩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把二十条船用绳索连接起来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朝北岸开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6553080" y="4495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吩咐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口头指派或命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导语设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0" y="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曹操听到鼓声和呐喊声就下令说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江上雾很大，敌人忽然来攻，我们看不清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虚实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不要轻易出动。只叫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弓弩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手朝他们射箭，不让他们近前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万多名弓努手一齐朝江中放箭，箭好像下雨一样。诸葛亮又下令把船掉过来，船头朝东，船尾朝西，仍旧擂鼓呐喊，逼近曹军水寨去受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6705720" y="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虚实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虚和实，泛指实际情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6705720" y="22096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弓弩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弩弓，古代兵器，一种利用机械力量射箭的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这时候大雾漫天，江上连面对面都看不清。天还没亮，船已经靠近曹军的水寨。诸葛亮下令把船头朝西，船尾朝东，一字儿摆开，又叫船上的军士一边擂鼓，一边大声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呐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鲁肃吃惊地说 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曹兵出来，怎么办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诸葛亮笑着说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雾这样大，曹操一定不敢派兵出来。我们只管饮酒取乐，天亮了就回去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6629400" y="2743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呐喊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大声喊叫助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天渐渐亮了，雾还没有散。这时候，船两边的草把上都插满了箭。诸葛亮吩咐军士们高喊“谢谢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丞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的箭”，接着叫二十条船驶回南岸。曹操知道上了当，可是这边的船顺风顺水，已经驶出二十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要追也来不及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5791320" y="16747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丞相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古代辅佐君主的职位最高的大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5867280" y="39607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里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长度单位，一市里等于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150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丈，合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500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0" y="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二十条船靠岸的时候，周瑜派来的五百个军士正好来到江边搬箭。每条船大约有五六千支箭，二十条船总共有十万多支。鲁肃见了周瑜，告诉他借箭的经过。周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长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一声，说：“诸葛亮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神机妙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我真比不上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"/>
          <p:cNvSpPr/>
          <p:nvPr/>
        </p:nvSpPr>
        <p:spPr>
          <a:xfrm>
            <a:off x="5943600" y="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长叹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深深的叹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6019920" y="1828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神机妙算：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惊人的机智，巧妙的谋划，形容有预见性，善于估计客观情势，决定策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课堂讨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课题中的</a:t>
            </a:r>
            <a:r>
              <a:rPr b="1" lang="zh-CN" sz="3600" spc="-1" strike="noStrike">
                <a:solidFill>
                  <a:srgbClr val="0066ff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借</a:t>
            </a:r>
            <a:r>
              <a:rPr b="1" lang="zh-CN" sz="3600" spc="-1" strike="noStrike">
                <a:solidFill>
                  <a:srgbClr val="0066ff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换成</a:t>
            </a:r>
            <a:r>
              <a:rPr b="1" lang="en-US" sz="3600" spc="-1" strike="noStrike">
                <a:solidFill>
                  <a:srgbClr val="0066ff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取</a:t>
            </a:r>
            <a:r>
              <a:rPr b="1" lang="en-US" sz="3600" spc="-1" strike="noStrike">
                <a:solidFill>
                  <a:srgbClr val="0066ff"/>
                </a:solidFill>
                <a:latin typeface="华文隶书"/>
                <a:ea typeface="隶书"/>
              </a:rPr>
              <a:t>”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骗</a:t>
            </a:r>
            <a:r>
              <a:rPr b="1" lang="en-US" sz="3600" spc="-1" strike="noStrike">
                <a:solidFill>
                  <a:srgbClr val="0066ff"/>
                </a:solidFill>
                <a:latin typeface="华文隶书"/>
                <a:ea typeface="隶书"/>
              </a:rPr>
              <a:t>”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偷</a:t>
            </a:r>
            <a:r>
              <a:rPr b="1" lang="en-US" sz="3600" spc="-1" strike="noStrike">
                <a:solidFill>
                  <a:srgbClr val="0066ff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行不行，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0" y="1371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从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太阳出来了，雾还没有散。这时候，船两边的草把子上都插满了箭。诸葛亮吩咐军士们齐声高喊：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谢谢曹丞相的箭！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看出，用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借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好，因为骗箭不用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0" y="5257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用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借箭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更能突出诸葛亮的足智多谋，如果用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骗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作者就不是赞美诸葛亮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0" y="3809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联系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火烧赤壁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来看，也应用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借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因为火烧赤壁时，诸葛亮把箭都还给曹操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0" y="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隶书"/>
                <a:ea typeface="隶书"/>
              </a:rPr>
              <a:t>默读起因部分，请你思考</a:t>
            </a:r>
            <a:r>
              <a:rPr b="1" lang="en-US" sz="3600" spc="-1" strike="noStrike">
                <a:solidFill>
                  <a:srgbClr val="ff3399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0" y="685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ylfaen"/>
                <a:ea typeface="Dotum"/>
              </a:rPr>
              <a:t>       </a:t>
            </a:r>
            <a:r>
              <a:rPr b="1" lang="en-US" sz="3600" spc="-1" strike="noStrike">
                <a:solidFill>
                  <a:srgbClr val="6666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6666ff"/>
                </a:solidFill>
                <a:latin typeface="隶书"/>
                <a:ea typeface="隶书"/>
              </a:rPr>
              <a:t>、周瑜是怎样</a:t>
            </a:r>
            <a:r>
              <a:rPr b="1" lang="zh-CN" sz="3600" spc="-1" strike="noStrike">
                <a:solidFill>
                  <a:srgbClr val="6666ff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6666ff"/>
                </a:solidFill>
                <a:latin typeface="隶书"/>
                <a:ea typeface="隶书"/>
              </a:rPr>
              <a:t>请</a:t>
            </a:r>
            <a:r>
              <a:rPr b="1" lang="zh-CN" sz="3600" spc="-1" strike="noStrike">
                <a:solidFill>
                  <a:srgbClr val="6666ff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6666ff"/>
                </a:solidFill>
                <a:latin typeface="隶书"/>
                <a:ea typeface="隶书"/>
              </a:rPr>
              <a:t>诸葛亮商议军事的？他的真正目的是什么，从哪儿看出来？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周瑜嫉妒诸葛亮的才能，意欲加害诸葛亮，于是以共商军事，作战急需用箭为名，暗里是设下陷阱，假借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公事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逼迫诸葛亮承担造箭任务。从周瑜不动声色的话中反映出他的险恶用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8"/>
          <p:cNvSpPr/>
          <p:nvPr/>
        </p:nvSpPr>
        <p:spPr>
          <a:xfrm>
            <a:off x="0" y="2590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方面诸葛亮顾全大局，为了维护蜀、吴联盟和战胜曹操的十万大军，所以不和周瑜计较。另一方面诸葛亮对于向曹操借箭的计划早就成竹在胸，所以他欣然地立下了周瑜想置他于死地的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军令状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表现出诸葛亮的足智多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华文隶书"/>
                <a:ea typeface="华文隶书"/>
              </a:rPr>
              <a:t>    </a:t>
            </a:r>
            <a:r>
              <a:rPr b="1" lang="en-US" sz="3600" spc="-1" strike="noStrike">
                <a:solidFill>
                  <a:srgbClr val="6666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6666ff"/>
                </a:solidFill>
                <a:latin typeface="隶书"/>
                <a:ea typeface="隶书"/>
              </a:rPr>
              <a:t>、诸葛亮为什么不揭穿他，反而接受赶造十万枝箭的任务，并且立下军令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6324480"/>
            <a:ext cx="5626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曹操生性心疑，为什么在关键时刻他却没有放火箭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0" y="1981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otum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大家都知道三国中有不少是火箭的，但都有一个前提，那就是事先准备好的，当时的火箭是极易受潮，不便保管的，火烧赤壁时是用了火箭的，因为在战前已经准备充分，草船借箭是在曹操没有防备的时候突发事件，至于船上是真人还是假人，当时不在曹操考虑范围内，所以迅速的以普通弓箭击退敌军是自然而然的选择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华文隶书"/>
                <a:ea typeface="华文隶书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诸葛亮吩咐把二十条船用绳索连接起来，朝北岸开去。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       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诸葛亮为什么要把船连接起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905120" y="4800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隶书"/>
                <a:ea typeface="隶书"/>
              </a:rPr>
              <a:t>为了增大受箭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中国有着悠久的文化历史。在这条文化长河中，有四大名著始终闪烁着耀眼的光芒，你们知道是哪四大名著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43000" y="2057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143000" y="31240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水浒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143000" y="4343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西游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143000" y="5486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红楼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三国演义 滚滚长江东逝水 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8474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这时候大雾漫天，江上连面对面都看不清。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0" y="21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诸葛亮为什么选择大雾漫天的时候去借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828800" y="4800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隶书"/>
                <a:ea typeface="隶书"/>
              </a:rPr>
              <a:t>为了使敌人不明真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诸葛亮下令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又叫船上的军士一边擂鼓，一边大声呐喊。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诸葛亮为什么下令军士擂鼓呐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828800" y="4800600"/>
            <a:ext cx="45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隶书"/>
                <a:ea typeface="隶书"/>
              </a:rPr>
              <a:t>为了制造进攻的假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MediaPlayer1" descr=""/>
          <p:cNvPicPr/>
          <p:nvPr/>
        </p:nvPicPr>
        <p:blipFill>
          <a:blip r:embed="rId1"/>
          <a:stretch/>
        </p:blipFill>
        <p:spPr>
          <a:xfrm>
            <a:off x="9396360" y="4869000"/>
            <a:ext cx="504720" cy="57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0" y="0"/>
            <a:ext cx="91440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Dotum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诸葛亮下令把船头朝西，船尾朝东，一字儿摆开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诸葛亮又下令把船掉过来，船头朝东，船尾朝西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隶书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0" y="28195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Dotum"/>
              </a:rPr>
              <a:t>　</a:t>
            </a:r>
            <a:r>
              <a:rPr b="1" lang="zh-CN" sz="3600" spc="-1" strike="noStrike">
                <a:solidFill>
                  <a:srgbClr val="0000cc"/>
                </a:solidFill>
                <a:latin typeface="华文隶书"/>
                <a:ea typeface="华文隶书"/>
              </a:rPr>
              <a:t>　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诸葛亮为什么先下令船头朝西，船尾朝东；然后又下令船头朝东，船尾朝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828800" y="4800600"/>
            <a:ext cx="60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隶书"/>
                <a:ea typeface="隶书"/>
              </a:rPr>
              <a:t>为了撤退的方便，节省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Dotum"/>
              </a:rPr>
              <a:t>　　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诸葛亮的神机妙算体现在哪些地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0" y="3276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隶书"/>
                <a:ea typeface="隶书"/>
              </a:rPr>
              <a:t>②</a:t>
            </a:r>
            <a:r>
              <a:rPr b="1" lang="zh-CN" sz="3600" spc="-1" strike="noStrike">
                <a:solidFill>
                  <a:srgbClr val="00b050"/>
                </a:solidFill>
                <a:latin typeface="隶书"/>
                <a:ea typeface="隶书"/>
              </a:rPr>
              <a:t>熟悉气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隶书"/>
                <a:ea typeface="隶书"/>
              </a:rPr>
              <a:t>④</a:t>
            </a:r>
            <a:r>
              <a:rPr b="1" lang="zh-CN" sz="3600" spc="-1" strike="noStrike">
                <a:solidFill>
                  <a:srgbClr val="00b050"/>
                </a:solidFill>
                <a:latin typeface="隶书"/>
                <a:ea typeface="隶书"/>
              </a:rPr>
              <a:t>布置周密、准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隶书"/>
                <a:ea typeface="隶书"/>
              </a:rPr>
              <a:t>①</a:t>
            </a:r>
            <a:r>
              <a:rPr b="1" lang="zh-CN" sz="3600" spc="-1" strike="noStrike">
                <a:solidFill>
                  <a:srgbClr val="00b050"/>
                </a:solidFill>
                <a:latin typeface="隶书"/>
                <a:ea typeface="隶书"/>
              </a:rPr>
              <a:t>诸葛亮对周瑜的险恶用心早已了然于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0" y="4267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隶书"/>
                <a:ea typeface="隶书"/>
              </a:rPr>
              <a:t>③</a:t>
            </a:r>
            <a:r>
              <a:rPr b="1" lang="zh-CN" sz="3600" spc="-1" strike="noStrike">
                <a:solidFill>
                  <a:srgbClr val="00b050"/>
                </a:solidFill>
                <a:latin typeface="隶书"/>
                <a:ea typeface="隶书"/>
              </a:rPr>
              <a:t>对曹操和鲁肃的个性把握准确透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板书设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3"/>
          <p:cNvSpPr/>
          <p:nvPr/>
        </p:nvSpPr>
        <p:spPr>
          <a:xfrm>
            <a:off x="900000" y="762120"/>
            <a:ext cx="360360" cy="5329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138960 h 5329080"/>
              <a:gd name="textAreaBottom" fmla="*/ 5190120 h 53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332000" y="2602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起因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2666880" y="228600"/>
            <a:ext cx="12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妒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332000" y="16002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准备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2514600" y="281952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8000 h 2666880"/>
              <a:gd name="textAreaBottom" fmla="*/ 255888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99"/>
                  <a:pt x="10800" y="2798"/>
                </a:cubicBezTo>
                <a:lnTo>
                  <a:pt x="10800" y="8002"/>
                </a:lnTo>
                <a:cubicBezTo>
                  <a:pt x="10800" y="9401"/>
                  <a:pt x="5400" y="10800"/>
                  <a:pt x="0" y="10800"/>
                </a:cubicBezTo>
                <a:cubicBezTo>
                  <a:pt x="5400" y="10800"/>
                  <a:pt x="10800" y="12199"/>
                  <a:pt x="10800" y="13598"/>
                </a:cubicBezTo>
                <a:lnTo>
                  <a:pt x="10800" y="18802"/>
                </a:lnTo>
                <a:cubicBezTo>
                  <a:pt x="10800" y="202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2666880" y="1600200"/>
            <a:ext cx="17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鲁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2666880" y="2590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晓天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51055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帮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1295280" y="3733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经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2590920" y="3773520"/>
            <a:ext cx="17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曹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6"/>
          <p:cNvSpPr/>
          <p:nvPr/>
        </p:nvSpPr>
        <p:spPr>
          <a:xfrm>
            <a:off x="5257800" y="4800600"/>
            <a:ext cx="20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水行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5257800" y="25909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雾为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1371600" y="57913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结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2771640" y="5805360"/>
            <a:ext cx="11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叹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1"/>
          <p:cNvSpPr/>
          <p:nvPr/>
        </p:nvSpPr>
        <p:spPr>
          <a:xfrm>
            <a:off x="7416720" y="692280"/>
            <a:ext cx="432000" cy="5545080"/>
          </a:xfrm>
          <a:custGeom>
            <a:avLst/>
            <a:gdLst>
              <a:gd name="textAreaLeft" fmla="*/ 0 w 432000"/>
              <a:gd name="textAreaRight" fmla="*/ 155880 w 432000"/>
              <a:gd name="textAreaTop" fmla="*/ 144360 h 5545080"/>
              <a:gd name="textAreaBottom" fmla="*/ 5400720 h 55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5105520" y="37339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逼寨受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4"/>
          <p:cNvSpPr/>
          <p:nvPr/>
        </p:nvSpPr>
        <p:spPr>
          <a:xfrm>
            <a:off x="8383680" y="3809880"/>
            <a:ext cx="60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神机妙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7"/>
          <p:cNvSpPr/>
          <p:nvPr/>
        </p:nvSpPr>
        <p:spPr>
          <a:xfrm>
            <a:off x="8381880" y="609480"/>
            <a:ext cx="60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才智过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2743200" y="4840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地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8"/>
          <p:cNvSpPr/>
          <p:nvPr/>
        </p:nvSpPr>
        <p:spPr>
          <a:xfrm>
            <a:off x="4952880" y="228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陷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9"/>
          <p:cNvSpPr/>
          <p:nvPr/>
        </p:nvSpPr>
        <p:spPr>
          <a:xfrm>
            <a:off x="85320" y="2057400"/>
            <a:ext cx="729000" cy="2743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草船借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0"/>
          <p:cNvSpPr/>
          <p:nvPr/>
        </p:nvSpPr>
        <p:spPr>
          <a:xfrm>
            <a:off x="5181480" y="5791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如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直接箭头连接符 44"/>
          <p:cNvCxnSpPr>
            <a:stCxn id="256" idx="3"/>
            <a:endCxn id="273" idx="1"/>
          </p:cNvCxnSpPr>
          <p:nvPr/>
        </p:nvCxnSpPr>
        <p:spPr>
          <a:xfrm>
            <a:off x="3916080" y="552600"/>
            <a:ext cx="103716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7" name="直接箭头连接符 47"/>
          <p:cNvCxnSpPr>
            <a:stCxn id="259" idx="3"/>
            <a:endCxn id="261" idx="1"/>
          </p:cNvCxnSpPr>
          <p:nvPr/>
        </p:nvCxnSpPr>
        <p:spPr>
          <a:xfrm>
            <a:off x="4382640" y="1924200"/>
            <a:ext cx="72324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8" name="直接箭头连接符 48"/>
          <p:cNvCxnSpPr>
            <a:stCxn id="260" idx="3"/>
            <a:endCxn id="265" idx="1"/>
          </p:cNvCxnSpPr>
          <p:nvPr/>
        </p:nvCxnSpPr>
        <p:spPr>
          <a:xfrm>
            <a:off x="4343400" y="2914200"/>
            <a:ext cx="91512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9" name="直接箭头连接符 49"/>
          <p:cNvCxnSpPr>
            <a:stCxn id="263" idx="3"/>
            <a:endCxn id="269" idx="1"/>
          </p:cNvCxnSpPr>
          <p:nvPr/>
        </p:nvCxnSpPr>
        <p:spPr>
          <a:xfrm flipV="1">
            <a:off x="4303440" y="4057200"/>
            <a:ext cx="802440" cy="38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0" name="直接箭头连接符 50"/>
          <p:cNvCxnSpPr>
            <a:stCxn id="272" idx="3"/>
            <a:endCxn id="264" idx="1"/>
          </p:cNvCxnSpPr>
          <p:nvPr/>
        </p:nvCxnSpPr>
        <p:spPr>
          <a:xfrm flipV="1">
            <a:off x="4343400" y="5123880"/>
            <a:ext cx="915120" cy="38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1" name="直接箭头连接符 51"/>
          <p:cNvCxnSpPr>
            <a:stCxn id="267" idx="3"/>
            <a:endCxn id="275" idx="1"/>
          </p:cNvCxnSpPr>
          <p:nvPr/>
        </p:nvCxnSpPr>
        <p:spPr>
          <a:xfrm flipV="1">
            <a:off x="3962520" y="6114600"/>
            <a:ext cx="1219680" cy="15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4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4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5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1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教师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保证借箭成功的因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0" y="5118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r>
              <a:rPr b="0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水的作用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（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冬季刮西北风，使船回去时</a:t>
            </a:r>
            <a:r>
              <a:rPr b="0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顺风顺水</a:t>
            </a:r>
            <a:r>
              <a:rPr b="0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。等到曹军发觉时，船已飞一样驶出二十多里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0" y="3962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r>
              <a:rPr b="0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士兵作用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（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擂露呐喊，虚造声势，引敌射箭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152280" y="23623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r>
              <a:rPr b="0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曹操多疑之心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（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不仅不轻易出动，令弓弩手射箭，调六千名弓弩手，使箭更多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0" y="1295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r>
              <a:rPr b="0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船的作用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（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草人──雾中似人；相连──空隙较小，易于受箭，正反都可受箭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r>
              <a:rPr b="0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雾的作用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（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冬季，雾在四更最浓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297080" y="685800"/>
            <a:ext cx="53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请你概括人物的性格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0" y="4844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曹操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生性多疑，不睹虚实，不敢轻意出击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0" y="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写法：人物性格鲜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0" y="1295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周瑜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心胸狭窄，凶狠狡诈，妒能忌贤，不顾抗曹大局，一心想刁难，加害诸葛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0" y="261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诸葛亮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顾全大局，豁达大度，足智多谋、才华卓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0" y="4006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鲁肃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忠厚老实，顾全大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3"/>
          <p:cNvSpPr txBox="1"/>
          <p:nvPr/>
        </p:nvSpPr>
        <p:spPr>
          <a:xfrm>
            <a:off x="2895480" y="380880"/>
            <a:ext cx="3267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诸葛亮神机妙算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066680" y="1676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知天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0" y="274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“</a:t>
            </a:r>
            <a:r>
              <a:rPr b="1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第一天，不见诸葛亮有什么动静；第二天，仍然不见诸葛亮有什么动静；直到第三天四更时候，诸葛亮秘密地把鲁肃请到船里。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0" y="5410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“</a:t>
            </a:r>
            <a:r>
              <a:rPr b="1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这时候大雾漫天，江上连面对面都看不清。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57200" y="3733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体会：诸葛亮早在三天前就已经算准了这场大雾。表现出诸葛亮的胸有成竹、从容不迫和神机妙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8" dur="5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8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3430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今天我们要学的课文讲的是我国著名长篇历史小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中的一个故事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草船借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这篇课文是根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的第四十六回的相关内容改编的。故事发生在东汉末年，当时曹操刚刚打败刘备，又派兵进攻孙权。于是刘备和孙权联合起来抵抗曹操。刘备派诸葛亮到孙权那里帮助作战。认真读读课文，看看草船借箭这件事的起因是什么，经过怎样，结果又如何。查字典弄清“神机妙算”这个词语的意思，想想诸葛亮的神机妙算表现在哪些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2"/>
          <p:cNvSpPr txBox="1"/>
          <p:nvPr/>
        </p:nvSpPr>
        <p:spPr>
          <a:xfrm>
            <a:off x="2895480" y="380880"/>
            <a:ext cx="3267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诸葛亮神机妙算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066680" y="1676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懂地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0" y="274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天还没亮，船已经靠近曹军的水寨。诸葛亮下令把船头朝西，船尾朝东，一字儿摆开，又叫船上的军士一边擂鼓，一边大声呐喊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0" y="5105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诸葛亮又下令把船掉过来，船头朝东，船尾朝西，仍然擂鼓呐喊，逼近曹军水寨受箭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7200" y="3733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体会：诸葛亮考虑周密，算准借箭的位置，并且进行了巧妙的安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1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>
            <a:off x="2895480" y="380880"/>
            <a:ext cx="3267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诸葛亮神机妙算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066680" y="1676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识人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0" y="274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诸葛亮笑着说：“雾这样大，曹操一定不敢派兵出来。我们只管饮酒取乐，天亮了就回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0" y="4568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曹操听到鼓声和呐喊声，就下令说：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江上雾很大，敌人忽然来攻，我们看不清虚实，不要轻易出动。只叫弓弩手朝他们射箭，不让他们近前。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457200" y="3733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体会：诸葛亮料事如神，算准了曹操多疑不敢出兵；识鲁肃忠厚老实，不会将安排告诉周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3809880" y="304920"/>
            <a:ext cx="44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黑体"/>
              </a:rPr>
              <a:t>诸葛亮巧妙安排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2895480" y="10666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妙：</a:t>
            </a:r>
            <a:r>
              <a:rPr b="1" lang="zh-CN" sz="3600" spc="-1" strike="noStrike">
                <a:solidFill>
                  <a:srgbClr val="33cc33"/>
                </a:solidFill>
                <a:latin typeface="Times New Roman"/>
                <a:ea typeface="隶书"/>
              </a:rPr>
              <a:t>青布幔子遮船，曹军看不清虚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2971800" y="22096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妙：</a:t>
            </a:r>
            <a:r>
              <a:rPr b="1" lang="zh-CN" sz="3600" spc="-1" strike="noStrike">
                <a:solidFill>
                  <a:srgbClr val="33cc33"/>
                </a:solidFill>
                <a:latin typeface="Times New Roman"/>
                <a:ea typeface="隶书"/>
              </a:rPr>
              <a:t>草靶子排在船两边，吓唬曹营军士，还可以保护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2971800" y="3429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妙：</a:t>
            </a:r>
            <a:r>
              <a:rPr b="1" lang="zh-CN" sz="3600" spc="-1" strike="noStrike">
                <a:solidFill>
                  <a:srgbClr val="33cc33"/>
                </a:solidFill>
                <a:latin typeface="Times New Roman"/>
                <a:ea typeface="隶书"/>
              </a:rPr>
              <a:t>二十只船一字排开，两面受箭，面积大。保证了借箭的数量，保持了船的平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0" y="5105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妙：</a:t>
            </a:r>
            <a:r>
              <a:rPr b="1" lang="zh-CN" sz="3600" spc="-1" strike="noStrike">
                <a:solidFill>
                  <a:srgbClr val="33cc33"/>
                </a:solidFill>
                <a:latin typeface="Times New Roman"/>
                <a:ea typeface="隶书"/>
              </a:rPr>
              <a:t>二十只船来去顺风顺水，曹军望船兴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五妙：</a:t>
            </a:r>
            <a:r>
              <a:rPr b="1" lang="zh-CN" sz="3600" spc="-1" strike="noStrike">
                <a:solidFill>
                  <a:srgbClr val="33cc33"/>
                </a:solidFill>
                <a:latin typeface="Times New Roman"/>
                <a:ea typeface="隶书"/>
              </a:rPr>
              <a:t>船上军士擂鼓呐喊，虚张声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7848720" y="5334120"/>
            <a:ext cx="1295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9" descr="4"/>
          <p:cNvPicPr/>
          <p:nvPr/>
        </p:nvPicPr>
        <p:blipFill>
          <a:blip r:embed="rId1"/>
          <a:srcRect l="1890" t="0" r="44325" b="0"/>
          <a:stretch/>
        </p:blipFill>
        <p:spPr>
          <a:xfrm>
            <a:off x="0" y="0"/>
            <a:ext cx="2895480" cy="4419720"/>
          </a:xfrm>
          <a:prstGeom prst="rect">
            <a:avLst/>
          </a:prstGeom>
          <a:ln w="0">
            <a:noFill/>
          </a:ln>
        </p:spPr>
      </p:pic>
      <p:sp>
        <p:nvSpPr>
          <p:cNvPr id="321" name="Oval 12"/>
          <p:cNvSpPr/>
          <p:nvPr/>
        </p:nvSpPr>
        <p:spPr>
          <a:xfrm>
            <a:off x="8153280" y="320040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小结：诸葛亮上知天文，下晓地理，知己知彼，周密谋划。他足智多谋，具有非凡的才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0" y="2025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笑自己神机妙算（自信的笑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0" y="4844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笑鲁肃忠厚老实（幽默、宽厚的笑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0" y="3930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笑周瑜不自量力（胜利的笑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0" y="3016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笑曹操不敢出兵（胜利的笑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0" y="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诸葛亮的性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6478560" y="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周瑜的性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2046600" y="1447920"/>
            <a:ext cx="1277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大将风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589400" y="4038480"/>
            <a:ext cx="1277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谦虚有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903600" y="1447920"/>
            <a:ext cx="1277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宽宏大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370080" y="4038480"/>
            <a:ext cx="12776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料事如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227160" y="3657600"/>
            <a:ext cx="45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-210960" y="1371600"/>
            <a:ext cx="1277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足智多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7409160" y="1447920"/>
            <a:ext cx="12776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妒才忌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6085080" y="1447920"/>
            <a:ext cx="1277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气量狭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把故事编成了文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0" y="76212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草船借箭不寻常，  要论成败有文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都督周瑜欲陷害，  孔明先生巧应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妙算天文雾漫天，  通晓地利蒙曹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洞悉人心妙计成，  箭如雨下满载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神机妙算诸葛亮，  世世代代美名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905120" y="559116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喜欢的同学读一读，也可以背诵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第一段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1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自然段）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讲周瑜妒忌诸葛亮的才干，用十天造十万支箭的任务为难诸葛亮，诸葛亮接受任务并保证三天造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0" y="504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第四段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最后一个自然段）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诸葛亮如期交箭，周瑜自叹不如小结：按照事情的发展顺序分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0" y="3733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第三段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6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9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自然段）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诸葛亮利用草船向曹操借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0" y="1917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第二段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3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5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自然段）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周瑜不给造箭材料进一步陷害诸葛亮，诸葛亮不要造箭材料，巧妙地做好借箭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扩展阅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长坂坡之战发生于中国三国时代，地点在荆州当阳附近的长坂坡，战斗双方是刘备和曹操。汉献帝建安十二年（公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20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年），曹操派曹仁南下袭击新野，被刘备军击退。次年，在平定北方之后，曹操亲自率军南下荆州。当年八月，刘表病逝，次子刘琮即位后即不战而降，驻扎在樊城的刘表客卿刘备闻讯向江陵撤退，同时通知关羽率水军到江陵会合，民众十余万随行。九月，曹操闻讯派出曹纯领精骑五千急袭江陵，在当阳附近追上刘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W020100512621906997428"/>
          <p:cNvPicPr/>
          <p:nvPr/>
        </p:nvPicPr>
        <p:blipFill>
          <a:blip r:embed="rId1"/>
          <a:stretch/>
        </p:blipFill>
        <p:spPr>
          <a:xfrm>
            <a:off x="0" y="0"/>
            <a:ext cx="5257800" cy="3998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lms_30"/>
          <p:cNvPicPr/>
          <p:nvPr/>
        </p:nvPicPr>
        <p:blipFill>
          <a:blip r:embed="rId2"/>
          <a:stretch/>
        </p:blipFill>
        <p:spPr>
          <a:xfrm>
            <a:off x="5254560" y="990720"/>
            <a:ext cx="38894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8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曹军轻军前进，曹纯率精骑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500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追击刘备军。刘备军一触即溃，刘备弃民先走，令张飞率二十骑断后。后赵云于乱民中遗失了刘备家小，回身寻找。曹操前军追杀刘备，余部围杀赵云。后曹军大部赶上，赵云奋力杀透重围，救出刘备妻甘夫人和刘禅。张飞以大喝吓阻曹军，使得赵云有时间护送刘备妻甘夫人和刘禅逃回，以免刘备妻子和刘阿斗被俘。刘备放弃转往江陵的计划，转为前往江夏和刘表长子刘琦会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20077142475493418"/>
          <p:cNvPicPr/>
          <p:nvPr/>
        </p:nvPicPr>
        <p:blipFill>
          <a:blip r:embed="rId1"/>
          <a:stretch/>
        </p:blipFill>
        <p:spPr>
          <a:xfrm>
            <a:off x="0" y="0"/>
            <a:ext cx="5315040" cy="4286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20090409023533734"/>
          <p:cNvPicPr/>
          <p:nvPr/>
        </p:nvPicPr>
        <p:blipFill>
          <a:blip r:embed="rId2"/>
          <a:stretch/>
        </p:blipFill>
        <p:spPr>
          <a:xfrm>
            <a:off x="5361120" y="2209680"/>
            <a:ext cx="3782880" cy="4648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W020071122405950686658"/>
          <p:cNvPicPr/>
          <p:nvPr/>
        </p:nvPicPr>
        <p:blipFill>
          <a:blip r:embed="rId3"/>
          <a:stretch/>
        </p:blipFill>
        <p:spPr>
          <a:xfrm>
            <a:off x="0" y="2666880"/>
            <a:ext cx="3314880" cy="4191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xinsrc_09305072514592652513510"/>
          <p:cNvPicPr/>
          <p:nvPr/>
        </p:nvPicPr>
        <p:blipFill>
          <a:blip r:embed="rId4"/>
          <a:stretch/>
        </p:blipFill>
        <p:spPr>
          <a:xfrm>
            <a:off x="4597560" y="0"/>
            <a:ext cx="45464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25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作者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4724280" y="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赤壁之战是指三国形成时期，孙权、刘备联军于汉献帝建安十三年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08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在长江赤壁（今湖北赤壁西北）一带大胜曹操军队，奠定三国鼎立基础的著名战役。战争日期在公元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08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七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十二日。是历史上，以少胜多的著名战例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01300000033415120789752536217"/>
          <p:cNvPicPr/>
          <p:nvPr/>
        </p:nvPicPr>
        <p:blipFill>
          <a:blip r:embed="rId1"/>
          <a:stretch/>
        </p:blipFill>
        <p:spPr>
          <a:xfrm>
            <a:off x="0" y="0"/>
            <a:ext cx="3753000" cy="3886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01300000033415120789730563608"/>
          <p:cNvPicPr/>
          <p:nvPr/>
        </p:nvPicPr>
        <p:blipFill>
          <a:blip r:embed="rId2"/>
          <a:stretch/>
        </p:blipFill>
        <p:spPr>
          <a:xfrm>
            <a:off x="0" y="3114720"/>
            <a:ext cx="5391000" cy="3743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2010042942128377"/>
          <p:cNvPicPr/>
          <p:nvPr/>
        </p:nvPicPr>
        <p:blipFill>
          <a:blip r:embed="rId3"/>
          <a:stretch/>
        </p:blipFill>
        <p:spPr>
          <a:xfrm>
            <a:off x="3809880" y="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8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0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三国（公元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2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～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8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，另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84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、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9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或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08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起始说），是中国历史上东汉与西晋之间的分裂对峙时期，有曹魏（魏国）、蜀汉（蜀国）、东吴（吴国）三个政权。三国时代波澜壮阔，充满生机，它们三分东汉州郡之地，各霸一方，称王称霸，互相对峙，魏、蜀、吴三国鼎立期间，虽然兼并战争仍旧继续进行，但是，由于三国的统治者为了巩固和发展自己的势力，都比较重视在社会生产的发展和社会秩序的安定。这种政治局面习称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三国鼎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116_1d"/>
          <p:cNvPicPr/>
          <p:nvPr/>
        </p:nvPicPr>
        <p:blipFill>
          <a:blip r:embed="rId1"/>
          <a:stretch/>
        </p:blipFill>
        <p:spPr>
          <a:xfrm>
            <a:off x="0" y="0"/>
            <a:ext cx="3828960" cy="5105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35cd1a05337290f87a8947c2"/>
          <p:cNvPicPr/>
          <p:nvPr/>
        </p:nvPicPr>
        <p:blipFill>
          <a:blip r:embed="rId2"/>
          <a:stretch/>
        </p:blipFill>
        <p:spPr>
          <a:xfrm>
            <a:off x="3352680" y="0"/>
            <a:ext cx="5791320" cy="3921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SanGuo"/>
          <p:cNvPicPr/>
          <p:nvPr/>
        </p:nvPicPr>
        <p:blipFill>
          <a:blip r:embed="rId3"/>
          <a:stretch/>
        </p:blipFill>
        <p:spPr>
          <a:xfrm>
            <a:off x="0" y="2577960"/>
            <a:ext cx="5079960" cy="42800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1218592651"/>
          <p:cNvPicPr/>
          <p:nvPr/>
        </p:nvPicPr>
        <p:blipFill>
          <a:blip r:embed="rId4"/>
          <a:stretch/>
        </p:blipFill>
        <p:spPr>
          <a:xfrm>
            <a:off x="3429000" y="2573280"/>
            <a:ext cx="57150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2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2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5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6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7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33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2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6_101224420_20090907191816"/>
          <p:cNvPicPr/>
          <p:nvPr/>
        </p:nvPicPr>
        <p:blipFill>
          <a:blip r:embed="rId1"/>
          <a:stretch/>
        </p:blipFill>
        <p:spPr>
          <a:xfrm>
            <a:off x="0" y="3349800"/>
            <a:ext cx="4495680" cy="35082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f234510fca238a3e6159f303"/>
          <p:cNvPicPr/>
          <p:nvPr/>
        </p:nvPicPr>
        <p:blipFill>
          <a:blip r:embed="rId2"/>
          <a:stretch/>
        </p:blipFill>
        <p:spPr>
          <a:xfrm>
            <a:off x="0" y="0"/>
            <a:ext cx="4495680" cy="3384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c60ed0162bf69939962b433f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333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20091011_762a03f0d602c0efcea7Ii4L4KMjlSKZ"/>
          <p:cNvPicPr/>
          <p:nvPr/>
        </p:nvPicPr>
        <p:blipFill>
          <a:blip r:embed="rId4"/>
          <a:stretch/>
        </p:blipFill>
        <p:spPr>
          <a:xfrm>
            <a:off x="4800600" y="342900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3"/>
          <p:cNvSpPr/>
          <p:nvPr/>
        </p:nvSpPr>
        <p:spPr>
          <a:xfrm>
            <a:off x="0" y="492120"/>
            <a:ext cx="914400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歇后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草船借箭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坐享其成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草船借箭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满载而归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草船借箭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有借无还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草船借箭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有误（雾）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             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诸葛亮开口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尽是计谋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诸葛亮草船借箭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用的是疑兵计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  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诸葛亮草船借箭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神机妙算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鲁肃上了孔明的船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糊里糊涂          诸葛亮立军令状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面不改色心不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后人赞美诸葛亮的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7272000" y="2057400"/>
            <a:ext cx="729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一夜浓雾满长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5214600" y="2057400"/>
            <a:ext cx="729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远近难分水渺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580120" y="2133720"/>
            <a:ext cx="1277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骤有飞蝗来战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995040" y="2133720"/>
            <a:ext cx="729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孔明今日伏周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9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0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0" y="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正史中的草船借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       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是小说，虚构成分极多，正史上草船借箭是发生在孙权与曹操的濡须之战，孙权坐船亲自去刺探曹操的军情，被曹操发现命令士兵射箭攻击，孙权的船被射歪差点沉了，他便让船掉个头让箭继续射，这样一来船就平衡了，孙权就把船开走了。孙权的聪明让曹操十分感叹，留下一句名言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生子当如孙仲谋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。此外周瑜的心胸也十分宽广，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嫉妒诸葛亮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纯粹是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为抬高诸葛亮贬低周瑜而虚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诸葛亮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草船借箭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是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中最精彩的故事之一。读了这段故事，常常使人对诸葛亮的聪明才智赞叹不已。然而，诸葛亮的 一生并没有干过这件事。那么，这个故事是不是罗贯中凭空杜撰的呢？那也不是，因为他确有所本。根据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三国志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·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吴书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·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吴主传第二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裴松之注，建安十八年（公元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213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年）正月，曹操与孙权对垒濡须（今安徽巢县西巢湖入长江的一段水道）。初次交战，曹军大败，于是坚守不出。一天孙权借水面有薄雾，乘轻舟从濡须口闯入曹军前沿，观察曹军部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孙权的轻舟行进五、六里，并且鼓乐齐鸣，但曹操生性多疑，见孙军整肃威武，恐怕有诈，不敢出战，喟然叹曰：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生子当如孙仲谋，刘景升儿子若豚犬耳！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随后，曹操下令弓弩齐发，射击吴船。不一会，孙权的轻舟因一侧中箭太多，船身倾斜，有翻沉的危险。孙权下令调转船头，使另一侧再受箭。一会，箭均船平，孙军安全返航。曹操这才明白自己上当了。 </a:t>
            </a:r>
            <a:br>
              <a:rPr sz="3600"/>
            </a:b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 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  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 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 由此可见，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草船借箭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的不是诸葛亮，而是孙权，并且这件事发生在赤壁之战以后五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作业布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. 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分角色朗读课文，读出说话人的不同语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0" y="3657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4. 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默读课文，想一想故事的起因、经过、结果，在用自己的话讲讲这个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0" y="1752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抄写本课新学到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0" y="51055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5.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课外阅读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0" y="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作业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0" y="2666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搜集表现诸葛亮神机妙算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我国古典长篇小说，作者罗贯中。小说以汉末三国历史和民间流传的三国故事为基础创作而成。全书共一百二十回，故事起于刘关张桃园三结义，止于东吴灭亡，描写了汉末及三国时期的社会斗争和广泛的社会生活。书中塑造的曹操、孙权、刘备、诸葛亮、张飞、关羽等人物形象，家喻户晓。及许多故事，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桃园三结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三顾茅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火烧赤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空城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广为流传。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是我国最优秀的古典长篇小说之一，不仅对中国古代小说和文化产生了深远的影响，而且在亚洲的其他国家广泛流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W020100901320069846027"/>
          <p:cNvPicPr/>
          <p:nvPr/>
        </p:nvPicPr>
        <p:blipFill>
          <a:blip r:embed="rId1"/>
          <a:stretch/>
        </p:blipFill>
        <p:spPr>
          <a:xfrm>
            <a:off x="0" y="0"/>
            <a:ext cx="7348680" cy="5398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三国"/>
          <p:cNvPicPr/>
          <p:nvPr/>
        </p:nvPicPr>
        <p:blipFill>
          <a:blip r:embed="rId2"/>
          <a:stretch/>
        </p:blipFill>
        <p:spPr>
          <a:xfrm>
            <a:off x="1143000" y="457200"/>
            <a:ext cx="7259760" cy="5397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4ad1f8f8d489f946d8f9fdc1"/>
          <p:cNvPicPr/>
          <p:nvPr/>
        </p:nvPicPr>
        <p:blipFill>
          <a:blip r:embed="rId3"/>
          <a:stretch/>
        </p:blipFill>
        <p:spPr>
          <a:xfrm>
            <a:off x="4579920" y="1457280"/>
            <a:ext cx="4564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大师\草船借箭\jpg\12.bmp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390" name="WordArt 3"/>
          <p:cNvSpPr txBox="1"/>
          <p:nvPr/>
        </p:nvSpPr>
        <p:spPr>
          <a:xfrm>
            <a:off x="-533520" y="533520"/>
            <a:ext cx="8001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otum"/>
              </a:rPr>
              <a:t>衷心感谢各位领导、专家、同仁光临指导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otum"/>
              <a:ea typeface="Dotum"/>
            </a:endParaRPr>
          </a:p>
        </p:txBody>
      </p:sp>
      <p:sp>
        <p:nvSpPr>
          <p:cNvPr id="391" name="WordArt 4"/>
          <p:cNvSpPr txBox="1"/>
          <p:nvPr/>
        </p:nvSpPr>
        <p:spPr>
          <a:xfrm>
            <a:off x="5562720" y="4724280"/>
            <a:ext cx="23619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Dotum"/>
              </a:rPr>
              <a:t>谢谢！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Dotum"/>
              <a:ea typeface="Dotum"/>
            </a:endParaRPr>
          </a:p>
        </p:txBody>
      </p:sp>
      <p:pic>
        <p:nvPicPr>
          <p:cNvPr id="392" name="三国演义片尾曲 毛阿敏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3" dur="174992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5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罗贯中，明朝小说家，生于元末明初（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330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隶书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40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，汉族，名本，字贯中，号湖海散人，籍贯山西太原府，一说山西省祁县；一说钱塘（今浙江杭州）或庐陵（今江西吉安）人。元末明初著名小说家、戏曲家，是中国章回小说的鼻祖。罗贯中的一生著作颇丰，主要作品有：剧本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赵太祖龙虎风云会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忠正孝子连环谏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三平章死哭蜚虎子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；小说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隋唐两朝志传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残唐五代史演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三遂平妖传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粉妆楼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隋唐演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据说和施耐庵合著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水浒传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代表作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三国演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IMAG1233639337817343"/>
          <p:cNvPicPr/>
          <p:nvPr/>
        </p:nvPicPr>
        <p:blipFill>
          <a:blip r:embed="rId1"/>
          <a:stretch/>
        </p:blipFill>
        <p:spPr>
          <a:xfrm>
            <a:off x="0" y="0"/>
            <a:ext cx="3022560" cy="4317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f6428f8fa23a10d2503d925b"/>
          <p:cNvPicPr/>
          <p:nvPr/>
        </p:nvPicPr>
        <p:blipFill>
          <a:blip r:embed="rId2"/>
          <a:stretch/>
        </p:blipFill>
        <p:spPr>
          <a:xfrm>
            <a:off x="1905120" y="1066680"/>
            <a:ext cx="5452920" cy="359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787014556479e48db745ae8f"/>
          <p:cNvPicPr/>
          <p:nvPr/>
        </p:nvPicPr>
        <p:blipFill>
          <a:blip r:embed="rId3"/>
          <a:stretch/>
        </p:blipFill>
        <p:spPr>
          <a:xfrm>
            <a:off x="3124080" y="2057400"/>
            <a:ext cx="4797720" cy="3597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b29f82820d0d7b936c8119a7"/>
          <p:cNvPicPr/>
          <p:nvPr/>
        </p:nvPicPr>
        <p:blipFill>
          <a:blip r:embed="rId4"/>
          <a:stretch/>
        </p:blipFill>
        <p:spPr>
          <a:xfrm>
            <a:off x="6297480" y="2536920"/>
            <a:ext cx="28465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dzy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草船借箭一"/>
          <p:cNvPicPr/>
          <p:nvPr/>
        </p:nvPicPr>
        <p:blipFill>
          <a:blip r:embed="rId2"/>
          <a:stretch/>
        </p:blipFill>
        <p:spPr>
          <a:xfrm>
            <a:off x="2971800" y="1657440"/>
            <a:ext cx="3138480" cy="3600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2819520" y="289080"/>
            <a:ext cx="3429000" cy="10083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朗读感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:\大师\草船借箭\jpg\12.bmp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:\大师\草船借箭\jpg\1.jpg"/>
          <p:cNvPicPr/>
          <p:nvPr/>
        </p:nvPicPr>
        <p:blipFill>
          <a:blip r:embed="rId1"/>
          <a:stretch/>
        </p:blipFill>
        <p:spPr>
          <a:xfrm>
            <a:off x="0" y="0"/>
            <a:ext cx="4543560" cy="6861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H:\大师\草船借箭\jpg\2.jpg"/>
          <p:cNvPicPr/>
          <p:nvPr/>
        </p:nvPicPr>
        <p:blipFill>
          <a:blip r:embed="rId2"/>
          <a:stretch/>
        </p:blipFill>
        <p:spPr>
          <a:xfrm>
            <a:off x="4389480" y="-3240"/>
            <a:ext cx="4754520" cy="6861240"/>
          </a:xfrm>
          <a:prstGeom prst="rect">
            <a:avLst/>
          </a:prstGeom>
          <a:ln w="0">
            <a:noFill/>
          </a:ln>
        </p:spPr>
      </p:pic>
      <p:pic>
        <p:nvPicPr>
          <p:cNvPr id="118" name="草船借箭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4239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9:01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5:48:07Z</dcterms:modified>
  <cp:revision>1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