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2B3-E2C0-495C-A94E-809F6F58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FD6-F640-4E7A-8AE6-B0CE09B5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1D1-F7FB-4886-A345-47CDD803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7AC-7FD1-4AF7-BDF9-B9E019D6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56C4-4BC2-4757-A8FB-0E824861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7133-ABA2-4E7A-8B77-1AC4545B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58B9-FA2A-44F0-B01F-2B83F74D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2B65-038F-4555-89B7-A2324F9B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3D48-A79A-4F23-8061-E66D5568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AFEF-9B79-4CED-B83A-52A21E89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E272-589C-4311-87FD-78BC0623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E9B-D82D-4E6A-9CBB-3C3653C4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7A8E-F725-4AF1-80E1-45463DA5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3BFC-105B-47C0-9C7F-05F71AE5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603A-2320-444B-9F83-A0095572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3886-25FC-4F57-9C2E-3F31AC5B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6F06-5807-45DE-8F02-6AB717CF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FF0E-576A-4A74-A867-AC5EE4F2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BC1-C9F6-41CA-9535-04BCD859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61F-E060-44FB-8124-6FC2917E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C41-08DC-47F1-8609-086A5F37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A64-0E18-464C-8F3F-9AE73A04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60D-C67C-424D-AA40-F237273C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BAB-73E7-444F-8710-875F6C05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3C56-DA1A-4B6B-8123-3B776523D98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079A-2F96-48E9-8961-5768504703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4124-2086-471B-BB75-3001350EF2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5B49-637C-4345-ABD1-AFA3A8C16C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648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2"/>
          <p:cNvSpPr/>
          <p:nvPr/>
        </p:nvSpPr>
        <p:spPr>
          <a:xfrm>
            <a:off x="1995120" y="213372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淡雅古典中国风</a:t>
            </a: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15BE-A97B-4C02-9AE5-569E1EDD3E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09:03:00Z</dcterms:created>
  <dc:creator>第一PPT模板网-WWW.1PPT.COM</dc:creator>
  <dc:description/>
  <dc:language>en-US</dc:language>
  <cp:lastModifiedBy>a</cp:lastModifiedBy>
  <dcterms:modified xsi:type="dcterms:W3CDTF">2015-05-20T05:28:54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