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png" ContentType="image/png"/>
  <Override PartName="/ppt/media/image24.jpeg" ContentType="image/jpeg"/>
  <Override PartName="/ppt/media/image3.jpeg" ContentType="image/jpeg"/>
  <Override PartName="/ppt/media/image30.jpeg" ContentType="image/jpeg"/>
  <Override PartName="/ppt/media/image23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29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.gif" ContentType="image/gif"/>
  <Override PartName="/ppt/media/image19.jpeg" ContentType="image/jpeg"/>
  <Override PartName="/ppt/media/breeze.wav" ContentType="audio/x-wav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comments/comment5.xml" ContentType="application/vnd.openxmlformats-officedocument.presentationml.comments+xml"/>
  <Override PartName="/ppt/comments/comment24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4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2-11-28T15:35:43.041000000" idx="2">
    <p:pos x="5066" y="74"/>
    <p:text/>
  </p:cm>
</p:cmLst>
</file>

<file path=ppt/comments/comment16.xml><?xml version="1.0" encoding="utf-8"?>
<p:cmLst xmlns:p="http://schemas.openxmlformats.org/presentationml/2006/main">
  <p:cm authorId="0" dt="2012-11-28T15:35:47.407000000" idx="3">
    <p:pos x="5081" y="692"/>
    <p:text/>
  </p:cm>
</p:cmLst>
</file>

<file path=ppt/comments/comment24.xml><?xml version="1.0" encoding="utf-8"?>
<p:cmLst xmlns:p="http://schemas.openxmlformats.org/presentationml/2006/main">
  <p:cm authorId="0" dt="2012-11-28T15:35:52.271000000" idx="4">
    <p:pos x="5510" y="1354"/>
    <p:text/>
  </p:cm>
</p:cmLst>
</file>

<file path=ppt/comments/comment5.xml><?xml version="1.0" encoding="utf-8"?>
<p:cmLst xmlns:p="http://schemas.openxmlformats.org/presentationml/2006/main">
  <p:cm authorId="0" dt="2012-11-28T15:35:39.136000000" idx="1">
    <p:pos x="3203" y="31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0FC-BAD9-43DC-A6F5-CBEEF9B8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67E-7B34-4647-979A-8E4E39AF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D1B-A159-47B7-B7C4-669D69DB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BD8-383F-4433-AFB4-AFCCAEB2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B7F-9529-4A07-BC6F-A8B735AF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23E-97C2-47DA-B9B8-D251F0FF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239-097E-48BD-916E-5D255D1C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A1B-FC74-4EF0-9144-00DE5D54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D52-5816-4E57-82BE-E2B6388A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FE7-DAF2-4D82-8FDC-4ADC1E47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609-2441-4CE9-9093-00E7140C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379-E1A9-4239-A83C-C6139B4C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4368-F9C2-4A3D-BFF1-DAC07D1C6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彩虹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4.5  </a:t>
            </a:r>
            <a:r>
              <a:rPr b="1" lang="zh-CN" sz="8800" spc="-1" strike="noStrike">
                <a:solidFill>
                  <a:srgbClr val="ff3300"/>
                </a:solidFill>
                <a:latin typeface="Arial"/>
              </a:rPr>
              <a:t>光的色散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369120" cy="24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18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红外线的特点：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热作用强：能使被照射的物体发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红外线保温灯"/>
          <p:cNvPicPr/>
          <p:nvPr/>
        </p:nvPicPr>
        <p:blipFill>
          <a:blip r:embed="rId1"/>
          <a:stretch/>
        </p:blipFill>
        <p:spPr>
          <a:xfrm>
            <a:off x="468360" y="1628640"/>
            <a:ext cx="3743280" cy="2138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dssmb2008bj0440310031"/>
          <p:cNvPicPr/>
          <p:nvPr/>
        </p:nvPicPr>
        <p:blipFill>
          <a:blip r:embed="rId2"/>
          <a:stretch/>
        </p:blipFill>
        <p:spPr>
          <a:xfrm>
            <a:off x="2195640" y="3933720"/>
            <a:ext cx="288108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4143711225201052549590"/>
          <p:cNvPicPr/>
          <p:nvPr/>
        </p:nvPicPr>
        <p:blipFill>
          <a:blip r:embed="rId3"/>
          <a:stretch/>
        </p:blipFill>
        <p:spPr>
          <a:xfrm>
            <a:off x="5364000" y="19162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云雾穿透能力强：红外图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3-图片-30红外遥感"/>
          <p:cNvPicPr/>
          <p:nvPr/>
        </p:nvPicPr>
        <p:blipFill>
          <a:blip r:embed="rId1"/>
          <a:stretch/>
        </p:blipFill>
        <p:spPr>
          <a:xfrm>
            <a:off x="395280" y="981000"/>
            <a:ext cx="3960720" cy="264168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81" name="Picture 5" descr="hwxys2"/>
          <p:cNvPicPr/>
          <p:nvPr/>
        </p:nvPicPr>
        <p:blipFill>
          <a:blip r:embed="rId2"/>
          <a:stretch/>
        </p:blipFill>
        <p:spPr>
          <a:xfrm>
            <a:off x="4572000" y="981000"/>
            <a:ext cx="4500720" cy="26640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82" name="Picture 6" descr="c4a9ec9fe343bfa12af9f73ab3874e4e"/>
          <p:cNvPicPr/>
          <p:nvPr/>
        </p:nvPicPr>
        <p:blipFill>
          <a:blip r:embed="rId3"/>
          <a:stretch/>
        </p:blipFill>
        <p:spPr>
          <a:xfrm>
            <a:off x="2843280" y="3645000"/>
            <a:ext cx="33019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000" y="536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进行遥控：遥控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008091623464560468"/>
          <p:cNvPicPr/>
          <p:nvPr/>
        </p:nvPicPr>
        <p:blipFill>
          <a:blip r:embed="rId1"/>
          <a:srcRect l="0" t="0" r="0" b="122"/>
          <a:stretch/>
        </p:blipFill>
        <p:spPr>
          <a:xfrm>
            <a:off x="468360" y="1125360"/>
            <a:ext cx="2879640" cy="2349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9c4fad18d737718a27f78aaf5b969349"/>
          <p:cNvPicPr/>
          <p:nvPr/>
        </p:nvPicPr>
        <p:blipFill>
          <a:blip r:embed="rId2"/>
          <a:stretch/>
        </p:blipFill>
        <p:spPr>
          <a:xfrm>
            <a:off x="3059280" y="108432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3-图片-32响尾蛇导弹"/>
          <p:cNvPicPr/>
          <p:nvPr/>
        </p:nvPicPr>
        <p:blipFill>
          <a:blip r:embed="rId3"/>
          <a:stretch/>
        </p:blipFill>
        <p:spPr>
          <a:xfrm>
            <a:off x="539640" y="3500280"/>
            <a:ext cx="5113440" cy="2590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5724360" y="3573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华文行楷"/>
              </a:rPr>
              <a:t>红外线自动跟踪装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zdm"/>
          <p:cNvPicPr/>
          <p:nvPr/>
        </p:nvPicPr>
        <p:blipFill>
          <a:blip r:embed="rId1"/>
          <a:stretch/>
        </p:blipFill>
        <p:spPr>
          <a:xfrm>
            <a:off x="539640" y="907920"/>
            <a:ext cx="4753080" cy="3267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89" name="Text Box 3"/>
          <p:cNvSpPr/>
          <p:nvPr/>
        </p:nvSpPr>
        <p:spPr>
          <a:xfrm>
            <a:off x="2865600" y="135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华文行楷"/>
              </a:rPr>
              <a:t>红外线自动感应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lt"/>
          <p:cNvPicPr/>
          <p:nvPr/>
        </p:nvPicPr>
        <p:blipFill>
          <a:blip r:embed="rId2"/>
          <a:stretch/>
        </p:blipFill>
        <p:spPr>
          <a:xfrm>
            <a:off x="4789440" y="2781360"/>
            <a:ext cx="4103640" cy="3519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55640" y="4221000"/>
            <a:ext cx="43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华文行楷"/>
              </a:rPr>
              <a:t>红外线自动感应水龙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57200" y="13716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光谱的紫光以外，也有一种看不见的光，叫做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华文新魏"/>
              </a:rPr>
              <a:t>紫外线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371600" y="60948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2.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紫外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39640" y="321300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德国物理学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里特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80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紫外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1447920" y="609480"/>
            <a:ext cx="628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b000ff"/>
                </a:solidFill>
                <a:latin typeface="Tahoma"/>
              </a:rPr>
              <a:t>紫外线的特点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714240" y="1785960"/>
            <a:ext cx="84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、 化学作用强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是底片显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714240" y="2781360"/>
            <a:ext cx="84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、生理作用强： 紫外线能杀菌 消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714240" y="4437000"/>
            <a:ext cx="84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、 有荧光效应：鉴别古画、钱币真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76364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紫外线的好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84360" y="105264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当照射紫外线，有助于人体合成维生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维生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促进身体对钙的吸收，对于骨骼的生长和身体健康的许多方面都有好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4360" y="2565360"/>
            <a:ext cx="33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杀死微生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11280" y="321300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紫外线灯灭菌（医院的手术室、病房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35040" y="3789360"/>
            <a:ext cx="86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使荧光物质发光，鉴别钞票或商标的真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966320" y="45086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过量的紫外线对人体十分有害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11280" y="522936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皮肤粗糙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起皮肤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8720" y="451008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826920" y="50133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         </a:t>
            </a:r>
            <a:r>
              <a:rPr b="1" i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紫外线灯看起来是淡蓝色的，那是因为除了紫外线，它还发出少量蓝光和紫光。紫外线本身是看不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e27ca5d7b085f5f7d779f8af00f0610"/>
          <p:cNvPicPr/>
          <p:nvPr/>
        </p:nvPicPr>
        <p:blipFill>
          <a:blip r:embed="rId1"/>
          <a:stretch/>
        </p:blipFill>
        <p:spPr>
          <a:xfrm>
            <a:off x="1332000" y="-1684440"/>
            <a:ext cx="6861240" cy="5013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3-图片-33紫外线杀菌"/>
          <p:cNvPicPr/>
          <p:nvPr/>
        </p:nvPicPr>
        <p:blipFill>
          <a:blip r:embed="rId2"/>
          <a:stretch/>
        </p:blipFill>
        <p:spPr>
          <a:xfrm>
            <a:off x="1979640" y="1916280"/>
            <a:ext cx="5183280" cy="3020760"/>
          </a:xfrm>
          <a:prstGeom prst="rect">
            <a:avLst/>
          </a:prstGeom>
          <a:ln w="19080">
            <a:solidFill>
              <a:srgbClr val="6600cc"/>
            </a:solidFill>
            <a:miter/>
          </a:ln>
        </p:spPr>
      </p:pic>
    </p:spTree>
  </p:cSld>
  <p:transition>
    <p:newsflash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紫外防护眼镜"/>
          <p:cNvPicPr/>
          <p:nvPr/>
        </p:nvPicPr>
        <p:blipFill>
          <a:blip r:embed="rId1"/>
          <a:stretch/>
        </p:blipFill>
        <p:spPr>
          <a:xfrm>
            <a:off x="468360" y="404640"/>
            <a:ext cx="3311640" cy="23432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4067280" y="53737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Times New Roman"/>
                <a:ea typeface="幼圆"/>
              </a:rPr>
              <a:t>UVF-80</a:t>
            </a:r>
            <a:r>
              <a:rPr b="1" i="1" lang="zh-CN" sz="2800" spc="-1" strike="noStrike">
                <a:solidFill>
                  <a:srgbClr val="cc00ff"/>
                </a:solidFill>
                <a:latin typeface="Times New Roman"/>
                <a:ea typeface="幼圆"/>
              </a:rPr>
              <a:t>紫外防护面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10057875_7964"/>
          <p:cNvPicPr/>
          <p:nvPr/>
        </p:nvPicPr>
        <p:blipFill>
          <a:blip r:embed="rId2"/>
          <a:stretch/>
        </p:blipFill>
        <p:spPr>
          <a:xfrm>
            <a:off x="5148360" y="692280"/>
            <a:ext cx="3211560" cy="453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42"/>
          <p:cNvPicPr/>
          <p:nvPr/>
        </p:nvPicPr>
        <p:blipFill>
          <a:blip r:embed="rId3"/>
          <a:stretch/>
        </p:blipFill>
        <p:spPr>
          <a:xfrm>
            <a:off x="826920" y="2637000"/>
            <a:ext cx="3094200" cy="35766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040360" y="62064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太阳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天然紫外线的最重要来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d2a2d638d9b835e93b87ce21"/>
          <p:cNvPicPr/>
          <p:nvPr/>
        </p:nvPicPr>
        <p:blipFill>
          <a:blip r:embed="rId1"/>
          <a:stretch/>
        </p:blipFill>
        <p:spPr>
          <a:xfrm>
            <a:off x="611280" y="3284640"/>
            <a:ext cx="4392360" cy="29289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327640" y="3500280"/>
            <a:ext cx="3816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地球的周围包围着厚厚的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气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阳光中的紫外线大部分被大气层上部的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臭氧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吸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不能到达地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8a9830e79d63c6736e8e44cafbe2d96a"/>
          <p:cNvPicPr/>
          <p:nvPr/>
        </p:nvPicPr>
        <p:blipFill>
          <a:blip r:embed="rId2"/>
          <a:stretch/>
        </p:blipFill>
        <p:spPr>
          <a:xfrm>
            <a:off x="611280" y="189000"/>
            <a:ext cx="4211640" cy="2808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360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一、色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太阳光通过棱镜后，被分解成各种颜色的光，这种现象叫光的色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光的色散2"/>
          <p:cNvPicPr/>
          <p:nvPr/>
        </p:nvPicPr>
        <p:blipFill>
          <a:blip r:embed="rId1"/>
          <a:stretch/>
        </p:blipFill>
        <p:spPr>
          <a:xfrm>
            <a:off x="1187280" y="2133720"/>
            <a:ext cx="676944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色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色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光的组成：红 橙 黄 绿 蓝 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色光三原色：红 绿  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634920" y="115560"/>
            <a:ext cx="253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png-0151"/>
          <p:cNvPicPr/>
          <p:nvPr/>
        </p:nvPicPr>
        <p:blipFill>
          <a:blip r:embed="rId1"/>
          <a:stretch/>
        </p:blipFill>
        <p:spPr>
          <a:xfrm>
            <a:off x="1332000" y="1303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4"/>
          <p:cNvSpPr/>
          <p:nvPr/>
        </p:nvSpPr>
        <p:spPr>
          <a:xfrm>
            <a:off x="2438280" y="152388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25909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25960" y="198072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2.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红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344560" y="1295280"/>
            <a:ext cx="8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点：热作用强、穿透云雾本领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2666880" y="2286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用：卫星上的红外线探测器、红外线夜视仪、红外线理疗仪、电视遥控器、烤箱、浴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2743200" y="3809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点：使荧光物质发光、化学作用、生理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743200" y="49528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验钞机、紫外线灯杀菌、促进钙的吸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525960" y="426672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3.</a:t>
            </a: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紫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900000" y="620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看不见的光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光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68360" y="134136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棱镜可以把太阳光分解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不同的颜色的光，把它们按顺序排列起来，就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红外线是一种看不见的光，通过红外线的照射，可以使物体的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任何物体均可以辐射红外线，温度较高的物体发出的红外线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635280" y="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巩固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png-0138"/>
          <p:cNvPicPr/>
          <p:nvPr/>
        </p:nvPicPr>
        <p:blipFill>
          <a:blip r:embed="rId1"/>
          <a:stretch/>
        </p:blipFill>
        <p:spPr>
          <a:xfrm>
            <a:off x="2268360" y="115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5462640" y="1197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华文行楷"/>
              </a:rPr>
              <a:t>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918880" y="2112840"/>
            <a:ext cx="12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红、橙、黄、绿、蓝、靛、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051440" y="3357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行楷"/>
              </a:rPr>
              <a:t>升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671400" y="429264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行楷"/>
              </a:rPr>
              <a:t>较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066680" y="106668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线也是一种看不见的光，紫外线能杀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能使荧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适当的紫外线照射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过量的紫外线照射对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美英联军对伊拉克的作战中，美英军人在夜间都佩戴红外线夜视镜，在漆黑的夜晚也能发现敌方。红外线夜视镜是根据夜间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周围草木或建筑物的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人体辐射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它们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原理制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057400" y="1447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微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400800" y="1447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发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600200" y="22860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合成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209680" y="2743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有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219320" y="48006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体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7010280" y="4800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2895480" y="5257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红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019920" y="5257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533520" y="1676520"/>
            <a:ext cx="830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然紫外线的重要来源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地球周围大气层上部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吸收紫外线，使得阳光中的紫外线大部分不能到达地面，但目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在受到空调、冰箱里逸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物质的破坏，出现了“空洞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线容易被红色可见光接纳和吸收，因此，经常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服可以防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危害，减少皮肤癌的发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638680" y="1523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太阳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581280" y="2057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臭氧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5800" y="28954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臭氧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68580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氟利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676520" y="4572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红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181480" y="4572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紫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彩虹1"/>
          <p:cNvPicPr/>
          <p:nvPr/>
        </p:nvPicPr>
        <p:blipFill>
          <a:blip r:embed="rId1"/>
          <a:srcRect l="0" t="0" r="0" b="-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3635280" y="2708280"/>
            <a:ext cx="4176720" cy="2471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5600" spc="-1" strike="noStrike">
                <a:solidFill>
                  <a:srgbClr val="ff3300"/>
                </a:solidFill>
                <a:latin typeface="Arial"/>
              </a:rPr>
              <a:t>再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611280" y="1746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色散现象说明：白光是由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红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9966"/>
                </a:solidFill>
                <a:latin typeface="Arial"/>
              </a:rPr>
              <a:t>橙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蓝、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靛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紫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七种色光混合而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20927001"/>
          <p:cNvPicPr/>
          <p:nvPr/>
        </p:nvPicPr>
        <p:blipFill>
          <a:blip r:embed="rId1"/>
          <a:stretch/>
        </p:blipFill>
        <p:spPr>
          <a:xfrm>
            <a:off x="5796000" y="1844640"/>
            <a:ext cx="3348000" cy="2494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9" name="Picture 9" descr="pic"/>
          <p:cNvPicPr/>
          <p:nvPr/>
        </p:nvPicPr>
        <p:blipFill>
          <a:blip r:embed="rId2"/>
          <a:srcRect l="5716" t="7318" r="4287" b="7318"/>
          <a:stretch/>
        </p:blipFill>
        <p:spPr>
          <a:xfrm>
            <a:off x="179280" y="2349360"/>
            <a:ext cx="5545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532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彩虹是太阳光传播中被空气中的水滴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色散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而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彩虹1"/>
          <p:cNvPicPr/>
          <p:nvPr/>
        </p:nvPicPr>
        <p:blipFill>
          <a:blip r:embed="rId1"/>
          <a:srcRect l="0" t="0" r="0" b="-72"/>
          <a:stretch/>
        </p:blipFill>
        <p:spPr>
          <a:xfrm>
            <a:off x="1476360" y="170028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二、色光的混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色光的三原色：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色光1"/>
          <p:cNvPicPr/>
          <p:nvPr/>
        </p:nvPicPr>
        <p:blipFill>
          <a:blip r:embed="rId1"/>
          <a:stretch/>
        </p:blipFill>
        <p:spPr>
          <a:xfrm>
            <a:off x="5003640" y="2170080"/>
            <a:ext cx="3743640" cy="3557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116000" y="5013360"/>
            <a:ext cx="403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电视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电影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都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色光三原色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3200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红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258920" y="2852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红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品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3573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绿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66ccff"/>
                </a:solidFill>
                <a:latin typeface="Arial"/>
              </a:rPr>
              <a:t>青（靛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187280" y="4221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红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绿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蓝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68472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看不见的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光谱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单色光按照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紫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这个顺序排列起来，就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光谱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468360" y="3510000"/>
            <a:ext cx="8305920" cy="1143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276880" y="1700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00cc"/>
                </a:solidFill>
                <a:latin typeface="幼圆"/>
                <a:ea typeface="幼圆"/>
              </a:rPr>
              <a:t>温度计放在红光以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187280" y="530064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隶书"/>
              </a:rPr>
              <a:t>现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64000" y="2492280"/>
            <a:ext cx="336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说明这里也有能量辐射，不过人眼</a:t>
            </a:r>
            <a:r>
              <a:rPr b="1" lang="zh-CN" sz="2800" spc="-1" strike="noStrike">
                <a:solidFill>
                  <a:srgbClr val="ff3300"/>
                </a:solidFill>
                <a:latin typeface="方正姚体"/>
                <a:ea typeface="方正姚体"/>
              </a:rPr>
              <a:t>看不见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这样的光叫做</a:t>
            </a:r>
            <a:r>
              <a:rPr b="1" lang="zh-CN" sz="2800" spc="-1" strike="noStrike">
                <a:solidFill>
                  <a:srgbClr val="ff3300"/>
                </a:solidFill>
                <a:latin typeface="方正姚体"/>
                <a:ea typeface="方正姚体"/>
              </a:rPr>
              <a:t>红外线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219320" y="30492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2.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红外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5687640" y="5445000"/>
            <a:ext cx="6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温度也会上升，示数上升较多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2 6 6"/>
          <p:cNvPicPr/>
          <p:nvPr/>
        </p:nvPicPr>
        <p:blipFill>
          <a:blip r:embed="rId1"/>
          <a:stretch/>
        </p:blipFill>
        <p:spPr>
          <a:xfrm>
            <a:off x="200160" y="1162080"/>
            <a:ext cx="4876560" cy="41133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wxtk"/>
          <p:cNvPicPr/>
          <p:nvPr/>
        </p:nvPicPr>
        <p:blipFill>
          <a:blip r:embed="rId1"/>
          <a:stretch/>
        </p:blipFill>
        <p:spPr>
          <a:xfrm>
            <a:off x="611280" y="331920"/>
            <a:ext cx="7991280" cy="45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Text Box 3"/>
          <p:cNvSpPr/>
          <p:nvPr/>
        </p:nvSpPr>
        <p:spPr>
          <a:xfrm>
            <a:off x="2424240" y="499428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自然界的所以有物体都在不停地向外辐射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外线．物体的温度越高，辐射的红外线越强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905120" y="3333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夜间人的体温比野外草木、岩石的温度高，人辐射的红外线比它们强，人们根据这个原理制成了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红外线夜视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可以用在步枪的瞄准器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600200" y="4869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         </a:t>
            </a:r>
            <a:r>
              <a:rPr b="1" i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通过识别不同温度的物体辐射的红外线，达到侦察目的的一种设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1197626746122"/>
          <p:cNvPicPr/>
          <p:nvPr/>
        </p:nvPicPr>
        <p:blipFill>
          <a:blip r:embed="rId1"/>
          <a:stretch/>
        </p:blipFill>
        <p:spPr>
          <a:xfrm>
            <a:off x="2411280" y="2133720"/>
            <a:ext cx="5334120" cy="2809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042920" y="18900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隶书"/>
                <a:ea typeface="隶书"/>
              </a:rPr>
              <a:t>原理</a:t>
            </a:r>
            <a:r>
              <a:rPr b="1" lang="en-US" sz="4400" spc="-1" strike="noStrike">
                <a:solidFill>
                  <a:srgbClr val="a50021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4:59:1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6:53:07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