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F51-7B72-4711-8F0B-FE6F3168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78B3-A321-40B8-9142-BDF8F8DB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7955-D85D-4B18-B614-15439814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0555-9F94-4B52-96B0-BE72A676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8D41-E044-4FF5-972D-FE61C072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BC98-D599-4052-B7B8-08671992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802D-BDEF-422E-8F4F-32169649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9E3-58A4-4E27-952E-D92D2561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8AC5-0C3B-4D0C-AE29-EC844654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CE51-B56A-4B90-865C-371DF213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C5F-C75D-40A5-B396-8E0EB7D2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AEF-19B8-4228-83B6-3DC3369B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8DB6-9837-4794-8A59-4AC24C347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1"/>
          <p:cNvSpPr/>
          <p:nvPr/>
        </p:nvSpPr>
        <p:spPr>
          <a:xfrm>
            <a:off x="2581200" y="401940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2" descr=""/>
          <p:cNvPicPr/>
          <p:nvPr/>
        </p:nvPicPr>
        <p:blipFill>
          <a:blip r:embed="rId1"/>
          <a:stretch/>
        </p:blipFill>
        <p:spPr>
          <a:xfrm>
            <a:off x="-246240" y="-963720"/>
            <a:ext cx="9383760" cy="274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红旗A002"/>
          <p:cNvPicPr/>
          <p:nvPr/>
        </p:nvPicPr>
        <p:blipFill>
          <a:blip r:embed="rId2"/>
          <a:stretch/>
        </p:blipFill>
        <p:spPr>
          <a:xfrm>
            <a:off x="466560" y="0"/>
            <a:ext cx="8677440" cy="4000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"/>
          <p:cNvPicPr/>
          <p:nvPr/>
        </p:nvPicPr>
        <p:blipFill>
          <a:blip r:embed="rId3"/>
          <a:stretch/>
        </p:blipFill>
        <p:spPr>
          <a:xfrm>
            <a:off x="1409760" y="1557360"/>
            <a:ext cx="8985240" cy="2560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4" descr=""/>
          <p:cNvPicPr/>
          <p:nvPr/>
        </p:nvPicPr>
        <p:blipFill>
          <a:blip r:embed="rId4"/>
          <a:stretch/>
        </p:blipFill>
        <p:spPr>
          <a:xfrm>
            <a:off x="971640" y="190440"/>
            <a:ext cx="8421480" cy="546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"/>
          <p:cNvPicPr/>
          <p:nvPr/>
        </p:nvPicPr>
        <p:blipFill>
          <a:blip r:embed="rId5"/>
          <a:stretch/>
        </p:blipFill>
        <p:spPr>
          <a:xfrm>
            <a:off x="1333440" y="-531720"/>
            <a:ext cx="4189320" cy="27972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9"/>
          <p:cNvSpPr/>
          <p:nvPr/>
        </p:nvSpPr>
        <p:spPr>
          <a:xfrm>
            <a:off x="2482920" y="6237360"/>
            <a:ext cx="43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"/>
          <p:cNvSpPr/>
          <p:nvPr/>
        </p:nvSpPr>
        <p:spPr>
          <a:xfrm>
            <a:off x="3840120" y="2114640"/>
            <a:ext cx="361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见证历史，再铸辉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十一欢度国庆节幻灯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"/>
          <p:cNvPicPr/>
          <p:nvPr/>
        </p:nvPicPr>
        <p:blipFill>
          <a:blip r:embed="rId6"/>
          <a:stretch/>
        </p:blipFill>
        <p:spPr>
          <a:xfrm>
            <a:off x="-3421080" y="765000"/>
            <a:ext cx="597060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0:06:12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6:53:22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