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E03-1ED3-4F55-A9A8-6DD15B30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A01-A7D3-47EF-9F2D-D0686897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CFB-F6E4-4759-859A-B2D3A881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66C7-B5D7-4357-BB62-BB9B5AD4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5A5-C01C-4C75-8F9E-0E49DEF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EB8-63CA-4417-A0F5-F46C4C15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B2F-356A-4998-8731-4C6F2C88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7ED-E24D-4AA5-AA97-71A1B64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12F-15D0-44B3-9513-79E4CDE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13B-5FC1-4529-BF3C-82F400A9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19A-57B9-4887-8F11-0F5FD1D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3E1-BC5A-4FE2-8A27-891A268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AA6E91A5-0642-4A68-B172-A7946AC991B6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katong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822240" y="1512720"/>
            <a:ext cx="1549728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750960" y="1512720"/>
            <a:ext cx="1578924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942840" y="1655640"/>
            <a:ext cx="1540512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4610160" y="6697800"/>
            <a:ext cx="6462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6"/>
          <a:stretch/>
        </p:blipFill>
        <p:spPr>
          <a:xfrm>
            <a:off x="749160" y="1512720"/>
            <a:ext cx="15854400" cy="9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5600" y="356760"/>
            <a:ext cx="15511320" cy="10875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8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2400480"/>
            <a:ext cx="16875360" cy="98661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3771440" y="630360"/>
            <a:ext cx="2625840" cy="660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28480" y="1584360"/>
            <a:ext cx="16224480" cy="9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855720" y="1584360"/>
            <a:ext cx="159354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717480" y="1512720"/>
            <a:ext cx="158562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11280" y="1512720"/>
            <a:ext cx="16068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798480" y="1584360"/>
            <a:ext cx="15694200" cy="943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9640" y="514440"/>
            <a:ext cx="1503360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卡通ppt模板下载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50960" y="1584360"/>
            <a:ext cx="15789240" cy="95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4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5:4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