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D2B1-2758-4B85-B57B-33530EC83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C2D2-869C-4936-BCE7-01017D1D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3934-9E7B-423E-A565-0EC05D4F5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BE11-657A-4E2F-B779-58FCBEBEB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4796-EC25-48C6-A881-F74FF40C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6462-02A1-427E-A42B-3B904EBF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A913-8F48-4E51-B69B-1EC8FED5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E262-E8A7-461A-85F1-66764D86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B919-6E55-473C-8DA2-5F73E97B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DCB5-E31E-4763-859B-2FD054CB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C760-54BE-498D-A249-EA76AD18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B27A-A27A-42FD-AAAF-CF049653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26DF-040A-4A2F-96C6-96C0AD1F9F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62280" y="1638360"/>
            <a:ext cx="40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精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9"/>
          <p:cNvSpPr/>
          <p:nvPr/>
        </p:nvSpPr>
        <p:spPr>
          <a:xfrm>
            <a:off x="44978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9"/>
          <p:cNvSpPr/>
          <p:nvPr/>
        </p:nvSpPr>
        <p:spPr>
          <a:xfrm>
            <a:off x="249768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41407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"/>
          <p:cNvSpPr/>
          <p:nvPr/>
        </p:nvSpPr>
        <p:spPr>
          <a:xfrm>
            <a:off x="606960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57168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506952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45691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/>
          <p:cNvSpPr/>
          <p:nvPr/>
        </p:nvSpPr>
        <p:spPr>
          <a:xfrm>
            <a:off x="39265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328356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84528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38548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9266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3283560" y="3559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43549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2857680" y="421488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314064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585504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578376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84528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2071800" y="23572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62125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39265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26406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64980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16405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428364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55695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27835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56408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349776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43549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449784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606960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24260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623736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精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ngpi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72838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32835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14259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52837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05:42Z</dcterms:modified>
  <cp:revision>4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