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hdphoto1.wdp" ContentType="image/vnd.ms-photo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A8E-D8FE-48A9-BF04-36F43F85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1ADF-8670-4324-89A7-E1D5238D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777C-E383-4998-958E-110117FE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F9A-32F4-4631-B993-C65036F5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0EB0-296B-4564-8CF1-8E3F74AD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33F3-F224-4DC6-9C39-3820868D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1D06-E48D-4B78-A1B6-A522A3C9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8E6D-C2DC-47A8-9817-6C149647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933D-4B13-4CFE-AF80-8DC9263D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6B11-8EA2-47A6-8FD9-A0AFF281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D1A5-9BB9-4AA7-BF49-F14E211C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9B05-B582-4470-9456-77BCD75F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D000-B768-4C08-8F44-2D6A342C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8E98-0A4E-42AD-9833-A3B793C0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C38F-400C-4928-A91B-24117BCE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0534-85B6-47BA-9F1A-D505ECD5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FDE6-8CB5-4F38-A822-D26D6A1D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678-CE2C-4DB0-878D-0D3993FC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299-782B-4210-AA11-F06E009B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3665-7113-4D4B-B470-1D08E80A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9FC3-F161-49AB-AA59-E9823BE5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6B5-CC6D-4B75-9540-CD897788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6D4A-6323-4D18-8B37-D872403F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8DC4-0654-4638-BD2A-F99CB4BB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9960" cy="6858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64832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077320" y="6356520"/>
            <a:ext cx="3276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AB6576-AA81-413F-B5F9-7C9D0E558D3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0948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4165560" y="6245280"/>
            <a:ext cx="38602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873756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867F0A-B3DF-46EC-89C5-8A97684DADCF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microsoft.com/office/2007/relationships/hdphoto" Target="../media/hdphoto1.wdp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地球" descr=""/>
          <p:cNvPicPr/>
          <p:nvPr/>
        </p:nvPicPr>
        <p:blipFill>
          <a:blip r:embed="rId1"/>
          <a:stretch/>
        </p:blipFill>
        <p:spPr>
          <a:xfrm>
            <a:off x="-4271400" y="1806840"/>
            <a:ext cx="11809080" cy="3205800"/>
          </a:xfrm>
          <a:prstGeom prst="rect">
            <a:avLst/>
          </a:prstGeom>
          <a:ln w="0">
            <a:noFill/>
          </a:ln>
        </p:spPr>
      </p:pic>
      <p:pic>
        <p:nvPicPr>
          <p:cNvPr id="84" name="镂空底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3240" y="0"/>
            <a:ext cx="1219176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椭圆 6"/>
          <p:cNvSpPr/>
          <p:nvPr/>
        </p:nvSpPr>
        <p:spPr>
          <a:xfrm>
            <a:off x="3937320" y="1484640"/>
            <a:ext cx="3888000" cy="3888000"/>
          </a:xfrm>
          <a:prstGeom prst="ellipse">
            <a:avLst/>
          </a:prstGeom>
          <a:noFill/>
          <a:ln w="165100"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6" name="虚线圈小"/>
          <p:cNvSpPr/>
          <p:nvPr/>
        </p:nvSpPr>
        <p:spPr>
          <a:xfrm>
            <a:off x="4106160" y="1645920"/>
            <a:ext cx="3528000" cy="3528000"/>
          </a:xfrm>
          <a:prstGeom prst="ellipse">
            <a:avLst/>
          </a:prstGeom>
          <a:noFill/>
          <a:ln w="9525">
            <a:solidFill>
              <a:srgbClr val="000000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" name="平行四边形 41"/>
          <p:cNvSpPr/>
          <p:nvPr/>
        </p:nvSpPr>
        <p:spPr>
          <a:xfrm rot="21127200">
            <a:off x="3287520" y="2948040"/>
            <a:ext cx="5165280" cy="923400"/>
          </a:xfrm>
          <a:prstGeom prst="parallelogram">
            <a:avLst>
              <a:gd name="adj" fmla="val 48896"/>
            </a:avLst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cxnSp>
        <p:nvCxnSpPr>
          <p:cNvPr id="88" name="直接连接符 46"/>
          <p:cNvCxnSpPr/>
          <p:nvPr/>
        </p:nvCxnSpPr>
        <p:spPr>
          <a:xfrm flipH="1">
            <a:off x="-6928920" y="3854160"/>
            <a:ext cx="4635360" cy="62316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89" name="直接连接符 47"/>
          <p:cNvCxnSpPr/>
          <p:nvPr/>
        </p:nvCxnSpPr>
        <p:spPr>
          <a:xfrm flipH="1">
            <a:off x="14535720" y="2288160"/>
            <a:ext cx="4635360" cy="62352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sp>
        <p:nvSpPr>
          <p:cNvPr id="90" name="虚线圈大"/>
          <p:cNvSpPr/>
          <p:nvPr/>
        </p:nvSpPr>
        <p:spPr>
          <a:xfrm>
            <a:off x="3752640" y="1292400"/>
            <a:ext cx="4235040" cy="4235040"/>
          </a:xfrm>
          <a:prstGeom prst="ellipse">
            <a:avLst/>
          </a:prstGeom>
          <a:noFill/>
          <a:ln w="9525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1" name="椭圆 1"/>
          <p:cNvSpPr/>
          <p:nvPr/>
        </p:nvSpPr>
        <p:spPr>
          <a:xfrm>
            <a:off x="3661200" y="3304800"/>
            <a:ext cx="182520" cy="182520"/>
          </a:xfrm>
          <a:prstGeom prst="ellipse">
            <a:avLst/>
          </a:pr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2" name="N"/>
          <p:cNvSpPr/>
          <p:nvPr/>
        </p:nvSpPr>
        <p:spPr>
          <a:xfrm rot="21300000">
            <a:off x="7148520" y="2594880"/>
            <a:ext cx="550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6000" spc="-1" strike="noStrike">
                <a:solidFill>
                  <a:srgbClr val="ff7800"/>
                </a:solidFill>
                <a:latin typeface="方正姚体"/>
                <a:ea typeface="方正姚体"/>
              </a:rPr>
              <a:t>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"/>
          <p:cNvSpPr/>
          <p:nvPr/>
        </p:nvSpPr>
        <p:spPr>
          <a:xfrm rot="21300000">
            <a:off x="6529680" y="2673720"/>
            <a:ext cx="550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6000" spc="-1" strike="noStrike">
                <a:solidFill>
                  <a:srgbClr val="ff7800"/>
                </a:solidFill>
                <a:latin typeface="方正姚体"/>
                <a:ea typeface="方正姚体"/>
              </a:rPr>
              <a:t>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"/>
          <p:cNvSpPr/>
          <p:nvPr/>
        </p:nvSpPr>
        <p:spPr>
          <a:xfrm rot="21300000">
            <a:off x="5931360" y="2758320"/>
            <a:ext cx="550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6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H"/>
          <p:cNvSpPr/>
          <p:nvPr/>
        </p:nvSpPr>
        <p:spPr>
          <a:xfrm rot="21300000">
            <a:off x="5391720" y="2829240"/>
            <a:ext cx="550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6000" spc="-1" strike="noStrike">
                <a:solidFill>
                  <a:srgbClr val="ffffff"/>
                </a:solidFill>
                <a:latin typeface="方正姚体"/>
                <a:ea typeface="方正姚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"/>
          <p:cNvSpPr/>
          <p:nvPr/>
        </p:nvSpPr>
        <p:spPr>
          <a:xfrm rot="21300000">
            <a:off x="4718520" y="2926440"/>
            <a:ext cx="550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6000" spc="-1" strike="noStrike">
                <a:solidFill>
                  <a:srgbClr val="ffffff"/>
                </a:solidFill>
                <a:latin typeface="方正姚体"/>
                <a:ea typeface="方正姚体"/>
              </a:rPr>
              <a:t>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"/>
          <p:cNvSpPr/>
          <p:nvPr/>
        </p:nvSpPr>
        <p:spPr>
          <a:xfrm rot="21300000">
            <a:off x="4112640" y="3002040"/>
            <a:ext cx="550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6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"/>
          <p:cNvSpPr/>
          <p:nvPr/>
        </p:nvSpPr>
        <p:spPr>
          <a:xfrm rot="21300000">
            <a:off x="3440160" y="3096000"/>
            <a:ext cx="5508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6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直接连接符 5"/>
          <p:cNvCxnSpPr/>
          <p:nvPr/>
        </p:nvCxnSpPr>
        <p:spPr>
          <a:xfrm flipH="1">
            <a:off x="8187120" y="2661840"/>
            <a:ext cx="271800" cy="76248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00" name="直接连接符 23"/>
          <p:cNvCxnSpPr/>
          <p:nvPr/>
        </p:nvCxnSpPr>
        <p:spPr>
          <a:xfrm flipH="1">
            <a:off x="8355960" y="2645280"/>
            <a:ext cx="272160" cy="76248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01" name="直接连接符 24"/>
          <p:cNvCxnSpPr/>
          <p:nvPr/>
        </p:nvCxnSpPr>
        <p:spPr>
          <a:xfrm flipH="1">
            <a:off x="3301560" y="3331800"/>
            <a:ext cx="272160" cy="76248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02" name="直接连接符 25"/>
          <p:cNvCxnSpPr/>
          <p:nvPr/>
        </p:nvCxnSpPr>
        <p:spPr>
          <a:xfrm flipH="1">
            <a:off x="3154320" y="3354840"/>
            <a:ext cx="272160" cy="76248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sp>
        <p:nvSpPr>
          <p:cNvPr id="103" name="TextBox 8"/>
          <p:cNvSpPr/>
          <p:nvPr/>
        </p:nvSpPr>
        <p:spPr>
          <a:xfrm rot="21180000">
            <a:off x="4199040" y="2423880"/>
            <a:ext cx="32122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00"/>
                </a:solidFill>
                <a:latin typeface="华文宋体"/>
                <a:ea typeface="华文宋体"/>
              </a:rPr>
              <a:t>Simplicity is a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1639 -3.33333E-006 L -0.91283 0.19607 E">
                                      <p:cBhvr>
                                        <p:cTn id="21" dur="7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87445 -0.18936 L -0.02198 0.00671 E">
                                      <p:cBhvr>
                                        <p:cTn id="23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52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54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56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7">
                                  <p:stCondLst>
                                    <p:cond delay="58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7">
                                  <p:stCondLst>
                                    <p:cond delay="62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" presetSubtype="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4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2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1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013 0.00069 C 0.00039 -0.17037 0.07814 -0.30833 0.1745 -0.30949 C 0.27061 -0.30903 0.34809 -0.17037 0.34809 0.00069 C 0.34809 0.16921 0.27061 0.30509 0.1745 0.31042 C 0.07918 0.31018 0.00026 0.17153 0.00013 0.00069 Z">
                                      <p:cBhvr>
                                        <p:cTn id="10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 0.00278 L 0.5948 0.00278 E">
                                      <p:cBhvr>
                                        <p:cTn id="108" dur="3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P2标"/>
          <p:cNvGrpSpPr/>
          <p:nvPr/>
        </p:nvGrpSpPr>
        <p:grpSpPr>
          <a:xfrm>
            <a:off x="4611240" y="1532160"/>
            <a:ext cx="1258560" cy="1580040"/>
            <a:chOff x="4611240" y="1532160"/>
            <a:chExt cx="1258560" cy="1580040"/>
          </a:xfrm>
        </p:grpSpPr>
        <p:sp>
          <p:nvSpPr>
            <p:cNvPr id="105" name="TextBox 42"/>
            <p:cNvSpPr/>
            <p:nvPr/>
          </p:nvSpPr>
          <p:spPr>
            <a:xfrm>
              <a:off x="4611240" y="1532160"/>
              <a:ext cx="125316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96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约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角三角形 43"/>
            <p:cNvSpPr/>
            <p:nvPr/>
          </p:nvSpPr>
          <p:spPr>
            <a:xfrm flipH="1">
              <a:off x="5193720" y="2342160"/>
              <a:ext cx="676080" cy="770040"/>
            </a:xfrm>
            <a:prstGeom prst="rtTriangle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07" name="P3标"/>
          <p:cNvGrpSpPr/>
          <p:nvPr/>
        </p:nvGrpSpPr>
        <p:grpSpPr>
          <a:xfrm>
            <a:off x="6197400" y="1547640"/>
            <a:ext cx="1258560" cy="1564560"/>
            <a:chOff x="6197400" y="1547640"/>
            <a:chExt cx="1258560" cy="1564560"/>
          </a:xfrm>
        </p:grpSpPr>
        <p:sp>
          <p:nvSpPr>
            <p:cNvPr id="108" name="TextBox 45"/>
            <p:cNvSpPr/>
            <p:nvPr/>
          </p:nvSpPr>
          <p:spPr>
            <a:xfrm>
              <a:off x="6197400" y="1547640"/>
              <a:ext cx="125316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9600" spc="-1" strike="noStrike">
                  <a:solidFill>
                    <a:srgbClr val="ff7800"/>
                  </a:solidFill>
                  <a:latin typeface="方正姚体"/>
                  <a:ea typeface="方正姚体"/>
                </a:rPr>
                <a:t>范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角三角形 46"/>
            <p:cNvSpPr/>
            <p:nvPr/>
          </p:nvSpPr>
          <p:spPr>
            <a:xfrm flipH="1">
              <a:off x="6779880" y="2342160"/>
              <a:ext cx="676080" cy="770040"/>
            </a:xfrm>
            <a:prstGeom prst="rtTriangle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78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10" name="P4标"/>
          <p:cNvGrpSpPr/>
          <p:nvPr/>
        </p:nvGrpSpPr>
        <p:grpSpPr>
          <a:xfrm>
            <a:off x="7821000" y="1574280"/>
            <a:ext cx="1258560" cy="1552680"/>
            <a:chOff x="7821000" y="1574280"/>
            <a:chExt cx="1258560" cy="1552680"/>
          </a:xfrm>
        </p:grpSpPr>
        <p:sp>
          <p:nvSpPr>
            <p:cNvPr id="111" name="TextBox 48"/>
            <p:cNvSpPr/>
            <p:nvPr/>
          </p:nvSpPr>
          <p:spPr>
            <a:xfrm>
              <a:off x="7821000" y="1574280"/>
              <a:ext cx="125316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96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儿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角三角形 49"/>
            <p:cNvSpPr/>
            <p:nvPr/>
          </p:nvSpPr>
          <p:spPr>
            <a:xfrm flipH="1">
              <a:off x="8403480" y="2342160"/>
              <a:ext cx="676080" cy="770040"/>
            </a:xfrm>
            <a:prstGeom prst="rtTriangle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13" name="P1标"/>
          <p:cNvGrpSpPr/>
          <p:nvPr/>
        </p:nvGrpSpPr>
        <p:grpSpPr>
          <a:xfrm>
            <a:off x="3040920" y="1586520"/>
            <a:ext cx="1258200" cy="1552680"/>
            <a:chOff x="3040920" y="1586520"/>
            <a:chExt cx="1258200" cy="1552680"/>
          </a:xfrm>
        </p:grpSpPr>
        <p:sp>
          <p:nvSpPr>
            <p:cNvPr id="114" name="TextBox 7170"/>
            <p:cNvSpPr/>
            <p:nvPr/>
          </p:nvSpPr>
          <p:spPr>
            <a:xfrm>
              <a:off x="3040920" y="1586520"/>
              <a:ext cx="1253160" cy="15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96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简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角三角形 7168"/>
            <p:cNvSpPr/>
            <p:nvPr/>
          </p:nvSpPr>
          <p:spPr>
            <a:xfrm flipH="1">
              <a:off x="3623040" y="2342160"/>
              <a:ext cx="676080" cy="770040"/>
            </a:xfrm>
            <a:prstGeom prst="rtTriangle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16" name="P1"/>
          <p:cNvGrpSpPr/>
          <p:nvPr/>
        </p:nvGrpSpPr>
        <p:grpSpPr>
          <a:xfrm>
            <a:off x="2113200" y="1844640"/>
            <a:ext cx="2597760" cy="2681280"/>
            <a:chOff x="2113200" y="1844640"/>
            <a:chExt cx="2597760" cy="2681280"/>
          </a:xfrm>
        </p:grpSpPr>
        <p:cxnSp>
          <p:nvCxnSpPr>
            <p:cNvPr id="117" name="直接连接符 3"/>
            <p:cNvCxnSpPr/>
            <p:nvPr/>
          </p:nvCxnSpPr>
          <p:spPr>
            <a:xfrm flipH="1">
              <a:off x="2392920" y="2165400"/>
              <a:ext cx="2046240" cy="236052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</a:ln>
          </p:spPr>
        </p:cxnSp>
        <p:sp>
          <p:nvSpPr>
            <p:cNvPr id="118" name="梯形 8"/>
            <p:cNvSpPr/>
            <p:nvPr/>
          </p:nvSpPr>
          <p:spPr>
            <a:xfrm rot="18665400">
              <a:off x="1911240" y="3552120"/>
              <a:ext cx="1880640" cy="319680"/>
            </a:xfrm>
            <a:prstGeom prst="trapezoid">
              <a:avLst>
                <a:gd name="adj" fmla="val 88395"/>
              </a:avLst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宋体"/>
                  <a:ea typeface="华文宋体"/>
                </a:rPr>
                <a:t>Part O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椭圆 11"/>
            <p:cNvSpPr/>
            <p:nvPr/>
          </p:nvSpPr>
          <p:spPr>
            <a:xfrm>
              <a:off x="4341600" y="1844640"/>
              <a:ext cx="369360" cy="369360"/>
            </a:xfrm>
            <a:prstGeom prst="ellipse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P3"/>
          <p:cNvGrpSpPr/>
          <p:nvPr/>
        </p:nvGrpSpPr>
        <p:grpSpPr>
          <a:xfrm>
            <a:off x="5267160" y="1844640"/>
            <a:ext cx="2597760" cy="2681280"/>
            <a:chOff x="5267160" y="1844640"/>
            <a:chExt cx="2597760" cy="2681280"/>
          </a:xfrm>
        </p:grpSpPr>
        <p:cxnSp>
          <p:nvCxnSpPr>
            <p:cNvPr id="121" name="直接连接符 22"/>
            <p:cNvCxnSpPr/>
            <p:nvPr/>
          </p:nvCxnSpPr>
          <p:spPr>
            <a:xfrm flipH="1">
              <a:off x="5546520" y="2165400"/>
              <a:ext cx="2046600" cy="2360520"/>
            </a:xfrm>
            <a:prstGeom prst="straightConnector1">
              <a:avLst/>
            </a:prstGeom>
            <a:ln w="9525">
              <a:solidFill>
                <a:srgbClr val="ff7800"/>
              </a:solidFill>
              <a:round/>
            </a:ln>
          </p:spPr>
        </p:cxnSp>
        <p:sp>
          <p:nvSpPr>
            <p:cNvPr id="122" name="梯形 23"/>
            <p:cNvSpPr/>
            <p:nvPr/>
          </p:nvSpPr>
          <p:spPr>
            <a:xfrm rot="18665400">
              <a:off x="5065200" y="3552120"/>
              <a:ext cx="1880640" cy="319680"/>
            </a:xfrm>
            <a:prstGeom prst="trapezoid">
              <a:avLst>
                <a:gd name="adj" fmla="val 88395"/>
              </a:avLst>
            </a:prstGeom>
            <a:solidFill>
              <a:srgbClr val="ff78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宋体"/>
                  <a:ea typeface="华文宋体"/>
                </a:rPr>
                <a:t>Part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椭圆 24"/>
            <p:cNvSpPr/>
            <p:nvPr/>
          </p:nvSpPr>
          <p:spPr>
            <a:xfrm>
              <a:off x="7495560" y="1844640"/>
              <a:ext cx="369360" cy="369360"/>
            </a:xfrm>
            <a:prstGeom prst="ellipse">
              <a:avLst/>
            </a:prstGeom>
            <a:solidFill>
              <a:srgbClr val="ff78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P4"/>
          <p:cNvGrpSpPr/>
          <p:nvPr/>
        </p:nvGrpSpPr>
        <p:grpSpPr>
          <a:xfrm>
            <a:off x="6882120" y="1844640"/>
            <a:ext cx="2598120" cy="2681280"/>
            <a:chOff x="6882120" y="1844640"/>
            <a:chExt cx="2598120" cy="2681280"/>
          </a:xfrm>
        </p:grpSpPr>
        <p:cxnSp>
          <p:nvCxnSpPr>
            <p:cNvPr id="125" name="直接连接符 26"/>
            <p:cNvCxnSpPr/>
            <p:nvPr/>
          </p:nvCxnSpPr>
          <p:spPr>
            <a:xfrm flipH="1">
              <a:off x="7161840" y="2165400"/>
              <a:ext cx="2046240" cy="236052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</a:ln>
          </p:spPr>
        </p:cxnSp>
        <p:sp>
          <p:nvSpPr>
            <p:cNvPr id="126" name="梯形 27"/>
            <p:cNvSpPr/>
            <p:nvPr/>
          </p:nvSpPr>
          <p:spPr>
            <a:xfrm rot="18665400">
              <a:off x="6680160" y="3552120"/>
              <a:ext cx="1880640" cy="319680"/>
            </a:xfrm>
            <a:prstGeom prst="trapezoid">
              <a:avLst>
                <a:gd name="adj" fmla="val 88395"/>
              </a:avLst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宋体"/>
                  <a:ea typeface="华文宋体"/>
                </a:rPr>
                <a:t>Part F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椭圆 28"/>
            <p:cNvSpPr/>
            <p:nvPr/>
          </p:nvSpPr>
          <p:spPr>
            <a:xfrm>
              <a:off x="9110880" y="1844640"/>
              <a:ext cx="369360" cy="369360"/>
            </a:xfrm>
            <a:prstGeom prst="ellipse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P2"/>
          <p:cNvGrpSpPr/>
          <p:nvPr/>
        </p:nvGrpSpPr>
        <p:grpSpPr>
          <a:xfrm>
            <a:off x="3672360" y="1844640"/>
            <a:ext cx="2597760" cy="2681280"/>
            <a:chOff x="3672360" y="1844640"/>
            <a:chExt cx="2597760" cy="2681280"/>
          </a:xfrm>
        </p:grpSpPr>
        <p:cxnSp>
          <p:nvCxnSpPr>
            <p:cNvPr id="129" name="直接连接符 30"/>
            <p:cNvCxnSpPr/>
            <p:nvPr/>
          </p:nvCxnSpPr>
          <p:spPr>
            <a:xfrm flipH="1">
              <a:off x="3952080" y="2165400"/>
              <a:ext cx="2046240" cy="236052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</a:ln>
          </p:spPr>
        </p:cxnSp>
        <p:sp>
          <p:nvSpPr>
            <p:cNvPr id="130" name="梯形 31"/>
            <p:cNvSpPr/>
            <p:nvPr/>
          </p:nvSpPr>
          <p:spPr>
            <a:xfrm rot="18665400">
              <a:off x="3470400" y="3552120"/>
              <a:ext cx="1880640" cy="319680"/>
            </a:xfrm>
            <a:prstGeom prst="trapezoid">
              <a:avLst>
                <a:gd name="adj" fmla="val 88395"/>
              </a:avLst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华文宋体"/>
                  <a:ea typeface="华文宋体"/>
                </a:rPr>
                <a:t>Part Tw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椭圆 32"/>
            <p:cNvSpPr/>
            <p:nvPr/>
          </p:nvSpPr>
          <p:spPr>
            <a:xfrm>
              <a:off x="5900760" y="1844640"/>
              <a:ext cx="369360" cy="369360"/>
            </a:xfrm>
            <a:prstGeom prst="ellipse">
              <a:avLst/>
            </a:pr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P1文字"/>
          <p:cNvSpPr/>
          <p:nvPr/>
        </p:nvSpPr>
        <p:spPr>
          <a:xfrm>
            <a:off x="3159720" y="1948680"/>
            <a:ext cx="920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部分简介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2文字"/>
          <p:cNvSpPr/>
          <p:nvPr/>
        </p:nvSpPr>
        <p:spPr>
          <a:xfrm>
            <a:off x="4697280" y="1948680"/>
            <a:ext cx="920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部分简介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3文字"/>
          <p:cNvSpPr/>
          <p:nvPr/>
        </p:nvSpPr>
        <p:spPr>
          <a:xfrm>
            <a:off x="6346440" y="1948680"/>
            <a:ext cx="920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7800"/>
                </a:solidFill>
                <a:latin typeface="微软雅黑"/>
                <a:ea typeface="微软雅黑"/>
              </a:rPr>
              <a:t>第三部分简介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4文字"/>
          <p:cNvSpPr/>
          <p:nvPr/>
        </p:nvSpPr>
        <p:spPr>
          <a:xfrm>
            <a:off x="7965360" y="1948680"/>
            <a:ext cx="920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四部分简介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4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4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4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4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2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delay="0" evt="onClick">
                    <p:tgtEl>
                      <p:spTgt spid="116"/>
                    </p:tgtEl>
                  </p:cond>
                </p:stCondLst>
                <p:childTnLst>
                  <p:par>
                    <p:cTn id="158" fill="hold">
                      <p:stCondLst>
                        <p:cond delay="0"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delay="0" evt="onClick">
                    <p:tgtEl>
                      <p:spTgt spid="128"/>
                    </p:tgtEl>
                  </p:cond>
                </p:stCondLst>
                <p:childTnLst>
                  <p:par>
                    <p:cTn id="168" fill="hold">
                      <p:stCondLst>
                        <p:cond delay="0"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delay="0" evt="onClick">
                    <p:tgtEl>
                      <p:spTgt spid="120"/>
                    </p:tgtEl>
                  </p:cond>
                </p:stCondLst>
                <p:childTnLst>
                  <p:par>
                    <p:cTn id="178" fill="hold">
                      <p:stCondLst>
                        <p:cond delay="0"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delay="0" evt="onClick">
                    <p:tgtEl>
                      <p:spTgt spid="124"/>
                    </p:tgtEl>
                  </p:cond>
                </p:stCondLst>
                <p:childTnLst>
                  <p:par>
                    <p:cTn id="188" fill="hold">
                      <p:stCondLst>
                        <p:cond delay="0"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6"/>
          <p:cNvSpPr/>
          <p:nvPr/>
        </p:nvSpPr>
        <p:spPr>
          <a:xfrm>
            <a:off x="4258800" y="2054880"/>
            <a:ext cx="12531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9600" spc="-1" strike="noStrike">
                <a:solidFill>
                  <a:srgbClr val="ff7800"/>
                </a:solidFill>
                <a:latin typeface="方正姚体"/>
                <a:ea typeface="方正姚体"/>
              </a:rPr>
              <a:t>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角三角形 7"/>
          <p:cNvSpPr/>
          <p:nvPr/>
        </p:nvSpPr>
        <p:spPr>
          <a:xfrm flipH="1">
            <a:off x="4841280" y="2759040"/>
            <a:ext cx="676080" cy="770040"/>
          </a:xfrm>
          <a:prstGeom prst="rtTriangle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方正姚体"/>
              <a:ea typeface="方正姚体"/>
            </a:endParaRPr>
          </a:p>
        </p:txBody>
      </p:sp>
      <p:cxnSp>
        <p:nvCxnSpPr>
          <p:cNvPr id="138" name="直接连接符 8"/>
          <p:cNvCxnSpPr/>
          <p:nvPr/>
        </p:nvCxnSpPr>
        <p:spPr>
          <a:xfrm flipH="1">
            <a:off x="-1022760" y="7869240"/>
            <a:ext cx="2045880" cy="236088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sp>
        <p:nvSpPr>
          <p:cNvPr id="139" name="TextBox 1"/>
          <p:cNvSpPr/>
          <p:nvPr/>
        </p:nvSpPr>
        <p:spPr>
          <a:xfrm>
            <a:off x="5305320" y="2680920"/>
            <a:ext cx="3199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是过渡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3263 -1.88773 L 0.07349 -0.14722 E">
                                      <p:cBhvr>
                                        <p:cTn id="2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1">
                                  <p:stCondLst>
                                    <p:cond delay="25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内容"/>
          <p:cNvSpPr/>
          <p:nvPr/>
        </p:nvSpPr>
        <p:spPr>
          <a:xfrm>
            <a:off x="4434120" y="2790360"/>
            <a:ext cx="6797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力求语辞简洁扼要的文体风格。其特点是简洁洗练，单纯明快，辞少意多。</a:t>
            </a:r>
            <a:r>
              <a:rPr b="1" lang="zh-CN" sz="1800" spc="-1" strike="noStrike">
                <a:solidFill>
                  <a:srgbClr val="ff7800"/>
                </a:solidFill>
                <a:latin typeface="微软雅黑"/>
                <a:ea typeface="微软雅黑"/>
              </a:rPr>
              <a:t>简约不是简单摹写，也不是简陋肤浅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是经过提炼形成的精约简省，富有言外之意。其弊在容易流于郁而不明的晦涩。橙色部分为文中重要段落。左右箭头可以点击切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标题"/>
          <p:cNvSpPr/>
          <p:nvPr/>
        </p:nvSpPr>
        <p:spPr>
          <a:xfrm>
            <a:off x="928800" y="2728800"/>
            <a:ext cx="29700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</a:t>
            </a:r>
            <a:r>
              <a:rPr b="1" lang="zh-CN" sz="8000" spc="-1" strike="noStrike">
                <a:solidFill>
                  <a:srgbClr val="ff7800"/>
                </a:solidFill>
                <a:latin typeface="微软雅黑"/>
                <a:ea typeface="微软雅黑"/>
              </a:rPr>
              <a:t>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9">
            <a:hlinkClick r:id="" action="ppaction://hlinkshowjump?jump=nextslide"/>
          </p:cNvPr>
          <p:cNvSpPr/>
          <p:nvPr/>
        </p:nvSpPr>
        <p:spPr>
          <a:xfrm>
            <a:off x="11520720" y="3108960"/>
            <a:ext cx="333360" cy="640080"/>
          </a:xfrm>
          <a:custGeom>
            <a:avLst/>
            <a:gdLst>
              <a:gd name="textAreaLeft" fmla="*/ 0 w 333360"/>
              <a:gd name="textAreaRight" fmla="*/ 333720 w 333360"/>
              <a:gd name="textAreaTop" fmla="*/ 0 h 640080"/>
              <a:gd name="textAreaBottom" fmla="*/ 640440 h 640080"/>
            </a:gdLst>
            <a:ahLst/>
            <a:rect l="textAreaLeft" t="textAreaTop" r="textAreaRight" b="textAreaBottom"/>
            <a:pathLst>
              <a:path w="465827" h="805633">
                <a:moveTo>
                  <a:pt x="15191" y="0"/>
                </a:moveTo>
                <a:lnTo>
                  <a:pt x="465827" y="408818"/>
                </a:lnTo>
                <a:lnTo>
                  <a:pt x="0" y="805633"/>
                </a:lnTo>
              </a:path>
            </a:pathLst>
          </a:custGeom>
          <a:noFill/>
          <a:ln w="57150"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3" name="任意多边形 16">
            <a:hlinkClick r:id="" action="ppaction://hlinkshowjump?jump=previousslide"/>
          </p:cNvPr>
          <p:cNvSpPr/>
          <p:nvPr/>
        </p:nvSpPr>
        <p:spPr>
          <a:xfrm flipH="1">
            <a:off x="265320" y="3108960"/>
            <a:ext cx="333360" cy="640080"/>
          </a:xfrm>
          <a:custGeom>
            <a:avLst/>
            <a:gdLst>
              <a:gd name="textAreaLeft" fmla="*/ 360 w 333360"/>
              <a:gd name="textAreaRight" fmla="*/ 334080 w 333360"/>
              <a:gd name="textAreaTop" fmla="*/ 0 h 640080"/>
              <a:gd name="textAreaBottom" fmla="*/ 640440 h 640080"/>
            </a:gdLst>
            <a:ahLst/>
            <a:rect l="textAreaLeft" t="textAreaTop" r="textAreaRight" b="textAreaBottom"/>
            <a:pathLst>
              <a:path w="465827" h="805633">
                <a:moveTo>
                  <a:pt x="15191" y="0"/>
                </a:moveTo>
                <a:lnTo>
                  <a:pt x="465827" y="408818"/>
                </a:lnTo>
                <a:lnTo>
                  <a:pt x="0" y="805633"/>
                </a:lnTo>
              </a:path>
            </a:pathLst>
          </a:custGeom>
          <a:noFill/>
          <a:ln w="57150"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25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750"/>
                            </p:stCondLst>
                            <p:childTnLst>
                              <p:par>
                                <p:cTn id="23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100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100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任意多边形 9">
            <a:hlinkClick r:id="" action="ppaction://hlinkshowjump?jump=nextslide"/>
          </p:cNvPr>
          <p:cNvSpPr/>
          <p:nvPr/>
        </p:nvSpPr>
        <p:spPr>
          <a:xfrm>
            <a:off x="11520720" y="3108960"/>
            <a:ext cx="333360" cy="640080"/>
          </a:xfrm>
          <a:custGeom>
            <a:avLst/>
            <a:gdLst>
              <a:gd name="textAreaLeft" fmla="*/ 0 w 333360"/>
              <a:gd name="textAreaRight" fmla="*/ 333720 w 333360"/>
              <a:gd name="textAreaTop" fmla="*/ 0 h 640080"/>
              <a:gd name="textAreaBottom" fmla="*/ 640440 h 640080"/>
            </a:gdLst>
            <a:ahLst/>
            <a:rect l="textAreaLeft" t="textAreaTop" r="textAreaRight" b="textAreaBottom"/>
            <a:pathLst>
              <a:path w="465827" h="805633">
                <a:moveTo>
                  <a:pt x="15191" y="0"/>
                </a:moveTo>
                <a:lnTo>
                  <a:pt x="465827" y="408818"/>
                </a:lnTo>
                <a:lnTo>
                  <a:pt x="0" y="805633"/>
                </a:lnTo>
              </a:path>
            </a:pathLst>
          </a:custGeom>
          <a:noFill/>
          <a:ln w="57150"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5" name="任意多边形 16">
            <a:hlinkClick r:id="" action="ppaction://hlinkshowjump?jump=previousslide"/>
          </p:cNvPr>
          <p:cNvSpPr/>
          <p:nvPr/>
        </p:nvSpPr>
        <p:spPr>
          <a:xfrm flipH="1">
            <a:off x="265320" y="3108960"/>
            <a:ext cx="333360" cy="640080"/>
          </a:xfrm>
          <a:custGeom>
            <a:avLst/>
            <a:gdLst>
              <a:gd name="textAreaLeft" fmla="*/ 360 w 333360"/>
              <a:gd name="textAreaRight" fmla="*/ 334080 w 333360"/>
              <a:gd name="textAreaTop" fmla="*/ 0 h 640080"/>
              <a:gd name="textAreaBottom" fmla="*/ 640440 h 640080"/>
            </a:gdLst>
            <a:ahLst/>
            <a:rect l="textAreaLeft" t="textAreaTop" r="textAreaRight" b="textAreaBottom"/>
            <a:pathLst>
              <a:path w="465827" h="805633">
                <a:moveTo>
                  <a:pt x="15191" y="0"/>
                </a:moveTo>
                <a:lnTo>
                  <a:pt x="465827" y="408818"/>
                </a:lnTo>
                <a:lnTo>
                  <a:pt x="0" y="805633"/>
                </a:lnTo>
              </a:path>
            </a:pathLst>
          </a:custGeom>
          <a:noFill/>
          <a:ln w="57150"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46" name="图片 2" descr=""/>
          <p:cNvPicPr/>
          <p:nvPr/>
        </p:nvPicPr>
        <p:blipFill>
          <a:blip r:embed="rId1"/>
          <a:srcRect l="0" t="0" r="0" b="4666"/>
          <a:stretch/>
        </p:blipFill>
        <p:spPr>
          <a:xfrm>
            <a:off x="1157400" y="1474200"/>
            <a:ext cx="2361240" cy="326880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sp>
        <p:nvSpPr>
          <p:cNvPr id="147" name="内容"/>
          <p:cNvSpPr/>
          <p:nvPr/>
        </p:nvSpPr>
        <p:spPr>
          <a:xfrm>
            <a:off x="4434120" y="2790360"/>
            <a:ext cx="6797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力求语辞简洁扼要的文体风格。其特点是简洁洗练，单纯明快，辞少意多。</a:t>
            </a:r>
            <a:r>
              <a:rPr b="1" lang="zh-CN" sz="1800" spc="-1" strike="noStrike">
                <a:solidFill>
                  <a:srgbClr val="ff7800"/>
                </a:solidFill>
                <a:latin typeface="微软雅黑"/>
                <a:ea typeface="微软雅黑"/>
              </a:rPr>
              <a:t>简约不是简单摹写，也不是简陋肤浅，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是经过提炼形成的精约简省，富有言外之意。其弊在容易流于郁而不明的晦涩。橙色部分为文中重要段落。左右箭头可以点击切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100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100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任意多边形 9">
            <a:hlinkClick r:id="" action="ppaction://hlinkshowjump?jump=nextslide"/>
          </p:cNvPr>
          <p:cNvSpPr/>
          <p:nvPr/>
        </p:nvSpPr>
        <p:spPr>
          <a:xfrm>
            <a:off x="11520720" y="3108960"/>
            <a:ext cx="333360" cy="640080"/>
          </a:xfrm>
          <a:custGeom>
            <a:avLst/>
            <a:gdLst>
              <a:gd name="textAreaLeft" fmla="*/ 0 w 333360"/>
              <a:gd name="textAreaRight" fmla="*/ 333720 w 333360"/>
              <a:gd name="textAreaTop" fmla="*/ 0 h 640080"/>
              <a:gd name="textAreaBottom" fmla="*/ 640440 h 640080"/>
            </a:gdLst>
            <a:ahLst/>
            <a:rect l="textAreaLeft" t="textAreaTop" r="textAreaRight" b="textAreaBottom"/>
            <a:pathLst>
              <a:path w="465827" h="805633">
                <a:moveTo>
                  <a:pt x="15191" y="0"/>
                </a:moveTo>
                <a:lnTo>
                  <a:pt x="465827" y="408818"/>
                </a:lnTo>
                <a:lnTo>
                  <a:pt x="0" y="805633"/>
                </a:lnTo>
              </a:path>
            </a:pathLst>
          </a:custGeom>
          <a:noFill/>
          <a:ln w="57150"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9" name="任意多边形 16">
            <a:hlinkClick r:id="" action="ppaction://hlinkshowjump?jump=previousslide"/>
          </p:cNvPr>
          <p:cNvSpPr/>
          <p:nvPr/>
        </p:nvSpPr>
        <p:spPr>
          <a:xfrm flipH="1">
            <a:off x="265320" y="3108960"/>
            <a:ext cx="333360" cy="640080"/>
          </a:xfrm>
          <a:custGeom>
            <a:avLst/>
            <a:gdLst>
              <a:gd name="textAreaLeft" fmla="*/ 360 w 333360"/>
              <a:gd name="textAreaRight" fmla="*/ 334080 w 333360"/>
              <a:gd name="textAreaTop" fmla="*/ 0 h 640080"/>
              <a:gd name="textAreaBottom" fmla="*/ 640440 h 640080"/>
            </a:gdLst>
            <a:ahLst/>
            <a:rect l="textAreaLeft" t="textAreaTop" r="textAreaRight" b="textAreaBottom"/>
            <a:pathLst>
              <a:path w="465827" h="805633">
                <a:moveTo>
                  <a:pt x="15191" y="0"/>
                </a:moveTo>
                <a:lnTo>
                  <a:pt x="465827" y="408818"/>
                </a:lnTo>
                <a:lnTo>
                  <a:pt x="0" y="805633"/>
                </a:lnTo>
              </a:path>
            </a:pathLst>
          </a:custGeom>
          <a:noFill/>
          <a:ln w="57150"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0" name="节点1"/>
          <p:cNvSpPr/>
          <p:nvPr/>
        </p:nvSpPr>
        <p:spPr>
          <a:xfrm flipH="1" flipV="1" rot="10800000">
            <a:off x="2376720" y="3187800"/>
            <a:ext cx="207360" cy="207360"/>
          </a:xfrm>
          <a:prstGeom prst="ellipse">
            <a:avLst/>
          </a:prstGeom>
          <a:solidFill>
            <a:srgbClr val="000000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151" name="组合 28"/>
          <p:cNvGrpSpPr/>
          <p:nvPr/>
        </p:nvGrpSpPr>
        <p:grpSpPr>
          <a:xfrm>
            <a:off x="2480040" y="1118880"/>
            <a:ext cx="7283880" cy="3361680"/>
            <a:chOff x="2480040" y="1118880"/>
            <a:chExt cx="7283880" cy="3361680"/>
          </a:xfrm>
        </p:grpSpPr>
        <p:cxnSp>
          <p:nvCxnSpPr>
            <p:cNvPr id="152" name="直接连接符 6"/>
            <p:cNvCxnSpPr/>
            <p:nvPr/>
          </p:nvCxnSpPr>
          <p:spPr>
            <a:xfrm>
              <a:off x="2480040" y="3291840"/>
              <a:ext cx="1132200" cy="118908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</a:ln>
          </p:spPr>
        </p:cxnSp>
        <p:cxnSp>
          <p:nvCxnSpPr>
            <p:cNvPr id="153" name="直接连接符 10"/>
            <p:cNvCxnSpPr/>
            <p:nvPr/>
          </p:nvCxnSpPr>
          <p:spPr>
            <a:xfrm flipH="1">
              <a:off x="3615120" y="3367800"/>
              <a:ext cx="1344600" cy="111312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</a:ln>
          </p:spPr>
        </p:cxnSp>
        <p:cxnSp>
          <p:nvCxnSpPr>
            <p:cNvPr id="154" name="直接连接符 13"/>
            <p:cNvCxnSpPr/>
            <p:nvPr/>
          </p:nvCxnSpPr>
          <p:spPr>
            <a:xfrm>
              <a:off x="4959360" y="3367800"/>
              <a:ext cx="660600" cy="68220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</a:ln>
          </p:spPr>
        </p:cxnSp>
        <p:cxnSp>
          <p:nvCxnSpPr>
            <p:cNvPr id="155" name="直接连接符 15"/>
            <p:cNvCxnSpPr/>
            <p:nvPr/>
          </p:nvCxnSpPr>
          <p:spPr>
            <a:xfrm flipH="1">
              <a:off x="5619600" y="3500280"/>
              <a:ext cx="672480" cy="55692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</a:ln>
          </p:spPr>
        </p:cxnSp>
        <p:cxnSp>
          <p:nvCxnSpPr>
            <p:cNvPr id="156" name="直接连接符 17"/>
            <p:cNvCxnSpPr/>
            <p:nvPr/>
          </p:nvCxnSpPr>
          <p:spPr>
            <a:xfrm>
              <a:off x="6291720" y="3508560"/>
              <a:ext cx="242280" cy="27036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</a:ln>
          </p:spPr>
        </p:cxnSp>
        <p:cxnSp>
          <p:nvCxnSpPr>
            <p:cNvPr id="157" name="直接连接符 19"/>
            <p:cNvCxnSpPr/>
            <p:nvPr/>
          </p:nvCxnSpPr>
          <p:spPr>
            <a:xfrm flipH="1">
              <a:off x="6533640" y="1118880"/>
              <a:ext cx="3230640" cy="2660040"/>
            </a:xfrm>
            <a:prstGeom prst="straightConnector1">
              <a:avLst/>
            </a:prstGeom>
            <a:ln w="9525">
              <a:solidFill>
                <a:srgbClr val="000000"/>
              </a:solidFill>
              <a:round/>
            </a:ln>
          </p:spPr>
        </p:cxnSp>
      </p:grpSp>
      <p:sp>
        <p:nvSpPr>
          <p:cNvPr id="158" name="节点2"/>
          <p:cNvSpPr/>
          <p:nvPr/>
        </p:nvSpPr>
        <p:spPr>
          <a:xfrm flipH="1" flipV="1" rot="10800000">
            <a:off x="3511800" y="4377240"/>
            <a:ext cx="207360" cy="207360"/>
          </a:xfrm>
          <a:prstGeom prst="ellipse">
            <a:avLst/>
          </a:prstGeom>
          <a:solidFill>
            <a:srgbClr val="000000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9" name="节点3"/>
          <p:cNvSpPr/>
          <p:nvPr/>
        </p:nvSpPr>
        <p:spPr>
          <a:xfrm flipH="1" flipV="1" rot="10800000">
            <a:off x="4856040" y="3291480"/>
            <a:ext cx="207360" cy="207360"/>
          </a:xfrm>
          <a:prstGeom prst="ellipse">
            <a:avLst/>
          </a:prstGeom>
          <a:solidFill>
            <a:srgbClr val="000000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0" name="节点4"/>
          <p:cNvSpPr/>
          <p:nvPr/>
        </p:nvSpPr>
        <p:spPr>
          <a:xfrm flipH="1" flipV="1" rot="10800000">
            <a:off x="5516280" y="3924720"/>
            <a:ext cx="207360" cy="207360"/>
          </a:xfrm>
          <a:prstGeom prst="ellipse">
            <a:avLst/>
          </a:prstGeom>
          <a:solidFill>
            <a:srgbClr val="000000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1" name="节点5"/>
          <p:cNvSpPr/>
          <p:nvPr/>
        </p:nvSpPr>
        <p:spPr>
          <a:xfrm flipH="1" flipV="1" rot="10800000">
            <a:off x="6188400" y="3429360"/>
            <a:ext cx="207360" cy="207360"/>
          </a:xfrm>
          <a:prstGeom prst="ellipse">
            <a:avLst/>
          </a:prstGeom>
          <a:solidFill>
            <a:srgbClr val="ff78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2" name="节点6"/>
          <p:cNvSpPr/>
          <p:nvPr/>
        </p:nvSpPr>
        <p:spPr>
          <a:xfrm flipH="1" flipV="1" rot="10800000">
            <a:off x="6444720" y="3675240"/>
            <a:ext cx="207360" cy="207360"/>
          </a:xfrm>
          <a:prstGeom prst="ellipse">
            <a:avLst/>
          </a:prstGeom>
          <a:solidFill>
            <a:srgbClr val="000000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3" name="节点7"/>
          <p:cNvSpPr/>
          <p:nvPr/>
        </p:nvSpPr>
        <p:spPr>
          <a:xfrm flipH="1" flipV="1" rot="10800000">
            <a:off x="9660600" y="1015560"/>
            <a:ext cx="207360" cy="207360"/>
          </a:xfrm>
          <a:prstGeom prst="ellipse">
            <a:avLst/>
          </a:prstGeom>
          <a:solidFill>
            <a:srgbClr val="000000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4" name="TextBox 35"/>
          <p:cNvSpPr/>
          <p:nvPr/>
        </p:nvSpPr>
        <p:spPr>
          <a:xfrm>
            <a:off x="2788200" y="1505880"/>
            <a:ext cx="316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橙色节点为重点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2"/>
          <p:cNvGrpSpPr/>
          <p:nvPr/>
        </p:nvGrpSpPr>
        <p:grpSpPr>
          <a:xfrm>
            <a:off x="2093040" y="1197360"/>
            <a:ext cx="802440" cy="948960"/>
            <a:chOff x="2093040" y="1197360"/>
            <a:chExt cx="802440" cy="948960"/>
          </a:xfrm>
        </p:grpSpPr>
        <p:sp>
          <p:nvSpPr>
            <p:cNvPr id="166" name="六角星 29"/>
            <p:cNvSpPr/>
            <p:nvPr/>
          </p:nvSpPr>
          <p:spPr>
            <a:xfrm>
              <a:off x="2093040" y="1197360"/>
              <a:ext cx="802440" cy="948960"/>
            </a:xfrm>
            <a:prstGeom prst="star6">
              <a:avLst>
                <a:gd name="adj" fmla="val 29162"/>
                <a:gd name="hf" fmla="val 115470"/>
              </a:avLst>
            </a:pr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167" name="TextBox 1"/>
            <p:cNvSpPr/>
            <p:nvPr/>
          </p:nvSpPr>
          <p:spPr>
            <a:xfrm>
              <a:off x="2174760" y="1331640"/>
              <a:ext cx="5781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7800"/>
                  </a:solidFill>
                  <a:latin typeface="方正姚体"/>
                  <a:ea typeface="方正姚体"/>
                </a:rPr>
                <a:t>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3"/>
          <p:cNvSpPr/>
          <p:nvPr/>
        </p:nvSpPr>
        <p:spPr>
          <a:xfrm>
            <a:off x="2012040" y="2739600"/>
            <a:ext cx="892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3158280" y="4681080"/>
            <a:ext cx="892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4513320" y="2812680"/>
            <a:ext cx="892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5173560" y="4295880"/>
            <a:ext cx="892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6"/>
          <p:cNvSpPr/>
          <p:nvPr/>
        </p:nvSpPr>
        <p:spPr>
          <a:xfrm>
            <a:off x="5845680" y="3024360"/>
            <a:ext cx="892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7"/>
          <p:cNvSpPr/>
          <p:nvPr/>
        </p:nvSpPr>
        <p:spPr>
          <a:xfrm>
            <a:off x="6534000" y="3886200"/>
            <a:ext cx="892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8"/>
          <p:cNvSpPr/>
          <p:nvPr/>
        </p:nvSpPr>
        <p:spPr>
          <a:xfrm>
            <a:off x="9317880" y="645840"/>
            <a:ext cx="892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50"/>
                            </p:stCondLst>
                            <p:childTnLst>
                              <p:par>
                                <p:cTn id="32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100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100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delay="0" evt="onClick">
                    <p:tgtEl>
                      <p:spTgt spid="161"/>
                    </p:tgtEl>
                  </p:cond>
                </p:stCondLst>
                <p:childTnLst>
                  <p:par>
                    <p:cTn id="327" fill="hold">
                      <p:stCondLst>
                        <p:cond delay="0"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谢2"/>
          <p:cNvSpPr/>
          <p:nvPr/>
        </p:nvSpPr>
        <p:spPr>
          <a:xfrm flipH="1" rot="20400000">
            <a:off x="4573080" y="2526480"/>
            <a:ext cx="14446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zh-CN" sz="8800" spc="-1" strike="noStrike">
                <a:solidFill>
                  <a:srgbClr val="000000"/>
                </a:solidFill>
                <a:latin typeface="方正姚体"/>
                <a:ea typeface="方正姚体"/>
              </a:rPr>
              <a:t>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xie2"/>
          <p:cNvSpPr/>
          <p:nvPr/>
        </p:nvSpPr>
        <p:spPr>
          <a:xfrm rot="20580000">
            <a:off x="4800960" y="2171880"/>
            <a:ext cx="1188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2800" spc="-1" strike="noStrike">
                <a:solidFill>
                  <a:srgbClr val="a6a6a6"/>
                </a:solidFill>
                <a:latin typeface="微软雅黑"/>
                <a:ea typeface="微软雅黑"/>
              </a:rPr>
              <a:t>x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xie1"/>
          <p:cNvSpPr/>
          <p:nvPr/>
        </p:nvSpPr>
        <p:spPr>
          <a:xfrm rot="20580000">
            <a:off x="2121120" y="4116960"/>
            <a:ext cx="1188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2800" spc="-1" strike="noStrike">
                <a:solidFill>
                  <a:srgbClr val="a6a6a6"/>
                </a:solidFill>
                <a:latin typeface="微软雅黑"/>
                <a:ea typeface="微软雅黑"/>
              </a:rPr>
              <a:t>x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谢1"/>
          <p:cNvSpPr/>
          <p:nvPr/>
        </p:nvSpPr>
        <p:spPr>
          <a:xfrm rot="20400000">
            <a:off x="2940480" y="2543040"/>
            <a:ext cx="14446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zh-CN" sz="8800" spc="-1" strike="noStrike">
                <a:solidFill>
                  <a:srgbClr val="000000"/>
                </a:solidFill>
                <a:latin typeface="方正姚体"/>
                <a:ea typeface="方正姚体"/>
              </a:rPr>
              <a:t>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guan"/>
          <p:cNvSpPr/>
          <p:nvPr/>
        </p:nvSpPr>
        <p:spPr>
          <a:xfrm rot="20580000">
            <a:off x="4861800" y="4045680"/>
            <a:ext cx="2077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2800" spc="-1" strike="noStrike">
                <a:solidFill>
                  <a:srgbClr val="ff7800"/>
                </a:solidFill>
                <a:latin typeface="微软雅黑"/>
                <a:ea typeface="微软雅黑"/>
              </a:rPr>
              <a:t>gu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观"/>
          <p:cNvSpPr/>
          <p:nvPr/>
        </p:nvSpPr>
        <p:spPr>
          <a:xfrm rot="20400000">
            <a:off x="6063120" y="2516040"/>
            <a:ext cx="14446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zh-CN" sz="8800" spc="-1" strike="noStrike">
                <a:solidFill>
                  <a:srgbClr val="ff7800"/>
                </a:solidFill>
                <a:latin typeface="方正姚体"/>
                <a:ea typeface="方正姚体"/>
              </a:rPr>
              <a:t>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hang"/>
          <p:cNvSpPr/>
          <p:nvPr/>
        </p:nvSpPr>
        <p:spPr>
          <a:xfrm rot="20580000">
            <a:off x="7737480" y="2088360"/>
            <a:ext cx="1486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2800" spc="-1" strike="noStrike">
                <a:solidFill>
                  <a:srgbClr val="a6a6a6"/>
                </a:solidFill>
                <a:latin typeface="微软雅黑"/>
                <a:ea typeface="微软雅黑"/>
              </a:rPr>
              <a:t>shǎ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赏"/>
          <p:cNvSpPr/>
          <p:nvPr/>
        </p:nvSpPr>
        <p:spPr>
          <a:xfrm rot="20400000">
            <a:off x="7608240" y="2492280"/>
            <a:ext cx="14446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zh-CN" sz="8800" spc="-1" strike="noStrike">
                <a:solidFill>
                  <a:srgbClr val="000000"/>
                </a:solidFill>
                <a:latin typeface="方正姚体"/>
                <a:ea typeface="方正姚体"/>
              </a:rPr>
              <a:t>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直接连接符 15"/>
          <p:cNvCxnSpPr/>
          <p:nvPr/>
        </p:nvCxnSpPr>
        <p:spPr>
          <a:xfrm>
            <a:off x="6060600" y="2907000"/>
            <a:ext cx="360" cy="94824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84" name="直接连接符 17"/>
          <p:cNvCxnSpPr/>
          <p:nvPr/>
        </p:nvCxnSpPr>
        <p:spPr>
          <a:xfrm>
            <a:off x="4573080" y="2655000"/>
            <a:ext cx="360" cy="94788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85" name="直接连接符 18"/>
          <p:cNvCxnSpPr/>
          <p:nvPr/>
        </p:nvCxnSpPr>
        <p:spPr>
          <a:xfrm>
            <a:off x="7709400" y="2585520"/>
            <a:ext cx="360" cy="94824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86" name="直接连接符 19"/>
          <p:cNvCxnSpPr/>
          <p:nvPr/>
        </p:nvCxnSpPr>
        <p:spPr>
          <a:xfrm>
            <a:off x="3220200" y="2997000"/>
            <a:ext cx="360" cy="47448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87" name="直接连接符 21"/>
          <p:cNvCxnSpPr/>
          <p:nvPr/>
        </p:nvCxnSpPr>
        <p:spPr>
          <a:xfrm>
            <a:off x="9083520" y="2958840"/>
            <a:ext cx="360" cy="47448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188" name="直接连接符 23"/>
          <p:cNvCxnSpPr/>
          <p:nvPr/>
        </p:nvCxnSpPr>
        <p:spPr>
          <a:xfrm flipV="1">
            <a:off x="-1653120" y="7119360"/>
            <a:ext cx="966960" cy="15588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autoRev="1" nodeType="after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2153 L 2.88709E-006 2.22222E-006 E">
                                      <p:cBhvr>
                                        <p:cTn id="36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2153 L 2.88709E-006 2.22222E-006 E">
                                      <p:cBhvr>
                                        <p:cTn id="36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2153 L 2.88709E-006 2.22222E-006 E">
                                      <p:cBhvr>
                                        <p:cTn id="37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2153 L 2.88709E-006 2.22222E-006 E">
                                      <p:cBhvr>
                                        <p:cTn id="37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autoRev="1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2153 L 2.88709E-006 2.22222E-006 E">
                                      <p:cBhvr>
                                        <p:cTn id="37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1.48148E-006 L 0.08881 -0.03102 E">
                                      <p:cBhvr>
                                        <p:cTn id="4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1.48148E-006 L 0.08881 -0.03102 E">
                                      <p:cBhvr>
                                        <p:cTn id="4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1.48148E-006 L 0.08881 -0.03102 E">
                                      <p:cBhvr>
                                        <p:cTn id="4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63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-1.48148E-006 L 0.08881 -0.03102 E">
                                      <p:cBhvr>
                                        <p:cTn id="4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8333E-006 2.59259E-006 L 0.59552 -0.18195 E">
                                      <p:cBhvr>
                                        <p:cTn id="417" dur="25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523880" y="0"/>
            <a:ext cx="8466480" cy="6858000"/>
            <a:chOff x="1523880" y="0"/>
            <a:chExt cx="8466480" cy="6858000"/>
          </a:xfrm>
        </p:grpSpPr>
        <p:sp>
          <p:nvSpPr>
            <p:cNvPr id="190" name="矩形 4"/>
            <p:cNvSpPr/>
            <p:nvPr/>
          </p:nvSpPr>
          <p:spPr>
            <a:xfrm>
              <a:off x="2140920" y="0"/>
              <a:ext cx="6742800" cy="6991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680"/>
              <a:ext cx="8466480" cy="51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7">
              <a:hlinkClick r:id="rId3"/>
            </p:cNvPr>
            <p:cNvSpPr/>
            <p:nvPr/>
          </p:nvSpPr>
          <p:spPr>
            <a:xfrm rot="20926800">
              <a:off x="3444840" y="3571920"/>
              <a:ext cx="4667040" cy="11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 Theme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fdef3"/>
      </a:accent1>
      <a:accent2>
        <a:srgbClr val="333399"/>
      </a:accent2>
      <a:accent3>
        <a:srgbClr val="ffffff"/>
      </a:accent3>
      <a:accent4>
        <a:srgbClr val="000000"/>
      </a:accent4>
      <a:accent5>
        <a:srgbClr val="e4ecf8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  <Pages>0</Pages>
  <Words>230</Words>
  <Characters>0</Characters>
  <CharactersWithSpaces>0</CharactersWithSpaces>
  <Paragraphs>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pptbz.com</dc:creator>
  <dc:description/>
  <dc:language>en-US</dc:language>
  <cp:lastModifiedBy>a</cp:lastModifiedBy>
  <dcterms:modified xsi:type="dcterms:W3CDTF">2015-02-09T02:27:56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  <property fmtid="{D5CDD505-2E9C-101B-9397-08002B2CF9AE}" pid="3" name="PresentationFormat">
    <vt:lpwstr>宽屏</vt:lpwstr>
  </property>
  <property fmtid="{D5CDD505-2E9C-101B-9397-08002B2CF9AE}" pid="4" name="Slides">
    <vt:r8>8</vt:r8>
  </property>
</Properties>
</file>