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ABC-E2ED-48F2-88C0-7932C8CB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691-9868-4FFF-947D-B77587B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84A-6DCF-4475-9A69-709A558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AC2-4F09-4097-AE46-4101D388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C4D-E2BB-4D42-B8CB-428D8608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9F3-D0B5-4E93-8088-608DBD8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D74-828A-44A0-BB4F-07AB3DE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F8E-4C6B-46E5-9A62-C9C76E5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42D-8A95-459B-92CE-71C5400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0C8-C71F-4F6B-89F7-3B3A7CCC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F28-727D-4651-A914-6649EFC0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EEA-410D-41F3-B941-F6592ECA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BDA4-217A-428F-928A-E9838714F991}" type="datetime">
              <a:rPr b="0" lang="en-US" sz="2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A98F-B4CD-40C1-B87D-A95F6155A2EA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/moban/dabian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5" descr=""/>
          <p:cNvPicPr/>
          <p:nvPr/>
        </p:nvPicPr>
        <p:blipFill>
          <a:blip r:embed="rId1"/>
          <a:stretch/>
        </p:blipFill>
        <p:spPr>
          <a:xfrm>
            <a:off x="0" y="4071960"/>
            <a:ext cx="9144000" cy="73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图片 6" descr="江西师大.png"/>
          <p:cNvPicPr/>
          <p:nvPr/>
        </p:nvPicPr>
        <p:blipFill>
          <a:blip r:embed="rId3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95" name="AutoShape 2788"/>
            <p:cNvSpPr/>
            <p:nvPr/>
          </p:nvSpPr>
          <p:spPr>
            <a:xfrm>
              <a:off x="571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2792"/>
            <p:cNvSpPr/>
            <p:nvPr/>
          </p:nvSpPr>
          <p:spPr>
            <a:xfrm>
              <a:off x="1473120" y="4143240"/>
              <a:ext cx="948240" cy="500040"/>
            </a:xfrm>
            <a:custGeom>
              <a:avLst/>
              <a:gdLst>
                <a:gd name="textAreaLeft" fmla="*/ 0 w 948240"/>
                <a:gd name="textAreaRight" fmla="*/ 948600 w 948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2793"/>
            <p:cNvSpPr/>
            <p:nvPr/>
          </p:nvSpPr>
          <p:spPr>
            <a:xfrm>
              <a:off x="2353680" y="4143240"/>
              <a:ext cx="948600" cy="50004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413080" y="236052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论文答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74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76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77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79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284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288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294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296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0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02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03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05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7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示 13" descr=""/>
          <p:cNvPicPr/>
          <p:nvPr/>
        </p:nvPicPr>
        <p:blipFill>
          <a:blip r:embed="rId5"/>
          <a:stretch/>
        </p:blipFill>
        <p:spPr>
          <a:xfrm>
            <a:off x="1932120" y="2786040"/>
            <a:ext cx="5163840" cy="28465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12800" y="2860560"/>
            <a:ext cx="74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答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6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1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1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1" descr=""/>
          <p:cNvPicPr/>
          <p:nvPr/>
        </p:nvPicPr>
        <p:blipFill>
          <a:blip r:embed="rId5"/>
          <a:stretch/>
        </p:blipFill>
        <p:spPr>
          <a:xfrm>
            <a:off x="566640" y="431640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322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323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324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66"/>
          <p:cNvSpPr/>
          <p:nvPr/>
        </p:nvSpPr>
        <p:spPr>
          <a:xfrm>
            <a:off x="-500040" y="27082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329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330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334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335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42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43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45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7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349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对角圆角矩形 29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351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354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对角圆角矩形 32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356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Microsoft Sans Serif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Microsoft Sans Serif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62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363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同侧圆角矩形 19"/>
            <p:cNvGrpSpPr/>
            <p:nvPr/>
          </p:nvGrpSpPr>
          <p:grpSpPr>
            <a:xfrm>
              <a:off x="785520" y="1000440"/>
              <a:ext cx="1142640" cy="499320"/>
              <a:chOff x="785520" y="1000440"/>
              <a:chExt cx="1142640" cy="499320"/>
            </a:xfrm>
          </p:grpSpPr>
          <p:pic>
            <p:nvPicPr>
              <p:cNvPr id="365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080" y="1046160"/>
                <a:ext cx="107208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7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70" name="TextBox 21" descr=""/>
          <p:cNvPicPr/>
          <p:nvPr/>
        </p:nvPicPr>
        <p:blipFill>
          <a:blip r:embed="rId5"/>
          <a:stretch/>
        </p:blipFill>
        <p:spPr>
          <a:xfrm>
            <a:off x="566640" y="474336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371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372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374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375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6" name="对角圆角矩形 23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377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8" name="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382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384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385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对角圆角矩形 34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387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Microsoft Sans Serif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9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9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9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401" name="组合 13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402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403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55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55"/>
                    </a:lnTo>
                    <a:lnTo>
                      <a:pt x="793417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组合 69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406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0659" h="5858029">
                    <a:moveTo>
                      <a:pt x="131779" y="0"/>
                    </a:moveTo>
                    <a:lnTo>
                      <a:pt x="658880" y="0"/>
                    </a:lnTo>
                    <a:cubicBezTo>
                      <a:pt x="731660" y="0"/>
                      <a:pt x="790659" y="58999"/>
                      <a:pt x="790659" y="131779"/>
                    </a:cubicBezTo>
                    <a:lnTo>
                      <a:pt x="790659" y="5858029"/>
                    </a:lnTo>
                    <a:lnTo>
                      <a:pt x="79065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对角圆角矩形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408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412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413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55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55"/>
                    </a:lnTo>
                    <a:lnTo>
                      <a:pt x="120954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69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416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custGeom>
                <a:avLst/>
                <a:gdLst/>
                <a:ahLst/>
                <a:rect l="l" t="t" r="r" b="b"/>
                <a:pathLst>
                  <a:path w="791660" h="5858030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30"/>
                    </a:lnTo>
                    <a:lnTo>
                      <a:pt x="791660" y="5858030"/>
                    </a:lnTo>
                    <a:lnTo>
                      <a:pt x="0" y="5858030"/>
                    </a:lnTo>
                    <a:lnTo>
                      <a:pt x="0" y="5858030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对角圆角矩形 32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418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9" name="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422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423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55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55"/>
                    </a:lnTo>
                    <a:lnTo>
                      <a:pt x="79332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组合 69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426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custGeom>
                <a:avLst/>
                <a:gdLst/>
                <a:ahLst/>
                <a:rect l="l" t="t" r="r" b="b"/>
                <a:pathLst>
                  <a:path w="790569" h="5858029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029"/>
                    </a:lnTo>
                    <a:lnTo>
                      <a:pt x="79056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对角圆角矩形 41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428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1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1030320"/>
          </a:xfrm>
          <a:prstGeom prst="rect">
            <a:avLst/>
          </a:prstGeom>
          <a:ln w="0">
            <a:noFill/>
          </a:ln>
        </p:spPr>
      </p:pic>
      <p:grpSp>
        <p:nvGrpSpPr>
          <p:cNvPr id="432" name="组合 69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433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434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72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72"/>
                    </a:lnTo>
                    <a:lnTo>
                      <a:pt x="793417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组合 69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437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custGeom>
                <a:avLst/>
                <a:gdLst/>
                <a:ahLst/>
                <a:rect l="l" t="t" r="r" b="b"/>
                <a:pathLst>
                  <a:path w="790657" h="5858073">
                    <a:moveTo>
                      <a:pt x="131779" y="0"/>
                    </a:moveTo>
                    <a:lnTo>
                      <a:pt x="658878" y="0"/>
                    </a:lnTo>
                    <a:cubicBezTo>
                      <a:pt x="731658" y="0"/>
                      <a:pt x="790657" y="58999"/>
                      <a:pt x="790657" y="131779"/>
                    </a:cubicBezTo>
                    <a:lnTo>
                      <a:pt x="790657" y="5858073"/>
                    </a:lnTo>
                    <a:lnTo>
                      <a:pt x="790657" y="5858073"/>
                    </a:lnTo>
                    <a:lnTo>
                      <a:pt x="0" y="5858073"/>
                    </a:lnTo>
                    <a:lnTo>
                      <a:pt x="0" y="5858073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对角圆角矩形 73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439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443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444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72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72"/>
                    </a:lnTo>
                    <a:lnTo>
                      <a:pt x="1209545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447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1660" h="5858072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72"/>
                    </a:lnTo>
                    <a:lnTo>
                      <a:pt x="791660" y="5858072"/>
                    </a:lnTo>
                    <a:lnTo>
                      <a:pt x="0" y="5858072"/>
                    </a:lnTo>
                    <a:lnTo>
                      <a:pt x="0" y="5858072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" name="对角圆角矩形 81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449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453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454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86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86"/>
                    </a:lnTo>
                    <a:lnTo>
                      <a:pt x="793325" y="2149886"/>
                    </a:lnTo>
                    <a:lnTo>
                      <a:pt x="0" y="2149886"/>
                    </a:lnTo>
                    <a:lnTo>
                      <a:pt x="0" y="2149886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457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custGeom>
                <a:avLst/>
                <a:gdLst/>
                <a:ahLst/>
                <a:rect l="l" t="t" r="r" b="b"/>
                <a:pathLst>
                  <a:path w="790569" h="5858114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114"/>
                    </a:lnTo>
                    <a:lnTo>
                      <a:pt x="790569" y="5858114"/>
                    </a:lnTo>
                    <a:lnTo>
                      <a:pt x="0" y="5858114"/>
                    </a:lnTo>
                    <a:lnTo>
                      <a:pt x="0" y="5858114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对角圆角矩形 8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459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0" name="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TextBox 21" descr=""/>
          <p:cNvPicPr/>
          <p:nvPr/>
        </p:nvPicPr>
        <p:blipFill>
          <a:blip r:embed="rId12"/>
          <a:stretch/>
        </p:blipFill>
        <p:spPr>
          <a:xfrm>
            <a:off x="646200" y="4705200"/>
            <a:ext cx="24256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464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465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467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103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同侧圆角矩形 19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105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360" y="2295720"/>
                <a:ext cx="1071360" cy="45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109" name="圆角矩形标注 57"/>
            <p:cNvSpPr/>
            <p:nvPr/>
          </p:nvSpPr>
          <p:spPr>
            <a:xfrm>
              <a:off x="954000" y="4076640"/>
              <a:ext cx="1560600" cy="957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Text Box 32" descr=""/>
            <p:cNvPicPr/>
            <p:nvPr/>
          </p:nvPicPr>
          <p:blipFill>
            <a:blip r:embed="rId4"/>
            <a:stretch/>
          </p:blipFill>
          <p:spPr>
            <a:xfrm>
              <a:off x="1096920" y="4386240"/>
              <a:ext cx="114012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6381720"/>
            <a:ext cx="62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答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 </a:t>
            </a:r>
            <a:r>
              <a:rPr b="0" lang="zh-CN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矩形 52" descr=""/>
          <p:cNvPicPr/>
          <p:nvPr/>
        </p:nvPicPr>
        <p:blipFill>
          <a:blip r:embed="rId1"/>
          <a:stretch/>
        </p:blipFill>
        <p:spPr>
          <a:xfrm>
            <a:off x="-85680" y="500040"/>
            <a:ext cx="9388440" cy="1000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3"/>
          <p:cNvSpPr/>
          <p:nvPr/>
        </p:nvSpPr>
        <p:spPr>
          <a:xfrm>
            <a:off x="21564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125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127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129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134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136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138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143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145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147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152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154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156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16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16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171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形标注 35"/>
            <p:cNvSpPr/>
            <p:nvPr/>
          </p:nvSpPr>
          <p:spPr>
            <a:xfrm>
              <a:off x="2624040" y="3286080"/>
              <a:ext cx="123804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36"/>
            <p:cNvSpPr/>
            <p:nvPr/>
          </p:nvSpPr>
          <p:spPr>
            <a:xfrm>
              <a:off x="2714400" y="3325680"/>
              <a:ext cx="105228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176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181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186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191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196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61"/>
            <p:cNvSpPr/>
            <p:nvPr/>
          </p:nvSpPr>
          <p:spPr>
            <a:xfrm>
              <a:off x="5438520" y="4521240"/>
              <a:ext cx="1332000" cy="1017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0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0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0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211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213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217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219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2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30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2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234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238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239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矩形 13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242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246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247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252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5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60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2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265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268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271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12Z</dcterms:created>
  <dc:creator>An</dc:creator>
  <dc:description/>
  <dc:language>en-US</dc:language>
  <cp:lastModifiedBy>a</cp:lastModifiedBy>
  <dcterms:modified xsi:type="dcterms:W3CDTF">2015-05-20T07:09:00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