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7.jpeg" ContentType="image/jpeg"/>
  <Override PartName="/ppt/media/image9.png" ContentType="image/png"/>
  <Override PartName="/ppt/media/image16.gif" ContentType="image/gif"/>
  <Override PartName="/ppt/media/image2.png" ContentType="image/png"/>
  <Override PartName="/ppt/media/image5.gif" ContentType="image/gif"/>
  <Override PartName="/ppt/media/image14.jpeg" ContentType="image/jpeg"/>
  <Override PartName="/ppt/media/image15.gif" ContentType="image/gif"/>
  <Override PartName="/ppt/media/image3.jpeg" ContentType="image/jpeg"/>
  <Override PartName="/ppt/media/image10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0296-BEB5-46FD-B957-009643F4D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5810-D538-406F-90E9-19A400A3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1E15-B1B2-4799-9452-887F8F833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8ADB-BE64-410F-ABFF-8D8D82813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695D-B3A9-4805-832A-12492A06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5FFB-7B10-4D15-9A5B-9CF1E8A6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555D-22FE-4DAD-AFC3-91E905E1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0A58-EFFD-4605-9314-8D9AD7C3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11F9-A8C7-4518-BCC1-35A78BF1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5436-466F-46A0-8765-67B02D5B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C32D-7356-4FFC-B361-B909E97E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E03A-5CE5-478C-9867-D888511B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C0FB-2A06-419D-8213-63929E1E4DE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6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矩形 2" descr=""/>
          <p:cNvPicPr/>
          <p:nvPr/>
        </p:nvPicPr>
        <p:blipFill>
          <a:blip r:embed="rId2"/>
          <a:stretch/>
        </p:blipFill>
        <p:spPr>
          <a:xfrm>
            <a:off x="2779560" y="1554120"/>
            <a:ext cx="356580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2332080"/>
            <a:ext cx="9144000" cy="2897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法布尔听说（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蜜蜂有辨认方向的能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），做了一个（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证实蜜蜂是否有辨认方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的试验，结果证明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蜜蜂具有辨别方向的能力，这不是一种超常的记忆力，而是一种令作者无法解释的本能的结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539640" y="260280"/>
            <a:ext cx="784872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课文讲了一件什么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法布尔听说（         ），做了一个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实验，结果证明（   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26" descr="200212220061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96" name="Group 1027"/>
          <p:cNvGrpSpPr/>
          <p:nvPr/>
        </p:nvGrpSpPr>
        <p:grpSpPr>
          <a:xfrm>
            <a:off x="3809880" y="228600"/>
            <a:ext cx="5334120" cy="2666880"/>
            <a:chOff x="3809880" y="228600"/>
            <a:chExt cx="5334120" cy="2666880"/>
          </a:xfrm>
        </p:grpSpPr>
        <p:sp>
          <p:nvSpPr>
            <p:cNvPr id="97" name="AutoShape 1028"/>
            <p:cNvSpPr/>
            <p:nvPr/>
          </p:nvSpPr>
          <p:spPr>
            <a:xfrm>
              <a:off x="3809880" y="228600"/>
              <a:ext cx="5334120" cy="266688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029"/>
            <p:cNvSpPr/>
            <p:nvPr/>
          </p:nvSpPr>
          <p:spPr>
            <a:xfrm>
              <a:off x="4190760" y="609480"/>
              <a:ext cx="4800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      </a:t>
              </a:r>
              <a:r>
                <a:rPr b="1" lang="zh-CN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听说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蜜蜂有辨认方向的能力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,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无论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飞到那里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,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它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总是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可以回到原处。我想做个试验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ectangle 1030"/>
          <p:cNvSpPr/>
          <p:nvPr/>
        </p:nvSpPr>
        <p:spPr>
          <a:xfrm>
            <a:off x="4500720" y="4005360"/>
            <a:ext cx="4464000" cy="52056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听说”一词在这里有什么含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031"/>
          <p:cNvSpPr/>
          <p:nvPr/>
        </p:nvSpPr>
        <p:spPr>
          <a:xfrm>
            <a:off x="395280" y="5589720"/>
            <a:ext cx="8569440" cy="52056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听说的不一定真实可靠，因此这既成为作者做实验的原因，也体现了作者不轻信的求实的科学态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1403280" y="3817800"/>
            <a:ext cx="604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250920" y="391356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————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再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————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然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—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最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—————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547640" y="3641760"/>
            <a:ext cx="164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捉蜜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5796000" y="364500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做记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1547640" y="4581360"/>
            <a:ext cx="21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叫女儿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643280" y="4581360"/>
            <a:ext cx="330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走两里路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538200" y="1009800"/>
            <a:ext cx="871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仔细默读第二段，法布尔是怎样做试验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6705720" y="0"/>
            <a:ext cx="2438280" cy="3581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9" name="Text Box 3"/>
          <p:cNvSpPr/>
          <p:nvPr/>
        </p:nvSpPr>
        <p:spPr>
          <a:xfrm>
            <a:off x="0" y="60948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天，我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先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我家花园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蜂窝里捉 了一些蜜蜂，把它们放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纸袋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124080" y="3581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然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我叫小女儿在蜂窝旁等着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0" y="213372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（再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为了证实飞回花园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蜜蜂是我放飞的，我在他们的背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做了白色的记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0" y="434340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（还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自己带着做了记号的二十只蜜蜂，走了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里多路，打开纸袋，把它们放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8720" y="6232680"/>
            <a:ext cx="7334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无标题21"/>
          <p:cNvPicPr/>
          <p:nvPr/>
        </p:nvPicPr>
        <p:blipFill>
          <a:blip r:embed="rId2"/>
          <a:stretch/>
        </p:blipFill>
        <p:spPr>
          <a:xfrm>
            <a:off x="0" y="0"/>
            <a:ext cx="1905120" cy="16653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611280" y="1773360"/>
            <a:ext cx="3744720" cy="5814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  <a:ea typeface="宋体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宋体"/>
              </a:rPr>
              <a:t>捉自家的蜜蜂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611280" y="2535120"/>
            <a:ext cx="3673440" cy="5814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  <a:ea typeface="宋体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宋体"/>
              </a:rPr>
              <a:t>给蜜蜂做记号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84360" y="5229360"/>
            <a:ext cx="4103640" cy="5814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  <a:ea typeface="宋体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宋体"/>
              </a:rPr>
              <a:t>女儿等在蜂窝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0" y="3284640"/>
            <a:ext cx="9144000" cy="5814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  <a:ea typeface="宋体"/>
              </a:rPr>
              <a:t>、自己带着做了记号的二十只蜜蜂，走了两里多路，打开纸袋，把它们放出来。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在两里外放飞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  <a:ea typeface="宋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565440" y="631800"/>
            <a:ext cx="2759040" cy="3668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4d4d4d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2438280" y="304920"/>
            <a:ext cx="5715000" cy="6426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4d4d4d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实事求是、严谨的科学态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5278680" y="17334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便于观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5106960" y="245412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为了与其他蜜蜂区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040480" y="450540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路稍远一点，更能说明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3706560" y="587700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是为了掌握蜜蜂飞回来的时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95280" y="14842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一步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我在我家花园的蜂窝里做了一些蜜蜂，把它们放在纸袋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95280" y="2708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二步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我在它们的背上做了白色的记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68360" y="39337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三步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我叫小女儿在蜂窝旁等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395280" y="49417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四步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自己带着做了记号的二十只蜜蜂，走了两里路，打开纸袋，把他们都放出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6"/>
          <p:cNvSpPr txBox="1"/>
          <p:nvPr/>
        </p:nvSpPr>
        <p:spPr>
          <a:xfrm>
            <a:off x="755640" y="0"/>
            <a:ext cx="5616720" cy="15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能不能减少一个环节？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法布尔做实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50920" y="1557000"/>
            <a:ext cx="8640720" cy="2592360"/>
          </a:xfrm>
          <a:prstGeom prst="rect">
            <a:avLst/>
          </a:prstGeom>
          <a:solidFill>
            <a:srgbClr val="ffffff">
              <a:alpha val="47000"/>
            </a:srgbClr>
          </a:solidFill>
          <a:ln cap="rnd" w="3240">
            <a:solidFill>
              <a:srgbClr val="ffffcc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84902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984902"/>
                </a:solidFill>
                <a:latin typeface="Arial"/>
              </a:rPr>
              <a:t>那些被闷了好久的蜜蜂向四面飞散，好象在寻找回家的方向。这时候起风了，蜜蜂飞得很低，</a:t>
            </a:r>
            <a:r>
              <a:rPr b="1" lang="zh-CN" sz="3200" spc="-1" strike="noStrike" u="sng">
                <a:solidFill>
                  <a:srgbClr val="99cc00"/>
                </a:solidFill>
                <a:uFillTx/>
                <a:latin typeface="Arial"/>
              </a:rPr>
              <a:t>几乎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要触到地面</a:t>
            </a:r>
            <a:r>
              <a:rPr b="1" lang="zh-CN" sz="3200" spc="-1" strike="noStrike">
                <a:solidFill>
                  <a:srgbClr val="984902"/>
                </a:solidFill>
                <a:latin typeface="Arial"/>
              </a:rPr>
              <a:t>，大概这样可以减少阻力。我想，它们飞得这么低，怎么能看到遥远的家呢</a:t>
            </a:r>
            <a:r>
              <a:rPr b="1" lang="en-US" sz="3200" spc="-1" strike="noStrike">
                <a:solidFill>
                  <a:srgbClr val="984902"/>
                </a:solidFill>
                <a:latin typeface="Arial"/>
              </a:rPr>
              <a:t>?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33"/>
                </a:solidFill>
                <a:uFillTx/>
                <a:latin typeface="Arial"/>
              </a:rPr>
              <a:t>“</a:t>
            </a:r>
            <a:r>
              <a:rPr b="1" lang="zh-CN" sz="3200" spc="-1" strike="noStrike" u="sng">
                <a:solidFill>
                  <a:srgbClr val="990033"/>
                </a:solidFill>
                <a:uFillTx/>
                <a:latin typeface="Arial"/>
              </a:rPr>
              <a:t>几乎要触到地面”说明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我想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它们飞得这么低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怎么能看到遥远的家呢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/>
          <p:cNvSpPr/>
          <p:nvPr/>
        </p:nvSpPr>
        <p:spPr>
          <a:xfrm>
            <a:off x="392040" y="1708920"/>
            <a:ext cx="805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时候起风了，蜜蜂飞得很低，  要触到地面，    这样可以减少阻力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7693200" y="1444680"/>
            <a:ext cx="119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几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2916360" y="1995480"/>
            <a:ext cx="13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大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53960" y="3233160"/>
            <a:ext cx="82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这时候起风了，蜜蜂飞得很低，要触到地面，这样可以减少阻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-108000" y="835200"/>
            <a:ext cx="88581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想，它们飞得这么低，     看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遥远的家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835720" y="1459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487440" y="2130480"/>
            <a:ext cx="822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想，它们飞得这么低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不能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看到遥远的家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6350400" y="8762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怎么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272880" y="3669480"/>
            <a:ext cx="820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们距离我那么远，怎么能听到我说的话呢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96920" y="4888800"/>
            <a:ext cx="82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们距离我那么远，不能听到我说的话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7"/>
          <p:cNvSpPr/>
          <p:nvPr/>
        </p:nvSpPr>
        <p:spPr>
          <a:xfrm>
            <a:off x="1547640" y="7588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df_0039"/>
          <p:cNvPicPr/>
          <p:nvPr/>
        </p:nvPicPr>
        <p:blipFill>
          <a:blip r:embed="rId2"/>
          <a:stretch/>
        </p:blipFill>
        <p:spPr>
          <a:xfrm>
            <a:off x="-181080" y="0"/>
            <a:ext cx="12276360" cy="693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3"/>
          <p:cNvSpPr/>
          <p:nvPr/>
        </p:nvSpPr>
        <p:spPr>
          <a:xfrm>
            <a:off x="971640" y="1700280"/>
            <a:ext cx="7777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．法布尔有了怎样的推测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２．为什么会有这样的推测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keaidongwu2_0211"/>
          <p:cNvPicPr/>
          <p:nvPr/>
        </p:nvPicPr>
        <p:blipFill>
          <a:blip r:embed="rId2"/>
          <a:stretch/>
        </p:blipFill>
        <p:spPr>
          <a:xfrm>
            <a:off x="4869000" y="1268280"/>
            <a:ext cx="4275000" cy="44960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"/>
          <p:cNvSpPr/>
          <p:nvPr/>
        </p:nvSpPr>
        <p:spPr>
          <a:xfrm>
            <a:off x="152280" y="533520"/>
            <a:ext cx="746784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法布尔这样推测的原因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闷在袋子里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5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8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1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4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从这个自然段中我们不难看出法布尔严谨的科学作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究竟蜜蜂找到家了么，课文结果如何呢 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P141"/>
          <p:cNvPicPr/>
          <p:nvPr/>
        </p:nvPicPr>
        <p:blipFill>
          <a:blip r:embed="rId2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4419720" y="1143000"/>
            <a:ext cx="4724280" cy="1556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没等我跨进家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小女儿就冲过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脸红红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看上去很激动。她高声喊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“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有两只蜜蜂飞回来了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!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它们两点四十分回到蜂窝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满身都是花粉呢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3243555_859"/>
          <p:cNvPicPr/>
          <p:nvPr/>
        </p:nvPicPr>
        <p:blipFill>
          <a:blip r:embed="rId2">
            <a:lum bright="12000"/>
          </a:blip>
          <a:srcRect l="0" t="0" r="0" b="444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3"/>
          <p:cNvSpPr/>
          <p:nvPr/>
        </p:nvSpPr>
        <p:spPr>
          <a:xfrm>
            <a:off x="0" y="0"/>
            <a:ext cx="9144000" cy="2168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Arial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  <a:ea typeface="楷体_GB2312"/>
              </a:rPr>
              <a:t>蜜蜂是在“没等我跨进家门”的时候就已经回来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Arial"/>
                <a:ea typeface="楷体_GB2312"/>
              </a:rPr>
              <a:t>这说明了什么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20071024202549855_2"/>
          <p:cNvPicPr/>
          <p:nvPr/>
        </p:nvPicPr>
        <p:blipFill>
          <a:blip r:embed="rId2"/>
          <a:srcRect l="0" t="5555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2"/>
          <p:cNvSpPr/>
          <p:nvPr/>
        </p:nvSpPr>
        <p:spPr>
          <a:xfrm>
            <a:off x="395280" y="549360"/>
            <a:ext cx="8439120" cy="5814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十只蜜蜂中，十七只没有迷失方向，准确无误地回到了家。尽管它们逆风而飞，沿途都是一些陌生的景物，但它们确确实实飞回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395280" y="4581360"/>
            <a:ext cx="8439120" cy="10688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十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蜜蜂中，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十七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没有迷失方向，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准确无误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地回到了家。尽管它们逆风而飞，沿途都是一些陌生的景物，但它们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确确实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飞回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3"/>
          <p:cNvGrpSpPr/>
          <p:nvPr/>
        </p:nvGrpSpPr>
        <p:grpSpPr>
          <a:xfrm>
            <a:off x="739800" y="765000"/>
            <a:ext cx="8153280" cy="5181480"/>
            <a:chOff x="739800" y="765000"/>
            <a:chExt cx="8153280" cy="5181480"/>
          </a:xfrm>
        </p:grpSpPr>
        <p:sp>
          <p:nvSpPr>
            <p:cNvPr id="155" name="AutoShape 4"/>
            <p:cNvSpPr/>
            <p:nvPr/>
          </p:nvSpPr>
          <p:spPr>
            <a:xfrm>
              <a:off x="739800" y="765000"/>
              <a:ext cx="7924680" cy="518148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5"/>
            <p:cNvSpPr/>
            <p:nvPr/>
          </p:nvSpPr>
          <p:spPr>
            <a:xfrm>
              <a:off x="968400" y="993600"/>
              <a:ext cx="792468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66ff33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天快黑的时候，我们还没有见到其他蜜蜂回来。第二天检查蜂窝时，我又发现了</a:t>
              </a: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5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只背上有白色记号的蜜蜂。这样，</a:t>
              </a: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0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只蜜蜂中有</a:t>
              </a: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7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只没有迷失方向，它们准确无误地回到了自己的家。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尽管它们逆风而飞，沿途都是一些陌生的景物，但它们确确实实飞回来了。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                                                                                  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Rectangle 6"/>
          <p:cNvSpPr/>
          <p:nvPr/>
        </p:nvSpPr>
        <p:spPr>
          <a:xfrm>
            <a:off x="2526120" y="3736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尽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4539240" y="3736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逆风而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2068920" y="42703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陌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6368040" y="42703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确确实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7463160" y="37368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4719960" y="42703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755640" y="1844640"/>
            <a:ext cx="70675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尽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们逆风而飞，沿途都是一些陌生的景物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们确确实实飞回来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无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飞到哪里，它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总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回到原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116000" y="765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黑体"/>
              </a:rPr>
              <a:t>准确无误、确确实实、尽管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黑体"/>
              </a:rPr>
              <a:t>但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黑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4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609480" y="685800"/>
            <a:ext cx="723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实验结果是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95280" y="2421000"/>
            <a:ext cx="853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十七只没有迷失方向，准确无误的回到了家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920" y="1988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”从试验里得出了什么结论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4788000" y="404640"/>
            <a:ext cx="302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资料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0" y="1484280"/>
            <a:ext cx="9144000" cy="106884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幼圆"/>
              </a:rPr>
              <a:t>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幼圆"/>
              </a:rPr>
              <a:t>蜜蜂是勤劳的昆虫。为了酿造五百克蜜，一只蜜蜂通常要飞行十几万公里，相当于绕地球三四圈。蜜蜂一找到蜜源，就会飞回去蜂巢，告诉同伴关于蜜源的信息。如果蜜源离蜂箱不到一百米，它们就在蜂巢上方跳“圆舞”；如果蜜源在蜂箱一百米以外，它们就跳“摆尾舞”</a:t>
            </a:r>
            <a:r>
              <a:rPr b="0" lang="zh-CN" sz="3200" spc="-1" strike="noStrike">
                <a:solidFill>
                  <a:srgbClr val="ff6699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4"/>
          <p:cNvGrpSpPr/>
          <p:nvPr/>
        </p:nvGrpSpPr>
        <p:grpSpPr>
          <a:xfrm>
            <a:off x="3239640" y="4594320"/>
            <a:ext cx="3132720" cy="1515960"/>
            <a:chOff x="3239640" y="4594320"/>
            <a:chExt cx="3132720" cy="1515960"/>
          </a:xfrm>
        </p:grpSpPr>
        <p:grpSp>
          <p:nvGrpSpPr>
            <p:cNvPr id="49" name="Group 5"/>
            <p:cNvGrpSpPr/>
            <p:nvPr/>
          </p:nvGrpSpPr>
          <p:grpSpPr>
            <a:xfrm>
              <a:off x="3239640" y="4594320"/>
              <a:ext cx="2234880" cy="1511640"/>
              <a:chOff x="3239640" y="4594320"/>
              <a:chExt cx="2234880" cy="1511640"/>
            </a:xfrm>
          </p:grpSpPr>
          <p:pic>
            <p:nvPicPr>
              <p:cNvPr id="50" name="Picture 6" descr="未命名"/>
              <p:cNvPicPr/>
              <p:nvPr/>
            </p:nvPicPr>
            <p:blipFill>
              <a:blip r:embed="rId2">
                <a:alphaModFix amt="51000"/>
              </a:blip>
              <a:stretch/>
            </p:blipFill>
            <p:spPr>
              <a:xfrm rot="190800">
                <a:off x="3276360" y="4653000"/>
                <a:ext cx="2160720" cy="139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Picture 7" descr="gif009"/>
              <p:cNvPicPr/>
              <p:nvPr/>
            </p:nvPicPr>
            <p:blipFill>
              <a:blip r:embed="rId3"/>
              <a:stretch/>
            </p:blipFill>
            <p:spPr>
              <a:xfrm>
                <a:off x="4211640" y="5084640"/>
                <a:ext cx="676440" cy="362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2" name="Text Box 8"/>
            <p:cNvSpPr/>
            <p:nvPr/>
          </p:nvSpPr>
          <p:spPr>
            <a:xfrm>
              <a:off x="5077080" y="5589720"/>
              <a:ext cx="1295280" cy="520560"/>
            </a:xfrm>
            <a:prstGeom prst="rect">
              <a:avLst/>
            </a:prstGeom>
            <a:solidFill>
              <a:srgbClr val="ffffff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  <a:ea typeface="隶书"/>
                </a:rPr>
                <a:t>圆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9"/>
          <p:cNvGrpSpPr/>
          <p:nvPr/>
        </p:nvGrpSpPr>
        <p:grpSpPr>
          <a:xfrm>
            <a:off x="6084720" y="4653000"/>
            <a:ext cx="3059280" cy="1384200"/>
            <a:chOff x="6084720" y="4653000"/>
            <a:chExt cx="3059280" cy="1384200"/>
          </a:xfrm>
        </p:grpSpPr>
        <p:grpSp>
          <p:nvGrpSpPr>
            <p:cNvPr id="54" name="Group 10"/>
            <p:cNvGrpSpPr/>
            <p:nvPr/>
          </p:nvGrpSpPr>
          <p:grpSpPr>
            <a:xfrm>
              <a:off x="6084720" y="4653000"/>
              <a:ext cx="1905120" cy="1212840"/>
              <a:chOff x="6084720" y="4653000"/>
              <a:chExt cx="1905120" cy="1212840"/>
            </a:xfrm>
          </p:grpSpPr>
          <p:pic>
            <p:nvPicPr>
              <p:cNvPr id="55" name="Picture 11" descr="未命名1"/>
              <p:cNvPicPr/>
              <p:nvPr/>
            </p:nvPicPr>
            <p:blipFill>
              <a:blip r:embed="rId4">
                <a:alphaModFix amt="51000"/>
              </a:blip>
              <a:stretch/>
            </p:blipFill>
            <p:spPr>
              <a:xfrm>
                <a:off x="6084720" y="4653000"/>
                <a:ext cx="1905120" cy="121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" name="Picture 12" descr="gif009"/>
              <p:cNvPicPr/>
              <p:nvPr/>
            </p:nvPicPr>
            <p:blipFill>
              <a:blip r:embed="rId5"/>
              <a:stretch/>
            </p:blipFill>
            <p:spPr>
              <a:xfrm>
                <a:off x="6588000" y="5084640"/>
                <a:ext cx="676080" cy="362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7" name="Text Box 13"/>
            <p:cNvSpPr/>
            <p:nvPr/>
          </p:nvSpPr>
          <p:spPr>
            <a:xfrm>
              <a:off x="7632360" y="5516640"/>
              <a:ext cx="1511640" cy="520560"/>
            </a:xfrm>
            <a:prstGeom prst="rect">
              <a:avLst/>
            </a:prstGeom>
            <a:solidFill>
              <a:srgbClr val="ffffff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  <a:ea typeface="隶书"/>
                </a:rPr>
                <a:t>摆尾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324000" y="1484280"/>
            <a:ext cx="7777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蜜蜂靠的不是超常的记忆力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而是一种我无法解释的本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2955960" y="14526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不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317520" y="2292480"/>
            <a:ext cx="11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而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755640" y="4365720"/>
            <a:ext cx="5184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反义词：超常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—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普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                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一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79280" y="1793880"/>
            <a:ext cx="9144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听说蜜蜂有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能力，无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它总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我”通过实验证实了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蜜蜂这种辨认方向的能力靠的不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而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3086280" y="1700280"/>
            <a:ext cx="22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</a:rPr>
              <a:t>辨认方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790560" y="2203560"/>
            <a:ext cx="25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</a:rPr>
              <a:t>飞到哪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5000760" y="2203560"/>
            <a:ext cx="284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</a:rPr>
              <a:t>可以回到原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4406760" y="2924280"/>
            <a:ext cx="18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</a:rPr>
              <a:t>这种说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1438200" y="4145040"/>
            <a:ext cx="28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</a:rPr>
              <a:t>超常的记忆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1285920" y="4937040"/>
            <a:ext cx="379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</a:rPr>
              <a:t>我无法解释的本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9" descr="book9"/>
          <p:cNvPicPr/>
          <p:nvPr/>
        </p:nvPicPr>
        <p:blipFill>
          <a:blip r:embed="rId2"/>
          <a:stretch/>
        </p:blipFill>
        <p:spPr>
          <a:xfrm>
            <a:off x="0" y="0"/>
            <a:ext cx="1523880" cy="12621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0"/>
          <p:cNvSpPr/>
          <p:nvPr/>
        </p:nvSpPr>
        <p:spPr>
          <a:xfrm>
            <a:off x="1447920" y="380880"/>
            <a:ext cx="170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  <a:ea typeface="华文琥珀"/>
              </a:rPr>
              <a:t>我会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324000" y="33336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蜜蜂识途靠的是两种本领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zh-CN" sz="3600" spc="-1" strike="noStrike">
                <a:solidFill>
                  <a:srgbClr val="99cc00"/>
                </a:solidFill>
                <a:latin typeface="Arial"/>
                <a:ea typeface="黑体"/>
              </a:rPr>
              <a:t>一是“偏光导航”，二是“香气走廊”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偏光就是人眼看不见的紫外线。蜜蜂利用这一点偏光，就能感知太阳，准确地飞回巢去。蜜蜂腹部有一种嗅腺，蜜蜂飞行时腹部收缩，嗅腺分泌出来的香气便留在飞过的地方。后面的蜜蜂沿着得气去采蜜。好么多蜜蜂来来往往，就在蜜源和蜜房之间形成一条“香气走廊”。沿着这条“香气走廊”，蜜蜂采运花粉归家，就不会迷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你知道它们是靠什么来判断方向吗？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蜜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阳，通过舞蹈来告诉其他蜜蜂如何到达它发现的花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蚂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阳和蓝天上反射下来的光以及气味来辨别方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鸽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根据地球磁场变化，鸽子具有感知地球磁场的器官，它的记忆力和视力都非常好，它也可以通过星星和太阳来辨别方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嗅觉，不仅可以辨别方向还可以辨别主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2"/>
          <p:cNvSpPr txBox="1"/>
          <p:nvPr/>
        </p:nvSpPr>
        <p:spPr>
          <a:xfrm>
            <a:off x="457200" y="2743200"/>
            <a:ext cx="80773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一起来识生字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914400" y="1676520"/>
          <a:ext cx="3745080" cy="3456000"/>
        </p:xfrm>
        <a:graphic>
          <a:graphicData uri="http://schemas.openxmlformats.org/drawingml/2006/table">
            <a:tbl>
              <a:tblPr/>
              <a:tblGrid>
                <a:gridCol w="1873080"/>
                <a:gridCol w="187200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Text Box 13"/>
          <p:cNvSpPr/>
          <p:nvPr/>
        </p:nvSpPr>
        <p:spPr>
          <a:xfrm>
            <a:off x="1282680" y="1787400"/>
            <a:ext cx="2800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Arial"/>
                <a:ea typeface="宋体"/>
              </a:rPr>
              <a:t>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2211120" y="609480"/>
            <a:ext cx="132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宋体"/>
              </a:rPr>
              <a:t>lù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533520" y="5181480"/>
            <a:ext cx="426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讨论  理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6" descr="BGNEXT"/>
          <p:cNvPicPr/>
          <p:nvPr/>
        </p:nvPicPr>
        <p:blipFill>
          <a:blip r:embed="rId2"/>
          <a:stretch/>
        </p:blipFill>
        <p:spPr>
          <a:xfrm>
            <a:off x="7101000" y="6102360"/>
            <a:ext cx="581040" cy="7142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7"/>
          <p:cNvSpPr/>
          <p:nvPr/>
        </p:nvSpPr>
        <p:spPr>
          <a:xfrm>
            <a:off x="5105520" y="1752480"/>
            <a:ext cx="3504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部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结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左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笔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: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685800" y="1828800"/>
          <a:ext cx="3745080" cy="3586320"/>
        </p:xfrm>
        <a:graphic>
          <a:graphicData uri="http://schemas.openxmlformats.org/drawingml/2006/table">
            <a:tbl>
              <a:tblPr/>
              <a:tblGrid>
                <a:gridCol w="1873080"/>
                <a:gridCol w="1872000"/>
              </a:tblGrid>
              <a:tr h="17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13"/>
          <p:cNvSpPr/>
          <p:nvPr/>
        </p:nvSpPr>
        <p:spPr>
          <a:xfrm>
            <a:off x="1054080" y="1951200"/>
            <a:ext cx="2800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Arial"/>
                <a:ea typeface="宋体"/>
              </a:rPr>
              <a:t>试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1905120" y="762120"/>
            <a:ext cx="141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宋体"/>
              </a:rPr>
              <a:t>sh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457200" y="5410080"/>
            <a:ext cx="4038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考试 试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4495680" y="1828800"/>
            <a:ext cx="4343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部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结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左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笔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: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771480" y="1501920"/>
          <a:ext cx="3745080" cy="3456000"/>
        </p:xfrm>
        <a:graphic>
          <a:graphicData uri="http://schemas.openxmlformats.org/drawingml/2006/table">
            <a:tbl>
              <a:tblPr/>
              <a:tblGrid>
                <a:gridCol w="1873080"/>
                <a:gridCol w="187200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Text Box 13"/>
          <p:cNvSpPr/>
          <p:nvPr/>
        </p:nvSpPr>
        <p:spPr>
          <a:xfrm>
            <a:off x="1139760" y="1612800"/>
            <a:ext cx="2800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Arial"/>
                <a:ea typeface="宋体"/>
              </a:rPr>
              <a:t>验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1830600" y="457200"/>
            <a:ext cx="149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宋体"/>
              </a:rPr>
              <a:t>yà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833400" y="5029200"/>
            <a:ext cx="314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宋体"/>
              </a:rPr>
              <a:t>考验  验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4800600" y="1447920"/>
            <a:ext cx="411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部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结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左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笔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: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771480" y="1501920"/>
          <a:ext cx="3745080" cy="3456000"/>
        </p:xfrm>
        <a:graphic>
          <a:graphicData uri="http://schemas.openxmlformats.org/drawingml/2006/table">
            <a:tbl>
              <a:tblPr/>
              <a:tblGrid>
                <a:gridCol w="1873080"/>
                <a:gridCol w="187200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Text Box 13"/>
          <p:cNvSpPr/>
          <p:nvPr/>
        </p:nvSpPr>
        <p:spPr>
          <a:xfrm>
            <a:off x="1139760" y="1612800"/>
            <a:ext cx="2800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Arial"/>
                <a:ea typeface="宋体"/>
              </a:rPr>
              <a:t>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1526040" y="380880"/>
            <a:ext cx="2256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宋体"/>
              </a:rPr>
              <a:t>zhè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1274760" y="5029200"/>
            <a:ext cx="261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验证 证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4800600" y="1523880"/>
            <a:ext cx="3124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部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结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左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笔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: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771480" y="1501920"/>
          <a:ext cx="3745080" cy="3456000"/>
        </p:xfrm>
        <a:graphic>
          <a:graphicData uri="http://schemas.openxmlformats.org/drawingml/2006/table">
            <a:tbl>
              <a:tblPr/>
              <a:tblGrid>
                <a:gridCol w="1873080"/>
                <a:gridCol w="187200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Text Box 13"/>
          <p:cNvSpPr/>
          <p:nvPr/>
        </p:nvSpPr>
        <p:spPr>
          <a:xfrm>
            <a:off x="1139760" y="1612800"/>
            <a:ext cx="2800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Arial"/>
                <a:ea typeface="宋体"/>
              </a:rPr>
              <a:t>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4"/>
          <p:cNvSpPr/>
          <p:nvPr/>
        </p:nvSpPr>
        <p:spPr>
          <a:xfrm>
            <a:off x="1907280" y="380880"/>
            <a:ext cx="1392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宋体"/>
              </a:rPr>
              <a:t>gà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1061280" y="5334120"/>
            <a:ext cx="3030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大概　概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4648320" y="1523880"/>
            <a:ext cx="2971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部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结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左中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笔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: 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法布尔"/>
          <p:cNvPicPr/>
          <p:nvPr/>
        </p:nvPicPr>
        <p:blipFill>
          <a:blip r:embed="rId2"/>
          <a:stretch/>
        </p:blipFill>
        <p:spPr>
          <a:xfrm>
            <a:off x="228600" y="228600"/>
            <a:ext cx="2185920" cy="24843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2627280" y="836640"/>
            <a:ext cx="5616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亨利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法布尔是法国著名的科学家，科普作家。出生于农民家庭，从小生活极其穷困，他穷毕生之力深入昆虫世界，在自然环境中对昆虫进行观察与实验，真实地记录下昆虫的本能与习性，著成了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这部昆虫学巨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十大册，每册包含若干章，每章详细、深刻地描绘一种或几种昆虫的生活，例如：蜘蛛、蜜蜂、螳螂、蝎子、蝉、甲虫、蟋蟀等等。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0" y="5486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让我们一起打开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昆虫记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的其中一页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5"/>
          <p:cNvSpPr txBox="1"/>
          <p:nvPr/>
        </p:nvSpPr>
        <p:spPr>
          <a:xfrm>
            <a:off x="152280" y="3048120"/>
            <a:ext cx="22338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5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法布尔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77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770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923760" y="1654200"/>
          <a:ext cx="3745080" cy="3456000"/>
        </p:xfrm>
        <a:graphic>
          <a:graphicData uri="http://schemas.openxmlformats.org/drawingml/2006/table">
            <a:tbl>
              <a:tblPr/>
              <a:tblGrid>
                <a:gridCol w="1873080"/>
                <a:gridCol w="187200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Text Box 13"/>
          <p:cNvSpPr/>
          <p:nvPr/>
        </p:nvSpPr>
        <p:spPr>
          <a:xfrm>
            <a:off x="1292400" y="1765440"/>
            <a:ext cx="28000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Arial"/>
                <a:ea typeface="宋体"/>
              </a:rPr>
              <a:t>减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4"/>
          <p:cNvSpPr/>
          <p:nvPr/>
        </p:nvSpPr>
        <p:spPr>
          <a:xfrm>
            <a:off x="2191320" y="690480"/>
            <a:ext cx="149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宋体"/>
              </a:rPr>
              <a:t>jiǎ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5"/>
          <p:cNvSpPr/>
          <p:nvPr/>
        </p:nvSpPr>
        <p:spPr>
          <a:xfrm>
            <a:off x="533520" y="5410080"/>
            <a:ext cx="423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减法  加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4648320" y="1676520"/>
            <a:ext cx="3200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部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两点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结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左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笔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: 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923760" y="1654200"/>
          <a:ext cx="3745080" cy="3456000"/>
        </p:xfrm>
        <a:graphic>
          <a:graphicData uri="http://schemas.openxmlformats.org/drawingml/2006/table">
            <a:tbl>
              <a:tblPr/>
              <a:tblGrid>
                <a:gridCol w="1873080"/>
                <a:gridCol w="187200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Text Box 13"/>
          <p:cNvSpPr/>
          <p:nvPr/>
        </p:nvSpPr>
        <p:spPr>
          <a:xfrm>
            <a:off x="1292400" y="1765440"/>
            <a:ext cx="28000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Arial"/>
                <a:ea typeface="宋体"/>
              </a:rPr>
              <a:t>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2059200" y="457200"/>
            <a:ext cx="111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宋体"/>
              </a:rPr>
              <a:t>z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5"/>
          <p:cNvSpPr/>
          <p:nvPr/>
        </p:nvSpPr>
        <p:spPr>
          <a:xfrm>
            <a:off x="1350720" y="5181480"/>
            <a:ext cx="261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阻止 阻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6"/>
          <p:cNvSpPr/>
          <p:nvPr/>
        </p:nvSpPr>
        <p:spPr>
          <a:xfrm>
            <a:off x="4648320" y="1676520"/>
            <a:ext cx="3581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部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左耳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结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左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笔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: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923760" y="1654200"/>
          <a:ext cx="3745080" cy="3456000"/>
        </p:xfrm>
        <a:graphic>
          <a:graphicData uri="http://schemas.openxmlformats.org/drawingml/2006/table">
            <a:tbl>
              <a:tblPr/>
              <a:tblGrid>
                <a:gridCol w="1873080"/>
                <a:gridCol w="187200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Text Box 13"/>
          <p:cNvSpPr/>
          <p:nvPr/>
        </p:nvSpPr>
        <p:spPr>
          <a:xfrm>
            <a:off x="1292400" y="1765440"/>
            <a:ext cx="28000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Arial"/>
                <a:ea typeface="宋体"/>
              </a:rPr>
              <a:t>测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2211840" y="53352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宋体"/>
              </a:rPr>
              <a:t>c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1297080" y="5230800"/>
            <a:ext cx="262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测验  预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4724280" y="1676520"/>
            <a:ext cx="4027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部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三点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结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左中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笔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: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923760" y="1654200"/>
          <a:ext cx="3745080" cy="3456000"/>
        </p:xfrm>
        <a:graphic>
          <a:graphicData uri="http://schemas.openxmlformats.org/drawingml/2006/table">
            <a:tbl>
              <a:tblPr/>
              <a:tblGrid>
                <a:gridCol w="1873080"/>
                <a:gridCol w="187200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Text Box 13"/>
          <p:cNvSpPr/>
          <p:nvPr/>
        </p:nvSpPr>
        <p:spPr>
          <a:xfrm>
            <a:off x="1292400" y="1765440"/>
            <a:ext cx="28000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Arial"/>
                <a:ea typeface="宋体"/>
              </a:rPr>
              <a:t>括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1983600" y="457200"/>
            <a:ext cx="1671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宋体"/>
              </a:rPr>
              <a:t>ku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1449720" y="5105520"/>
            <a:ext cx="262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括号  概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4724280" y="1600200"/>
            <a:ext cx="3200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部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提手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结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左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笔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: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923760" y="1654200"/>
          <a:ext cx="3745080" cy="3456000"/>
        </p:xfrm>
        <a:graphic>
          <a:graphicData uri="http://schemas.openxmlformats.org/drawingml/2006/table">
            <a:tbl>
              <a:tblPr/>
              <a:tblGrid>
                <a:gridCol w="1873080"/>
                <a:gridCol w="187200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Text Box 13"/>
          <p:cNvSpPr/>
          <p:nvPr/>
        </p:nvSpPr>
        <p:spPr>
          <a:xfrm>
            <a:off x="1292400" y="1765440"/>
            <a:ext cx="28000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Arial"/>
                <a:ea typeface="宋体"/>
              </a:rPr>
              <a:t>确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1862640" y="498600"/>
            <a:ext cx="1533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宋体"/>
              </a:rPr>
              <a:t>qu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5"/>
          <p:cNvSpPr/>
          <p:nvPr/>
        </p:nvSpPr>
        <p:spPr>
          <a:xfrm>
            <a:off x="1427040" y="5105520"/>
            <a:ext cx="261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准确 确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6"/>
          <p:cNvSpPr/>
          <p:nvPr/>
        </p:nvSpPr>
        <p:spPr>
          <a:xfrm>
            <a:off x="4648320" y="1523880"/>
            <a:ext cx="2895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部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结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左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笔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: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923760" y="1654200"/>
          <a:ext cx="3745080" cy="3425760"/>
        </p:xfrm>
        <a:graphic>
          <a:graphicData uri="http://schemas.openxmlformats.org/drawingml/2006/table">
            <a:tbl>
              <a:tblPr/>
              <a:tblGrid>
                <a:gridCol w="1873080"/>
                <a:gridCol w="1872000"/>
              </a:tblGrid>
              <a:tr h="169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Text Box 13"/>
          <p:cNvSpPr/>
          <p:nvPr/>
        </p:nvSpPr>
        <p:spPr>
          <a:xfrm>
            <a:off x="1292400" y="1765440"/>
            <a:ext cx="28000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Arial"/>
                <a:ea typeface="宋体"/>
              </a:rPr>
              <a:t>误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4"/>
          <p:cNvSpPr/>
          <p:nvPr/>
        </p:nvSpPr>
        <p:spPr>
          <a:xfrm>
            <a:off x="2059560" y="457200"/>
            <a:ext cx="1392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宋体"/>
              </a:rPr>
              <a:t>gà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5"/>
          <p:cNvSpPr/>
          <p:nvPr/>
        </p:nvSpPr>
        <p:spPr>
          <a:xfrm>
            <a:off x="1449720" y="5181480"/>
            <a:ext cx="262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误会  耽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6"/>
          <p:cNvSpPr/>
          <p:nvPr/>
        </p:nvSpPr>
        <p:spPr>
          <a:xfrm>
            <a:off x="4648320" y="1600200"/>
            <a:ext cx="3429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部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结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左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笔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: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923760" y="1654200"/>
          <a:ext cx="3745080" cy="3456000"/>
        </p:xfrm>
        <a:graphic>
          <a:graphicData uri="http://schemas.openxmlformats.org/drawingml/2006/table">
            <a:tbl>
              <a:tblPr/>
              <a:tblGrid>
                <a:gridCol w="1873080"/>
                <a:gridCol w="187200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Text Box 13"/>
          <p:cNvSpPr/>
          <p:nvPr/>
        </p:nvSpPr>
        <p:spPr>
          <a:xfrm>
            <a:off x="1292400" y="1765440"/>
            <a:ext cx="28000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Arial"/>
                <a:ea typeface="宋体"/>
              </a:rPr>
              <a:t>途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4"/>
          <p:cNvSpPr/>
          <p:nvPr/>
        </p:nvSpPr>
        <p:spPr>
          <a:xfrm>
            <a:off x="2211120" y="380880"/>
            <a:ext cx="10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  <a:ea typeface="宋体"/>
              </a:rPr>
              <a:t>t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5"/>
          <p:cNvSpPr/>
          <p:nvPr/>
        </p:nvSpPr>
        <p:spPr>
          <a:xfrm>
            <a:off x="1468800" y="5105520"/>
            <a:ext cx="260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用途   路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6"/>
          <p:cNvSpPr/>
          <p:nvPr/>
        </p:nvSpPr>
        <p:spPr>
          <a:xfrm>
            <a:off x="4724280" y="1649520"/>
            <a:ext cx="320040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部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走之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结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半包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笔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: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923760" y="1654200"/>
          <a:ext cx="3745080" cy="3456000"/>
        </p:xfrm>
        <a:graphic>
          <a:graphicData uri="http://schemas.openxmlformats.org/drawingml/2006/table">
            <a:tbl>
              <a:tblPr/>
              <a:tblGrid>
                <a:gridCol w="1873080"/>
                <a:gridCol w="187200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Text Box 13"/>
          <p:cNvSpPr/>
          <p:nvPr/>
        </p:nvSpPr>
        <p:spPr>
          <a:xfrm>
            <a:off x="1292400" y="1765440"/>
            <a:ext cx="28000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Arial"/>
                <a:ea typeface="宋体"/>
              </a:rPr>
              <a:t>超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4"/>
          <p:cNvSpPr/>
          <p:nvPr/>
        </p:nvSpPr>
        <p:spPr>
          <a:xfrm>
            <a:off x="1828800" y="533520"/>
            <a:ext cx="243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宋体"/>
              </a:rPr>
              <a:t>chā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1449720" y="5105520"/>
            <a:ext cx="262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超级  超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6"/>
          <p:cNvSpPr/>
          <p:nvPr/>
        </p:nvSpPr>
        <p:spPr>
          <a:xfrm>
            <a:off x="4648320" y="1649520"/>
            <a:ext cx="3809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部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结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半包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笔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: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763640" y="121284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468360" y="907920"/>
            <a:ext cx="8839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试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(shì)       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验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(yàn)        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证 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(zhèng)      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阻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(zǔ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测 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(c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  <a:ea typeface="Arial"/>
              </a:rPr>
              <a:t>è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)       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括 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(ku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  <a:ea typeface="宋体"/>
              </a:rPr>
              <a:t>ò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)       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误 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(w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  <a:ea typeface="宋体"/>
              </a:rPr>
              <a:t>ù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)            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途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(tú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陌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(m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  <a:ea typeface="宋体"/>
              </a:rPr>
              <a:t>ò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)       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超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(ch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  <a:ea typeface="宋体"/>
              </a:rPr>
              <a:t>ā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  <a:ea typeface="楷体_GB2312"/>
              </a:rPr>
              <a:t>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79280" y="3500280"/>
            <a:ext cx="896472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  <a:ea typeface="楷体_GB2312"/>
              </a:rPr>
              <a:t>试验    纸袋     证实     飞散     几乎    大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  <a:ea typeface="楷体_GB2312"/>
              </a:rPr>
              <a:t>阻力    遥远     推测      包括     检查    迷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  <a:ea typeface="楷体_GB2312"/>
              </a:rPr>
              <a:t>沿途    陌生     超常      本能       记忆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  <a:ea typeface="楷体_GB2312"/>
              </a:rPr>
              <a:t>准确无误         确确实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476360" y="549360"/>
            <a:ext cx="648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论      试验      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实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力     推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测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包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    沿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    陌生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常      大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概      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少      纸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解释      逆风而飞     准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确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209680" y="3244680"/>
            <a:ext cx="22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讠字旁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2209680" y="4510080"/>
            <a:ext cx="23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半包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133720" y="3886200"/>
            <a:ext cx="41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左中右结构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4540320" y="4510080"/>
            <a:ext cx="292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途、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4068720" y="3200400"/>
            <a:ext cx="46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论、试、证、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4849920" y="3886200"/>
            <a:ext cx="33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测、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4549680" y="5105520"/>
            <a:ext cx="619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验、阻、括、减、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2209680" y="5084640"/>
            <a:ext cx="304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左右结构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2143080" y="575928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上下结构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4552920" y="571500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838080" y="11430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"/>
          <p:cNvSpPr/>
          <p:nvPr/>
        </p:nvSpPr>
        <p:spPr>
          <a:xfrm flipV="1">
            <a:off x="1905120" y="838080"/>
            <a:ext cx="7617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>
            <a:off x="1905120" y="137160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743200" y="129528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mèn  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闷闷不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2743200" y="30492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Dotum"/>
                <a:ea typeface="Dotum"/>
              </a:rPr>
              <a:t>mēn   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闷热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990720" y="27432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"/>
          <p:cNvSpPr/>
          <p:nvPr/>
        </p:nvSpPr>
        <p:spPr>
          <a:xfrm flipV="1">
            <a:off x="1981080" y="27428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>
            <a:off x="1981080" y="3048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3048120" y="525780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jìn  (</a:t>
            </a:r>
            <a:r>
              <a:rPr b="1" lang="zh-CN" sz="4000" spc="-1" strike="noStrike">
                <a:solidFill>
                  <a:srgbClr val="000000"/>
                </a:solidFill>
                <a:latin typeface="Dotum"/>
                <a:ea typeface="Dotum"/>
              </a:rPr>
              <a:t>尽力</a:t>
            </a:r>
            <a:r>
              <a:rPr b="1" lang="en-US" sz="4000" spc="-1" strike="noStrike">
                <a:solidFill>
                  <a:srgbClr val="000000"/>
                </a:solidFill>
                <a:latin typeface="Dotum"/>
                <a:ea typeface="Dotum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2819520" y="320040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jī  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几乎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2743200" y="236232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jǐ  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几个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1143000" y="51055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4"/>
          <p:cNvSpPr/>
          <p:nvPr/>
        </p:nvSpPr>
        <p:spPr>
          <a:xfrm flipV="1">
            <a:off x="2209680" y="4876560"/>
            <a:ext cx="8384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5"/>
          <p:cNvSpPr/>
          <p:nvPr/>
        </p:nvSpPr>
        <p:spPr>
          <a:xfrm>
            <a:off x="2209680" y="541008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2971800" y="434340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jǐn  (</a:t>
            </a:r>
            <a:r>
              <a:rPr b="1" lang="zh-CN" sz="4000" spc="-1" strike="noStrike">
                <a:solidFill>
                  <a:srgbClr val="000000"/>
                </a:solidFill>
                <a:latin typeface="Dotum"/>
                <a:ea typeface="Dotum"/>
              </a:rPr>
              <a:t>尽管</a:t>
            </a:r>
            <a:r>
              <a:rPr b="1" lang="en-US" sz="4000" spc="-1" strike="noStrike">
                <a:solidFill>
                  <a:srgbClr val="000000"/>
                </a:solidFill>
                <a:latin typeface="Dotum"/>
                <a:ea typeface="Dotum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些被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了好久的蜜蜂向四面飞散，好像在寻找回家的方向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时候起风了，蜜蜂飞得很低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乎要触到地面，大概这样可以减少阻力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管它们逆风而飞，沿途都是一些陌生的景物，但他们确确实实飞回来了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1027"/>
          <p:cNvSpPr txBox="1"/>
          <p:nvPr/>
        </p:nvSpPr>
        <p:spPr>
          <a:xfrm>
            <a:off x="1116000" y="2205000"/>
            <a:ext cx="69343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带着问题进入课文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6T07:49:10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11:24Z</dcterms:modified>
  <cp:revision>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