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094-E859-405E-B977-AC656B45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B0C-8CF8-4721-91CF-09B9EC4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4AE-13A0-4257-9485-98E6DADA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C99-D4D4-42AA-9B67-29984E60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31B2-60F1-4EF1-ACD0-0D1CDB1D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93B3-FF2A-4567-B2C0-CB0C586F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E4E3-F979-45BE-AE80-C45E07F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EF8E-729B-426F-8736-D28124E4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F96A-156B-4FD7-B550-7ADEE089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50E-F3BD-4274-87AD-37C80C5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32D7-4456-473A-85F1-077F4A0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879-E996-43A8-A850-7E03FE52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8A6-2085-4088-8561-B1B646B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C7BD-9BD1-461C-B008-27073FB7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94C6-9258-44B6-9C9B-C08B6032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0991-1D04-46B0-856F-77EE622C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276D-2071-492C-B5F6-24FB0581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B4EB0-3459-4B95-B5AD-91ECBE39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5DF2C-D4E5-4A74-85A2-3A4777A0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1EA48-D8E5-4858-8939-4BFECD0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92177-4370-442C-BA2D-BB1DBBD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45FCB-2A94-4AEF-8944-624B4C0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84D-C8D6-4E39-BACF-B0B59D6B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A831A-6442-48B3-9568-A82BB29E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D69E7-6571-4AC5-89B9-B00DA658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9D6E0-0B1C-48B7-B6CD-7E678F8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21090-49F6-4C45-A424-9BBFFB2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9A430-B103-4B60-BAA5-C9BADE5A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A8ED7-A45A-4814-B413-9AAC9F10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19537-6821-44F2-9B74-DED30E22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D086C-E1B4-4A1B-A381-C6260E5D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0F257-11C0-4DC3-AE6E-84B5C112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3FBE3-B447-4AF7-8AFA-2E289B15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7BE-4D4F-4FD9-A136-AB533929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1DE19-27E8-43D3-93A3-981F53E0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5C328-2236-4AE2-AC64-B61FE37A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560C0F-654F-4BB6-814B-C32C23B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A74FD-94BC-4092-89CA-7376867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7987C-ED7B-42EE-A29D-EA21030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CBDE0-783A-4882-A8AE-6E296D7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02147-C93E-406F-AB50-09BFFFDF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22274-D91B-41CF-8776-90269A03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67A49F-E795-47DB-9A65-E557A2AB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C334-9FC8-43CA-89A9-F8554FA6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8D4-527A-4E2C-B417-24F04CF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0990-960F-46C5-80ED-CE9ED95E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A63D-DAF0-4886-9749-DEAFB2FB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11B2-F274-43E7-A6D9-F8F03F37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4613D-6099-4C40-9F20-C837468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522EC-E03F-4CB3-9C34-48F910A2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60E8-BDA6-4789-B12B-9BB108E0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15513-3ADF-4AAE-B37E-6DE839B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0D618-FA17-4982-861A-D2182DB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1D56-DF41-4C53-AC18-8BDBC26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A993-560C-4953-96F7-22820E9E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408-761D-4175-8AA0-8287CBB9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4AA3-4608-4C61-81B8-79C6F149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34EC0-BB41-485E-9B04-37A6B98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53701-BF66-4FA6-9C38-EE12C903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6AB1-63CA-42E7-BEC6-676AEE6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2D7DB-3D68-4202-A611-A8B237D8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945B6-93EF-41AC-9BCC-9C930EC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1D527-B99B-4566-8566-43512204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E6D1-8327-45A0-ADA1-5DCC14C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9097-97E1-4E2C-8218-9CDE91E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4E63-E6AD-4410-8863-DDD446AF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7D0F-657E-4B5E-BC08-2588CF1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EBBB8-9DEF-466F-8363-FBBDDAEB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1B95-C81E-4EF5-A7CD-1F3DAEF3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42167-CC43-431F-8074-D231B7BB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1E8-2956-486C-9D8E-A0024AEC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81A-3755-44AB-B59C-6E7A65B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D2AD-D7DD-4711-8A88-648F0CF25F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6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F64E-9596-44A2-83D8-CFC08AA4AC67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FCAE-4016-40FA-B768-ED8F3A4FB4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3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-1440" y="6033960"/>
            <a:ext cx="7844400" cy="851040"/>
            <a:chOff x="-1440" y="6033960"/>
            <a:chExt cx="7844400" cy="851040"/>
          </a:xfrm>
        </p:grpSpPr>
        <p:sp>
          <p:nvSpPr>
            <p:cNvPr id="139" name="Freeform 7"/>
            <p:cNvSpPr/>
            <p:nvPr/>
          </p:nvSpPr>
          <p:spPr>
            <a:xfrm>
              <a:off x="2360520" y="6033960"/>
              <a:ext cx="514296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0" name="Group 8"/>
            <p:cNvGrpSpPr/>
            <p:nvPr/>
          </p:nvGrpSpPr>
          <p:grpSpPr>
            <a:xfrm>
              <a:off x="3944880" y="6033960"/>
              <a:ext cx="3898080" cy="851040"/>
              <a:chOff x="3944880" y="6033960"/>
              <a:chExt cx="3898080" cy="851040"/>
            </a:xfrm>
          </p:grpSpPr>
          <p:sp>
            <p:nvSpPr>
              <p:cNvPr id="141" name="Freeform 9"/>
              <p:cNvSpPr/>
              <p:nvPr/>
            </p:nvSpPr>
            <p:spPr>
              <a:xfrm>
                <a:off x="6265440" y="6045120"/>
                <a:ext cx="1577520" cy="83988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480816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5757480" y="6151320"/>
                <a:ext cx="24552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3944880" y="6140160"/>
                <a:ext cx="6624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4224-DE8C-4EC7-A77F-114358C38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7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0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01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06" name="Group 18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207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0" name="Group 22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211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1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071F-B235-48CE-8F32-A83AEFF5944E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260" name="Freeform 3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4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5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264" name="Freeform 7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Freeform 8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Freeform 9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Freeform 10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11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12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13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14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15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16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7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8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19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77" name="Freeform 20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Freeform 21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Freeform 22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Freeform 25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Freeform 26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Freeform 27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9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5924-C846-43CE-A28D-B808809BCEB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94,3,&#24187;&#28783;&#29255; 3" TargetMode="External"/><Relationship Id="rId3" Type="http://schemas.openxmlformats.org/officeDocument/2006/relationships/hyperlink" Target="282,4,&#24187;&#28783;&#29255; 4" TargetMode="External"/><Relationship Id="rId4" Type="http://schemas.openxmlformats.org/officeDocument/2006/relationships/hyperlink" Target="293,2,&#24187;&#28783;&#29255; 2" TargetMode="External"/><Relationship Id="rId5" Type="http://schemas.openxmlformats.org/officeDocument/2006/relationships/hyperlink" Target="273,26,&#24187;&#28783;&#29255; 26" TargetMode="External"/><Relationship Id="rId6" Type="http://schemas.openxmlformats.org/officeDocument/2006/relationships/hyperlink" Target="287,30,1&#12289;&#35838;&#25991;&#20013;&#26377;&#35768;&#22810;&#29983;&#21160;&#20248;&#32654;&#30340;&#35821;&#21477;&#65292;&#36873;&#20960;&#20010;&#20320;&#21916;&#27426;&#30340;&#25220;&#19979;&#26469;&#65292;&#35835;&#19968;&#35835;  2&#12289;&#22312;&#20013;&#22269;&#30340;&#22320;&#22270;&#19978;&#25214;&#21040;&#21335;&#27801;&#32676;&#23707;&#65292;&#20877;&#26681;&#25454;&#35838;&#25991;&#20869;&#23481;&#21521;&#21035;..." TargetMode="External"/><Relationship Id="rId7" Type="http://schemas.openxmlformats.org/officeDocument/2006/relationships/hyperlink" Target="-1,30,&#24187;&#28783;&#29255; 30" TargetMode="External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269,14,&#24187;&#28783;&#29255; 14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289,28,&#24187;&#28783;&#29255; 28" TargetMode="External"/><Relationship Id="rId2" Type="http://schemas.openxmlformats.org/officeDocument/2006/relationships/hyperlink" Target="289,28,&#24187;&#28783;&#29255; 28" TargetMode="External"/><Relationship Id="rId3" Type="http://schemas.openxmlformats.org/officeDocument/2006/relationships/hyperlink" Target="289,28,&#24187;&#28783;&#29255; 28" TargetMode="External"/><Relationship Id="rId4" Type="http://schemas.openxmlformats.org/officeDocument/2006/relationships/hyperlink" Target="289,28,&#24187;&#28783;&#29255; 28" TargetMode="External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9,7,&#24187;&#28783;&#29255; 7" TargetMode="External"/><Relationship Id="rId2" Type="http://schemas.openxmlformats.org/officeDocument/2006/relationships/hyperlink" Target="265,18,&#24187;&#28783;&#29255; 18" TargetMode="External"/><Relationship Id="rId3" Type="http://schemas.openxmlformats.org/officeDocument/2006/relationships/hyperlink" Target="267,20,&#24187;&#28783;&#29255; 20" TargetMode="External"/><Relationship Id="rId4" Type="http://schemas.openxmlformats.org/officeDocument/2006/relationships/hyperlink" Target="268,21,&#24187;&#28783;&#29255; 21" TargetMode="External"/><Relationship Id="rId5" Type="http://schemas.openxmlformats.org/officeDocument/2006/relationships/hyperlink" Target="268,21,&#24187;&#28783;&#29255; 21" TargetMode="External"/><Relationship Id="rId6" Type="http://schemas.openxmlformats.org/officeDocument/2006/relationships/hyperlink" Target="268,21,&#24187;&#28783;&#29255; 21" TargetMode="External"/><Relationship Id="rId7" Type="http://schemas.openxmlformats.org/officeDocument/2006/relationships/hyperlink" Target="-1,23,&#24187;&#28783;&#29255; 23" TargetMode="External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68,13,&#24187;&#28783;&#29255; 13" TargetMode="Externa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9,4,&#24187;&#28783;&#29255; 4" TargetMode="External"/><Relationship Id="rId3" Type="http://schemas.openxmlformats.org/officeDocument/2006/relationships/hyperlink" Target="265,10,&#24187;&#28783;&#29255; 10" TargetMode="External"/><Relationship Id="rId4" Type="http://schemas.openxmlformats.org/officeDocument/2006/relationships/hyperlink" Target="267,12,&#24187;&#28783;&#29255; 12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1600" y="6187680"/>
            <a:ext cx="633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2"/>
              </a:rPr>
              <a:t>表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3"/>
              </a:rPr>
              <a:t>学法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4"/>
              </a:rPr>
              <a:t>视频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5"/>
              </a:rPr>
              <a:t>导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6"/>
              </a:rPr>
              <a:t>作业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ahoma"/>
                <a:ea typeface="仿宋_GB2312"/>
                <a:hlinkClick r:id="rId7"/>
              </a:rPr>
              <a:t>再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2"/>
          <p:cNvPicPr/>
          <p:nvPr/>
        </p:nvPicPr>
        <p:blipFill>
          <a:blip r:embed="rId1"/>
          <a:stretch/>
        </p:blipFill>
        <p:spPr>
          <a:xfrm>
            <a:off x="0" y="-298440"/>
            <a:ext cx="9540720" cy="715644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1116000" y="404640"/>
            <a:ext cx="72738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南沙海域海底资源十分丰富，尤其是海底石油和天然气储量巨大。我国地质学家认为，南沙群岛的曾母暗沙盆地是南海石油和天然气开发最好的地区之一，蕴藏量约</a:t>
            </a: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200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亿吨，有</a:t>
            </a: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第二波斯湾</a:t>
            </a:r>
            <a:r>
              <a:rPr b="0" lang="zh-CN" sz="46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r>
              <a:rPr b="0" lang="zh-CN" sz="4600" spc="-1" strike="noStrike">
                <a:solidFill>
                  <a:srgbClr val="ffffff"/>
                </a:solidFill>
                <a:latin typeface="Tahoma"/>
                <a:ea typeface="宋体"/>
              </a:rPr>
              <a:t>之称。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826920" y="105264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5" descr="2004106145129943"/>
          <p:cNvPicPr/>
          <p:nvPr/>
        </p:nvPicPr>
        <p:blipFill>
          <a:blip r:embed="rId1"/>
          <a:stretch/>
        </p:blipFill>
        <p:spPr>
          <a:xfrm>
            <a:off x="0" y="-2736720"/>
            <a:ext cx="9474120" cy="95947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6"/>
          <p:cNvSpPr/>
          <p:nvPr/>
        </p:nvSpPr>
        <p:spPr>
          <a:xfrm>
            <a:off x="8496360" y="616572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826920" y="6237360"/>
            <a:ext cx="7334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eeppt.com/moban/kejian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11280" y="115920"/>
            <a:ext cx="792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海洋动力资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一、海洋热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建立的海洋温差发电站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二、潮汐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蕴藏的理论潮能为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1.1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千瓦，年发电量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2751.6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三、波浪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: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波能蕴藏量就有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1.5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亿千瓦，可利用的部分为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3,00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3,500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宋体"/>
              </a:rPr>
              <a:t>万千瓦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7596360" y="6021360"/>
            <a:ext cx="93636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826920" y="333360"/>
            <a:ext cx="7848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2"/>
              </a:rPr>
              <a:t>天是一片蓝玉，海是一块翡翠。远望水天相连，翡翠和蓝玉合璧，蔚为壮观。俯看清澈明亮的海水，龙虾、燕鱼、海龟五彩缤纷，令人心旷神怡。碧波浩渺的南沙海域，连浪涛都是美的，每一个浪头都托起洁白的浪花，一团团，一簇簇，仿佛是欢迎的人群在挥舞着花束。可以肯定，将来的南沙群岛会是一个充满魅力的旅游胜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7885080" y="6093000"/>
            <a:ext cx="71928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3" descr="200548221819580"/>
          <p:cNvPicPr/>
          <p:nvPr/>
        </p:nvPicPr>
        <p:blipFill>
          <a:blip r:embed="rId1"/>
          <a:stretch/>
        </p:blipFill>
        <p:spPr>
          <a:xfrm>
            <a:off x="0" y="0"/>
            <a:ext cx="9144000" cy="62881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660600" y="333360"/>
            <a:ext cx="13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蓝玉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合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0" name="Picture 6" descr="200548223314738"/>
          <p:cNvPicPr/>
          <p:nvPr/>
        </p:nvPicPr>
        <p:blipFill>
          <a:blip r:embed="rId1"/>
          <a:stretch/>
        </p:blipFill>
        <p:spPr>
          <a:xfrm>
            <a:off x="73080" y="260280"/>
            <a:ext cx="4211640" cy="3152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200548223314784"/>
          <p:cNvPicPr/>
          <p:nvPr/>
        </p:nvPicPr>
        <p:blipFill>
          <a:blip r:embed="rId2"/>
          <a:stretch/>
        </p:blipFill>
        <p:spPr>
          <a:xfrm>
            <a:off x="4653000" y="3587760"/>
            <a:ext cx="4167000" cy="3154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200548223314833"/>
          <p:cNvPicPr/>
          <p:nvPr/>
        </p:nvPicPr>
        <p:blipFill>
          <a:blip r:embed="rId3"/>
          <a:stretch/>
        </p:blipFill>
        <p:spPr>
          <a:xfrm>
            <a:off x="74520" y="3591000"/>
            <a:ext cx="4210200" cy="3151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9" descr="200548223315811"/>
          <p:cNvPicPr/>
          <p:nvPr/>
        </p:nvPicPr>
        <p:blipFill>
          <a:blip r:embed="rId4"/>
          <a:stretch/>
        </p:blipFill>
        <p:spPr>
          <a:xfrm>
            <a:off x="4605480" y="260280"/>
            <a:ext cx="4214520" cy="31543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1"/>
          <p:cNvSpPr/>
          <p:nvPr/>
        </p:nvSpPr>
        <p:spPr>
          <a:xfrm>
            <a:off x="8459640" y="6524640"/>
            <a:ext cx="57636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24000" y="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富饶的西沙群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祖国的西沙群岛，是南海上的一群岛屿，是我国的南海前哨。那里风景优美，物产丰富，是个可爱的地方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西沙群岛一带，海水显出种种色彩，有深蓝的，淡青的，绿的，淡绿的，一块块一条条地交错着，五光十色，异常美丽。因为海底有高耸的山崖，有低陷的峡谷，海水有深有浅，从海面看，色彩也就不同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海底的岩石上有各种各样的珊瑚，有的像绽放的花朵，有的像美丽的鹿角。海参到处都是，在海底懒洋洋地蠕动着。大龙虾全身披甲，划过来，划过去，样子挺威武。一群群的鱼在珊瑚丛中穿来穿去。有的身上长着彩色的条纹，有的头上长着一簇红缨。飞虎鱼的周身像插着好些扇子，游动的时候好看极了。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4000" y="18900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鼓鱼的眼睛圆溜溜的，身子上长满刺儿，它鼓起气来，像皮球一样圆。各种各样的鱼，多得数不清。正像人们所说的那样，西沙群岛的海里，一半是水，一半是鱼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海滩上有美丽的贝壳，大的，小的，颜色不一，形状多样，真是千奇百怪，无所不有。最有趣的要算海龟了。每年四五月间，庞大的海龟成群地爬到海滩上来产卵。渔业工人把海龟翻一个身，它就四脚朝天，寸步难移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西沙群岛也是鸟的天下。岛上有一片片茂密的树林，树林里栖息着各种海鸟。遍地都是海鸟蛋。树下堆积着一层厚厚的鸟粪，这是非常宝贵的肥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岛上的英雄儿女日夜守卫着祖国的南大门。随着社会主义建设事业的发展，可爱的西沙群岛，必将变得更加美丽富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101080" y="6453360"/>
            <a:ext cx="576360" cy="26172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343640" cy="86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阅读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《</a:t>
            </a:r>
            <a:r>
              <a:rPr b="0" lang="zh-CN" sz="4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富饶的西沙群岛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》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60600" y="333360"/>
            <a:ext cx="139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蓝玉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合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4">
            <a:hlinkClick r:id="" action="ppaction://hlinkshowjump?jump=firstslide"/>
          </p:cNvPr>
          <p:cNvSpPr/>
          <p:nvPr/>
        </p:nvSpPr>
        <p:spPr>
          <a:xfrm>
            <a:off x="8569440" y="6597720"/>
            <a:ext cx="539640" cy="26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南沙群岛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e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042920" y="62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3">
            <a:hlinkClick r:id="" action="ppaction://hlinkshowjump?jump=firstslide"/>
          </p:cNvPr>
          <p:cNvSpPr/>
          <p:nvPr/>
        </p:nvSpPr>
        <p:spPr>
          <a:xfrm>
            <a:off x="8459640" y="6453360"/>
            <a:ext cx="576360" cy="360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476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95280" y="765000"/>
          <a:ext cx="8353440" cy="545472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259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中心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27"/>
          <p:cNvSpPr/>
          <p:nvPr/>
        </p:nvSpPr>
        <p:spPr>
          <a:xfrm>
            <a:off x="2700360" y="0"/>
            <a:ext cx="32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华文仿宋"/>
              </a:rPr>
              <a:t>我的读书笔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68"/>
          <p:cNvSpPr/>
          <p:nvPr/>
        </p:nvSpPr>
        <p:spPr>
          <a:xfrm>
            <a:off x="4210200" y="712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具体说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6800760" y="692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宋体"/>
              </a:rPr>
              <a:t>喜欢的词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71"/>
          <p:cNvSpPr/>
          <p:nvPr/>
        </p:nvSpPr>
        <p:spPr>
          <a:xfrm>
            <a:off x="1028880" y="17924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南沙是祖国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大的蓝色宝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72"/>
          <p:cNvSpPr/>
          <p:nvPr/>
        </p:nvSpPr>
        <p:spPr>
          <a:xfrm>
            <a:off x="539640" y="4076640"/>
            <a:ext cx="26654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南沙也是迷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的世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Text Box 73"/>
          <p:cNvSpPr/>
          <p:nvPr/>
        </p:nvSpPr>
        <p:spPr>
          <a:xfrm>
            <a:off x="3971880" y="1484280"/>
            <a:ext cx="14000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海洋生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矿产资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海洋动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6894360" y="1627200"/>
            <a:ext cx="10951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难以计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极为丰富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用之不竭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75"/>
          <p:cNvSpPr/>
          <p:nvPr/>
        </p:nvSpPr>
        <p:spPr>
          <a:xfrm>
            <a:off x="4381560" y="4076640"/>
            <a:ext cx="78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天、海（海水、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浪涛、浪头）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77"/>
          <p:cNvSpPr/>
          <p:nvPr/>
        </p:nvSpPr>
        <p:spPr>
          <a:xfrm>
            <a:off x="6620040" y="3846600"/>
            <a:ext cx="170784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蓝玉和璧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水天相接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蔚为壮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Tahoma"/>
              </a:rPr>
              <a:t>五彩缤纷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826920" y="620640"/>
            <a:ext cx="78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宋体"/>
              </a:rPr>
              <a:t>    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6760" y="620640"/>
            <a:ext cx="8836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学法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找出中心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围绕中心句，文章是怎样具体说明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、找出喜欢的词句，品读体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317080" y="6308640"/>
            <a:ext cx="576000" cy="36036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Tahoma"/>
              </a:rPr>
              <a:t>返回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934920" y="1341360"/>
            <a:ext cx="8209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南沙是巨大的蓝色宝库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2143080" y="3684600"/>
            <a:ext cx="38383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3"/>
              </a:rPr>
              <a:t>南沙也是个迷人的世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7885080" y="6165720"/>
            <a:ext cx="647640" cy="358920"/>
          </a:xfrm>
          <a:prstGeom prst="rect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1042920" y="1197000"/>
            <a:ext cx="720108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2"/>
              </a:rPr>
              <a:t>难以计数的珍贵的海洋生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3"/>
              </a:rPr>
              <a:t>丰富的矿产资源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cc00"/>
                </a:solidFill>
                <a:uFillTx/>
                <a:latin typeface="Tahoma"/>
                <a:ea typeface="宋体"/>
                <a:hlinkClick r:id="rId4"/>
              </a:rPr>
              <a:t>用之不竭的海洋动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7885080" y="6165720"/>
            <a:ext cx="647640" cy="287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200410895237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2004108952157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3" descr="200545215014947"/>
          <p:cNvPicPr/>
          <p:nvPr/>
        </p:nvPicPr>
        <p:blipFill>
          <a:blip r:embed="rId1"/>
          <a:stretch/>
        </p:blipFill>
        <p:spPr>
          <a:xfrm>
            <a:off x="-973080" y="0"/>
            <a:ext cx="10693440" cy="71294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1:59:4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10:54Z</dcterms:modified>
  <cp:revision>1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