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99DB-D188-42B1-8FCD-0F1CA0587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0736-279F-475C-944C-C2B15184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0A51-0847-4D04-99DA-DB872ABA6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D0B0-23B6-4BD0-B134-287CE32A6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8788-A212-4671-BBFD-E6839823A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9109-77D3-473D-A451-9DE9F199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5E23-935D-4ED7-8E5A-49A43E38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69DC-F3D9-40CC-988B-5108512A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4C5CA-64B6-4893-BF00-6F04E4D0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A55B-2B1E-448A-9310-117CE9E5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74A77-D3B9-4F2E-A921-5018D7DB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D095-552D-438A-BC88-E0343AAC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8E04-5677-4FA6-8C59-96F533AC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5CE0-51D8-4D0C-BBE9-D654DA7C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3043-E686-4081-A614-BAAA896C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3E01-1E31-4C87-ABC6-B6B512749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FD59-6146-441B-82FF-F78B55C5B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50C5-7BA8-4493-A6CA-41BC1154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971D-5CF9-4856-9E11-690F58EC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7F4D-D611-4508-933C-AF5065DD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5B4E-E9B7-4A5B-8B82-732E17CE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0573-E4DE-45DC-8BB3-A3DBF1AA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047F-2DD2-4162-AAF0-8AAAD004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1318-7796-4257-B5DB-82D6E8B6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4E64-9540-4D39-BC0C-A14D8F4B879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7EA1-390A-4C40-ADAF-C08917401AE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6208-7E50-478B-AEF1-D0EEEF8D943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F790-FA31-460A-8A0C-5B32469E26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80" y="2204640"/>
            <a:ext cx="777240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特粗光辉简体"/>
                <a:ea typeface="方正特粗光辉简体"/>
              </a:rPr>
              <a:t>米奇卡通</a:t>
            </a:r>
            <a:r>
              <a:rPr b="0" lang="en-US" sz="4800" spc="-1" strike="noStrike">
                <a:solidFill>
                  <a:srgbClr val="000000"/>
                </a:solidFill>
                <a:latin typeface="方正特粗光辉简体"/>
                <a:ea typeface="方正特粗光辉简体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方正特粗光辉简体"/>
                <a:ea typeface="方正特粗光辉简体"/>
              </a:rPr>
              <a:t>模板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2574720"/>
            <a:ext cx="468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3"/>
          <p:cNvSpPr/>
          <p:nvPr/>
        </p:nvSpPr>
        <p:spPr>
          <a:xfrm>
            <a:off x="8109000" y="2349360"/>
            <a:ext cx="6904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4T13:21:00Z</dcterms:created>
  <dc:creator>for_yang@qq.com</dc:creator>
  <dc:description>Made by Moyea Software. To find more free PowerPoint templates, please visit http://www.dvd-ppt-slideshow.com/powerpoint-knowledge/powerpoint-templates.html</dc:description>
  <cp:keywords>Disney free cartoon PowerPoint templates</cp:keywords>
  <dc:language>en-US</dc:language>
  <cp:lastModifiedBy>a</cp:lastModifiedBy>
  <dcterms:modified xsi:type="dcterms:W3CDTF">2015-05-20T07:39:17Z</dcterms:modified>
  <cp:revision>8</cp:revision>
  <dc:subject>Disney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