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311-8C51-44D8-B019-D411A7F3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CC0-A86F-44D4-8E83-071A4CA8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563-9689-49AE-A0AC-0670AD61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0F4-97A0-4DE5-80E4-442B9D1B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68F-FF01-4DAD-80FB-562D328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0CC-E110-45C4-AA67-D20DC95A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81F-B063-4F5E-A450-B82DC1C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4FC-4062-4CCD-B3D8-2E8B7CFA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54E-D67F-4DC1-A6F2-3D3A20D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0B7-1F13-4E1B-A737-7B78D54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C80-23DE-45B6-9FDC-DDBF425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656-835F-4671-B825-38F73FF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5BBB-F858-4E77-A2C5-8A4C504BB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鸟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2286000" y="1828800"/>
            <a:ext cx="411480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鸟岛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609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苏教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7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00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181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934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部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200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建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1814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养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9343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334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0866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m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8" descr="26"/>
          <p:cNvPicPr/>
          <p:nvPr/>
        </p:nvPicPr>
        <p:blipFill>
          <a:blip r:embed="rId2"/>
          <a:stretch/>
        </p:blipFill>
        <p:spPr>
          <a:xfrm>
            <a:off x="1066680" y="685800"/>
            <a:ext cx="1096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200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181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934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200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1814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人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9343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200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257800" y="2209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858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pé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26"/>
          <p:cNvPicPr/>
          <p:nvPr/>
        </p:nvPicPr>
        <p:blipFill>
          <a:blip r:embed="rId2"/>
          <a:stretch/>
        </p:blipFill>
        <p:spPr>
          <a:xfrm>
            <a:off x="990720" y="762120"/>
            <a:ext cx="1096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5029200"/>
            <a:ext cx="8839440" cy="1523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457200" y="10666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这么美丽的鸟岛在哪儿？请哪位小导游来告诉我们？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0880" y="2438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青海湖西部有一个叫“海西皮”的小岛，那就是闻名中外的青海湖鸟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43000" y="3733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请同学们说说“闻名中外”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143000" y="4419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闻名中外：形容名声大。不仅中国人知道，而且外国人也知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33520" y="1143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那么多的小鸟飞到</a:t>
            </a:r>
            <a:r>
              <a:rPr b="0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鸟岛</a:t>
            </a:r>
            <a:r>
              <a:rPr b="0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上来做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066680" y="2590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每年春天，天气变暖，一群一群的鸟儿就陆续飞来这里筑巢安家，养育后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2952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82296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73152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858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63244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17524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8720" y="4510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68580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春天过去了</a:t>
            </a:r>
            <a:r>
              <a:rPr b="0" lang="en-US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,</a:t>
            </a:r>
            <a:r>
              <a:rPr b="0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夏天鸟岛又是怎样的一番景象呢</a:t>
            </a:r>
            <a:r>
              <a:rPr b="0" lang="en-US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?</a:t>
            </a:r>
            <a:r>
              <a:rPr b="0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请同学们默读第三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828800" y="2743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六月是鸟岛最热闹的时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5238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从哪儿可以看出六月是鸟岛最热闹的时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想一想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838080" y="9144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学生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Picture 5" descr="11"/>
          <p:cNvPicPr/>
          <p:nvPr/>
        </p:nvPicPr>
        <p:blipFill>
          <a:blip r:embed="rId2"/>
          <a:stretch/>
        </p:blipFill>
        <p:spPr>
          <a:xfrm>
            <a:off x="6629400" y="914400"/>
            <a:ext cx="2000160" cy="942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858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儿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4290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窝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4771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蛋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38080" y="32004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从哪些词语可以看出鸟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9480" y="4038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各种各样、聚、鸟的世界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这些词语可以看出鸟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838080" y="9144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学生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4" name="Picture 5" descr="11"/>
          <p:cNvPicPr/>
          <p:nvPr/>
        </p:nvPicPr>
        <p:blipFill>
          <a:blip r:embed="rId2"/>
          <a:stretch/>
        </p:blipFill>
        <p:spPr>
          <a:xfrm>
            <a:off x="6629400" y="914400"/>
            <a:ext cx="2000160" cy="942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58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儿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4290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窝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771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蛋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3520" y="304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因为鸟多，因而鸟窝也多，从哪儿看出来的？找出文中相关的句子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9480" y="4419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眼望去，密密麻麻的鸟窝一个挨着一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4"/>
          <p:cNvSpPr txBox="1"/>
          <p:nvPr/>
        </p:nvSpPr>
        <p:spPr>
          <a:xfrm>
            <a:off x="838080" y="9144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学生交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3" name="Picture 5" descr="11"/>
          <p:cNvPicPr/>
          <p:nvPr/>
        </p:nvPicPr>
        <p:blipFill>
          <a:blip r:embed="rId2"/>
          <a:stretch/>
        </p:blipFill>
        <p:spPr>
          <a:xfrm>
            <a:off x="6629400" y="914400"/>
            <a:ext cx="2000160" cy="942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6858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儿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4290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窝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4771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隶书"/>
              </a:rPr>
              <a:t>鸟蛋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57200" y="2971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因为鸟多，自然鸟蛋也多，从哪儿可以看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990720" y="4267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窝里窝外、到处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这两个词语可以看出鸟蛋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5257800" y="5181480"/>
            <a:ext cx="3352680" cy="914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读本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5800" y="1447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这么富有魅力而闻名中外的鸟岛，谁不想去亲眼看一看啊！所以来岛上游玩的人也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581280" y="2514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很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600200" y="3505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请同学们大声朗读第四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1"/>
          <p:cNvSpPr/>
          <p:nvPr/>
        </p:nvSpPr>
        <p:spPr>
          <a:xfrm>
            <a:off x="685800" y="1295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么多来岛上游玩的人，为什么没有一个去碰一下这些幼鸟和鸟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762120" y="2819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没有人去碰幼鸟和鸟蛋，因为大家都知道鸟是人类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990720" y="40384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用“因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这句话连起来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33520" y="9144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同学们，你们都游览过哪些风景区呢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简单地说一说吧</a:t>
            </a:r>
            <a:r>
              <a:rPr b="1" lang="en-US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14400" y="25909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今天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老师想和大家一起去“鸟岛”看看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,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大家准备好了吗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?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让我们出发吧</a:t>
            </a:r>
            <a:r>
              <a:rPr b="0" lang="en-US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133720" y="12952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课文小结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3" name="Picture 5" descr="29"/>
          <p:cNvPicPr/>
          <p:nvPr/>
        </p:nvPicPr>
        <p:blipFill>
          <a:blip r:embed="rId2"/>
          <a:stretch/>
        </p:blipFill>
        <p:spPr>
          <a:xfrm>
            <a:off x="762120" y="685800"/>
            <a:ext cx="1309680" cy="1276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762120" y="2286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是啊，鸟岛之所以闻名中外，不仅因为气候适宜，食物资源丰富，还因为来这儿的人们都十分爱护鸟儿。同学们，如果今后有机会去青海湖，一定要去鸟岛看一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鸟岛3"/>
          <p:cNvPicPr/>
          <p:nvPr/>
        </p:nvPicPr>
        <p:blipFill>
          <a:blip r:embed="rId1"/>
          <a:srcRect l="0" t="71091" r="0" b="0"/>
          <a:stretch/>
        </p:blipFill>
        <p:spPr>
          <a:xfrm>
            <a:off x="152280" y="4648320"/>
            <a:ext cx="883944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37"/>
          <p:cNvPicPr/>
          <p:nvPr/>
        </p:nvPicPr>
        <p:blipFill>
          <a:blip r:embed="rId2"/>
          <a:stretch/>
        </p:blipFill>
        <p:spPr>
          <a:xfrm>
            <a:off x="7162920" y="685800"/>
            <a:ext cx="1458720" cy="16002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762120" y="1143000"/>
            <a:ext cx="1981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隶书"/>
              </a:rPr>
              <a:t>说一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914400" y="24382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华文中宋"/>
                <a:ea typeface="华文中宋"/>
              </a:rPr>
              <a:t>今天我们观光考察鸟岛，你想说些什么或做些什么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0061205_aa837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3"/>
          <p:cNvSpPr txBox="1"/>
          <p:nvPr/>
        </p:nvSpPr>
        <p:spPr>
          <a:xfrm>
            <a:off x="1600200" y="2666880"/>
            <a:ext cx="3733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鸟5"/>
          <p:cNvPicPr/>
          <p:nvPr/>
        </p:nvPicPr>
        <p:blipFill>
          <a:blip r:embed="rId1"/>
          <a:srcRect l="0" t="11528" r="0" b="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鸟4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鸟2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鸟3"/>
          <p:cNvPicPr/>
          <p:nvPr/>
        </p:nvPicPr>
        <p:blipFill>
          <a:blip r:embed="rId1"/>
          <a:srcRect l="0" t="0" r="0" b="6352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鸟8"/>
          <p:cNvPicPr/>
          <p:nvPr/>
        </p:nvPicPr>
        <p:blipFill>
          <a:blip r:embed="rId1"/>
          <a:srcRect l="0" t="0" r="0" b="5086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鸟10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鸟1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3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0:17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