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EAEF-8D8A-4F1E-9AE2-3FA7AEAE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DF0D-37B2-44F4-B701-7A07B422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C5A-9EDD-422E-821F-D35607E6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008B-8470-43C3-BFC5-B567BAD4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DFAF-8DBB-4315-ADD6-A8288730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42A5-0790-471E-A151-2510790C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CFC5-1FE9-4B11-BF61-69C3AD35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C067-B8B8-4B71-9D96-09AFEBD5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5FD7-CC2F-45CB-885A-5B665BA5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7637-E232-4870-B8E2-77450D6B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3DA2-FA10-4A5E-BA04-84D09B00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2D3D-D58D-43D5-8CB9-E96AB8B1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CEA7-E0FC-4AB9-B3DB-D27175CA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1902-6C83-476B-9A94-0E55CF7E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EA7E-76B3-42A2-AA1D-F1E20D6E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8297-C20A-4632-9650-5D01FF63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6494-8594-41C6-9F1B-0DCED6B2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F4CF-5374-4142-BD79-BAA63F2C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B101-F721-4919-8F57-7F183A4F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E5C1-0B2A-4BE2-B0D5-C8F040F1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5E82-9FB3-455F-830C-25044266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B750-E2F6-468C-80AD-A896D1A2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9BB9-7DF2-4D08-A856-7DA5E5EE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A96-FEFD-4AB8-936E-53E93F7B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FB9A-D378-4A06-BE6B-CD1E3D0EBF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F1CF-8FAB-47C8-BF59-9D7DD1DC617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6FB2-F683-4D18-9020-8B726A3341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6098040" y="642960"/>
            <a:ext cx="11552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6833880" y="642960"/>
            <a:ext cx="667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9"/>
          <p:cNvSpPr/>
          <p:nvPr/>
        </p:nvSpPr>
        <p:spPr>
          <a:xfrm>
            <a:off x="33548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38548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59266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/>
          <p:cNvSpPr/>
          <p:nvPr/>
        </p:nvSpPr>
        <p:spPr>
          <a:xfrm>
            <a:off x="614088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3283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25689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58550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599796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60696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22831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23547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/>
          <p:cNvSpPr/>
          <p:nvPr/>
        </p:nvSpPr>
        <p:spPr>
          <a:xfrm>
            <a:off x="2428920" y="41432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56408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59979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3283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/>
          <p:cNvSpPr/>
          <p:nvPr/>
        </p:nvSpPr>
        <p:spPr>
          <a:xfrm>
            <a:off x="3000240" y="3929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55695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5355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34261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2200" y="6351480"/>
            <a:ext cx="561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背景素材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44265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27835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58550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12117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5212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3211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72126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45691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5783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26406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4283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59266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28548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3354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"/>
          <p:cNvSpPr/>
          <p:nvPr/>
        </p:nvSpPr>
        <p:spPr>
          <a:xfrm>
            <a:off x="5069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31:42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