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9E8-BA1C-4733-8B61-89FC111F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9B9-FDE4-4E26-B2DC-4C3DDD788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9B6AB-A6A7-4891-AFF1-1F8532C8C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A716B-E9AB-4E5E-8136-193D6713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96BE3-84CC-4258-8741-2D0B2774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E8AEF-CBE0-4E9A-8729-AE6ADD2B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ABCE1-E7A3-4F91-B781-B4F620DA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18D25-76B4-41D5-8AFE-A47D8C7D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ED0F1-C834-47DD-9EE1-5B04B1B6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E59E8-2837-4D9A-82AD-89605CE9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22B85-BB70-421B-BE9E-35095D792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9ACDF-9F71-4F6D-8B54-BECEBB5E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83E-DE93-4883-9E71-4081D1E7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8E53D-55BD-412B-AE08-14A6A52A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E35637-94EC-46F1-9EA8-78BFB6D3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D5459F-EA2E-46B9-8DAF-34F2A37C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77049-B70E-4AEF-A431-52A08B01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5AA38-32AF-4A33-AA9D-B3D84770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1DAD7-8793-49B9-8948-88F5713A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BF227-9538-4648-9343-F60D4A55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5022C-0F29-4F02-9C19-02AEEC4F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CF70EB-5FC4-4180-B60B-F76695EC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22904-459D-4910-B1C3-FEA6D982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21B9-39D2-4000-93A0-951FBF5B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A45C9-4D2F-4CE1-9D66-EB078B62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2A056-0688-4D6D-91F4-3B1B4A1F0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D3EB8-7864-4B8E-B564-57BB88BC0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F21A9-063F-47B3-A312-D36DB3DA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42056-CEEB-459A-A3B5-E4713E57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77F55-B6E5-4184-BD7A-FCDC11A4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5D822-EB1E-40BC-B50E-91C2BF5D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18391-3A01-4F65-97D7-FC8CB1C7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4A5D8-6F15-42D7-8267-02B1DD7F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F711F-86E2-43F6-A8C6-D293199D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8B3F-5BC7-45E9-8033-EF47D147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B3BA4-1DD7-4DFD-97B0-23774896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C0C08-ED13-4D9D-8D2A-54EF9E47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94558-9623-4A3A-AB0C-E5B606BE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25C62-A280-4C2C-ABBC-DBDEF0F9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7E790B-DC7E-42F7-88CA-5D284FA3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6D221-4EED-4FEC-875E-8C21D679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BEE32-4086-48CF-9FAA-6CF45997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1F73C-49CE-4FB0-9D80-044AE90A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B18C2-A86B-42EA-9F3F-81BB6762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B7B776-CC54-43BF-9068-56040783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D64D-0A30-45AB-923B-D34473E6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E7C42-D0F8-47D6-9599-1ACF0B94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AA0AB-B7A7-48D9-AC4F-F02D6B69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26ACF-CFED-4A7E-8CC1-371A3E08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E1E48-0E22-4B73-BA04-33371C55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EA158-819B-434F-81F9-91E6F8F3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C08B2-716F-42EE-A30C-719D34DE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82F0A-B29E-4D83-B705-B95D2FF7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51927-EA9C-4FE0-8160-E49F4359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8BBDC-5D8D-4093-A646-4F551832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B24AC-A800-47AA-A4A9-5C875A65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CCE1-FCA3-4D7E-B6DE-800C0144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06824-1EF4-4B95-AF5E-D5C928D6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1EE42-E285-4317-8988-F1054EEA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466D5-5CE9-47E6-986B-C34BCA94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7F6E3F-EC28-4BF5-BC66-BFA94F1B4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B3D57F-EF64-4735-8EDD-08189C5E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C10F4-E21A-4113-8D74-AA40C9E8B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C24353-9ECF-4B95-BCD0-672DF059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CA8F-BCD2-41DD-A5FD-EAFCCB80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A247-2A91-4A44-9C6D-0CF9A3B5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5C62-768D-4B2D-BECF-2701D0A7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29E1-37BC-493E-88D9-2209DFF7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7E9-C603-4458-8232-05B267F0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F9477-33FF-48F8-AE01-F4F5CCA0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250C-BA6D-4504-8629-72F7E64D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A1EC-0941-4865-B17B-FAB55478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1E87-7B43-4EFB-B202-2A2D9989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19D0-FA69-4519-A715-DACA5B2C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1518B-BF48-4A27-B5A4-34F5F263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2F181-77E7-4E18-A62A-8831B7BA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B3993-A0B2-4ED8-AF26-B13B9239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2E70E-75D1-4423-83E6-0F4E0555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4DA62-172F-4D5C-8B85-360B92F5B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DABF-C081-43DB-B3F1-0594A19F8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2450D-F59B-48E5-897D-273334C5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9AC9A-9C8D-4888-AACA-B450756C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8CF3D-DE42-47B3-B5C3-F083F59D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AE018-1F0D-4209-99C2-E11D44A0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83302-1344-446B-AA82-9D359BB9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B1FEB-EE80-487C-ABCE-E97D9523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808C5-849A-4D7E-9C4D-C15AE1B05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574AE-ECF4-4477-83CE-DCBA55E8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E5BE4-E703-47CE-8C79-D589AB32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0F514-51C7-4C29-96C0-DB4C2C6A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65F8-5787-474E-A52B-E97F29E6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3FE4C-8250-454E-8EC2-F40DEE85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AD4CF-47E1-4CAA-B561-9AF2FEE7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07F81-4797-4845-9D4C-E085452F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520C9-62CD-48A5-8E19-12ACC3BB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789AC-2CB6-4256-B04E-D003C2CA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F785E-AF77-4016-9DD7-BECB672A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704AB-EFDD-4DC2-9504-2C1CF840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EEB12-D046-463C-9165-DA0E2EE8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7A8EA-1266-4987-90F2-ACD05726A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F2130-79BE-4C5C-A2C3-44F6259C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FABA-AF79-4D69-9D4B-6057FC82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0821F-3C91-4781-BF1D-C32290BD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AD5FB-5A41-45F5-8E0B-BBB8DD984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D8A0B-CBFA-461B-AEC3-840CA3BB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00828-01FB-49E8-8BEA-4DAB74F0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1F45F-162B-4037-BA8F-B2C393F9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6A821-0520-4A61-867B-9FC725C8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D89CE-C480-4140-8BD3-36A36A29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816D6-5C07-4F7B-9D36-1CC584C1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CE1AB-153E-47AE-99B5-CDBD7027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D8650-51FE-41B6-9201-AB6ACF826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0B82-EBDC-4715-B281-2F76E7A43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07B1C-0EBF-4C65-B7FF-32D3DAE61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6F221-473A-44D2-9CA0-33E22437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3E5EC-F6DD-4581-A5EB-332627D2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2842E-F561-4D67-8879-D4135F96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7B943-C2B9-4A65-BC6E-8518473D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18171-A596-4278-BFFE-51E91A8F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4BCE4-A468-4FDF-9B37-8DB7B1DB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13E95-4BCC-49B7-B86D-E144B099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E2769-961D-4D47-8E0E-39785923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8D482-D6A6-4BE5-9501-14B1831C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4E4B-0399-4B14-93F0-82742E50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4F045-0FC1-48E5-930E-E66BCFC98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08C93-A754-440B-97C7-923AB5E3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14241-C931-420B-9DDC-C9733052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485BF-0993-4088-991B-B3444E57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F44C2-C596-4378-A026-CD3861FC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41620-31DB-4EA8-AAC6-4B00F882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18119-84D8-4E21-B2E3-0AE4339B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8B96A-111F-4A69-B209-0805957B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9C88D-E3F1-411A-A514-ED71C533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D78C6-F2A2-461B-A682-81C86449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6CBF-204A-48E9-9835-E30BC375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3C589-C95B-4F4D-96C6-E69D9217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22615-8CA7-46C6-87DE-3E2C4FE4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ED32C-0811-4F2F-A648-6460F907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F1397-8C75-43CF-ADFB-A22BC709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8EF6D-3004-476C-A3F5-FB7C452B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3FAEE-A7B5-437C-8426-8D24397E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C5117-723A-4006-8E24-13D60D0C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42B57-F1A2-4622-ADD9-972394EC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80BD6-A4ED-4EE0-9162-92D79995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67C51-24F6-4DD3-80D9-D895DC6B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B027-7831-40AA-928E-2F98DEEB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66316-8984-4103-A435-8E7102B8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267B9-C9E2-4E04-BD7B-26DCDDF3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1D5F3-3AA1-4757-B048-F9CD0CA0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4F222-17E5-4EF8-B310-9278BCD1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21F42-18F7-4BA6-8590-94B1DDAA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BA87A-293E-40EF-B569-8DA1782F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F7B8C-0E63-48B0-8109-4CC66DBD3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2D9CC-1D12-4155-A26E-2B8695F3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56DC4-22A5-49D7-B5C2-3F103444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AB3522-EFC6-4BD3-AB6A-4200928A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745D-DAB5-4E28-941F-510A02B1BA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CF0B-57B2-4241-846B-C4AEC22F5C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9E73-85BF-4345-AE08-F548D73368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2512-652C-47C7-97F6-64BBC9F4FAA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E540-E2C8-4A46-B6E3-DD4BB13B06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37DB-3B9B-46D3-95AA-1ED3C1B8A70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896A-FDA4-4E21-AAE0-6E1A3BBAEF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5896-9962-4014-9773-AD53842A379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7932-7F73-4E20-BF28-8970D565AB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9B20-7D4F-4DE1-8B74-4839F70448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4B77-0081-4465-96A8-EAD2B2ED65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D635-DF45-469B-BC01-8A75C912387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3BAC-91C6-424E-94DB-002185E3FA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828E-801A-4BB5-9C52-D802DFFBED2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5883-A790-483F-8691-FA55F1C97A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2990-A302-48E1-A961-25A13613E01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F666-A788-4C31-9C8C-FC7CD586EB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5CCD-90E8-477A-971B-51B9D431BE4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21E8-846E-4C4E-BB52-47D3ECF9BC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6FC9-60D7-4ABB-A008-C418EFB2AEF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028F-BE09-4979-AF19-173DB3803E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4E6F-969B-4871-B63C-4F2E9872E88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ED39-CA4F-47D3-98BC-F7141CB317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3E70-0741-4603-AC26-7FF303166C6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2608-B3D6-41FB-AFEE-A8F6A89538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Box 3"/>
          <p:cNvSpPr/>
          <p:nvPr/>
        </p:nvSpPr>
        <p:spPr>
          <a:xfrm>
            <a:off x="2928960" y="493884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PPT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Calibri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4"/>
          <p:cNvSpPr/>
          <p:nvPr/>
        </p:nvSpPr>
        <p:spPr>
          <a:xfrm>
            <a:off x="3357720" y="565308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圣诞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3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/>
  <dc:language>en-US</dc:language>
  <cp:lastModifiedBy/>
  <dcterms:modified xsi:type="dcterms:W3CDTF">2015-05-20T08:07:14Z</dcterms:modified>
  <cp:revision>7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