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D20E-3137-4BAB-8314-F5B08F48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281A-2B97-4640-B794-3CFFDEDB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F2C0A-DD6A-49F2-9B14-0B7B0008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7279B-5479-40F1-BEBC-8D97F979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07BD0-C2C6-45C9-A7C4-0AF2D94B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33D72-F89F-4FAC-9889-C3918B3F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3BB81-F788-4C66-98D4-BA1C3759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FD244-BCD4-4FAC-8C58-1DEAB9C5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8F5B0-D7DC-4645-9FCB-3CB946F4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BF729-9B1E-4A78-B7E7-D424CBEA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0B06F-A462-4A91-8F52-8A9C4D1C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078F5-1FF8-4C25-BECE-93BD43F3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FE6C-22D7-4B6A-868D-97A3C8B3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EDAC8-A85A-49B0-AD4A-CDD6F2B0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9344B-2BB4-4200-A73C-DBFCDD7C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81189-3C2E-4A14-8944-FE0BD8AF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3E14E-A6A4-4ADD-89DB-E97CF659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1F9EF-58FC-4DA8-AB94-5F964549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BB709-A69F-4026-AFF6-52D48551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A55F1-4EB3-4681-B46C-AD4BCD5D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F69B0-C918-498C-91A2-749F95C9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A64A1-BF96-470D-A4C6-ED03F7B8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607D5-C458-4669-876C-8191DCD0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39A2-B1C8-4151-A36A-BAF84F8C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A04F5-94AA-42BB-8F0C-3D9BD04D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81703-414F-4CF1-AEB8-AD8F0F4B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88789-4FCD-47CC-B289-B038CDED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1A71F-F473-41D8-9572-3477097D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071F0-6336-4C37-A2B3-6E6F879A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A3440-7FCA-47CC-BBEB-2A0122DD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EE062-E474-49BA-82C8-DEE6C245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C2248-A063-44A9-A06E-9C4ECA97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B46F1-B1E0-481C-8D96-91308911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3B205-9A6F-4471-9C76-B2430873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0DAC-9EB5-4646-A09B-AACC7B8D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CEC86-3BC4-4B36-8A00-D966D503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2C78E-DF5A-4A41-8E6E-0B9D42BF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F810C-351D-4304-A572-8EA95F69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2DC05-7181-4E23-83C9-A4FC66D7A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E4162-F7BD-4F4F-9F9C-CD71D442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6B840-40D8-4344-AEA5-AF229E48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FB533-F3CC-46E2-B7F1-018D3F8E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B34D2E-E9B4-4E95-8119-B6E27433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6EB05-B958-474F-95C6-5BB25D6D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0B414-89A9-4BD0-82D7-E694309B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6CAD-D91C-42F7-95D3-F7EB7882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1F3B0-3517-419F-9DFC-6F1D87C9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8DFCB-8B53-4D70-B5E4-AD89AFB0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D52C7-D6BA-478A-BE7D-5976BDA8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09A30-642C-4371-A25B-0A0418D5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6EE0D-D350-4224-B679-CFF9DB7B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2120B3-D5BD-45E8-8DBE-C4F29480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70C29B-5686-43DD-A910-0F8B0769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A3338A-E61A-4003-BCC2-D7B4517D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F05B1-F0B3-4A30-B231-FF31128F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00327A-9880-4711-B203-A40A2921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4677-9345-4CCC-85C6-F2EB5CCD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5F0312-DE0D-4281-B6A9-82645819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130854-6FE7-4CBD-8237-9E8F96DF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F42C42-BFEC-486F-87CF-7A45AB3B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92BA06-2D95-486E-AF40-BAEF7DA7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CBC0F-A40C-46C2-9140-1EBA3287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DF76F5-9C53-471F-8BB0-4037ED79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CA800D-DD66-4E66-AE4E-C55B8C9D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73AD-A362-4A41-BA5A-12FCC4DF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10BC-628F-43BF-807E-EA45C620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43AD-2FED-4E9F-9BA3-C2E7EE49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858C-8EA6-4290-A690-59123B90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089F-008E-4466-8C46-AF8C9F71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194D-0DF1-435C-AC32-835B0813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0CE5-EE46-4899-BD2B-49CF23B3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82EA-76FF-4670-AC82-B33797F3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5CF7-F80A-4490-9CC5-AC582CAF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8FA9-2EB1-4BBC-B4CC-BAA8A378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8E87E-5CE7-4381-9318-D0E79519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5B291-4CA6-4D29-97FD-607B06A2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08A92-DA76-4C6F-A3BD-E14106D9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3F356-571E-4594-B188-E30DD788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77053-EB79-425C-92DB-6D1E4CCA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AED3-E130-4632-96D0-A0D19C07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D9B8E-7036-45D9-B901-D3CB1F1F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F77CC-6C81-4EEC-89A4-99E0AFA2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7865F-DAC0-4705-95D6-C8AE5B99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17811-CE2C-460E-847A-6BA5C8FE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72ED3-726E-41A9-A652-CFE92B6A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5A1BF-4CE6-49B9-BF0C-C4290095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CB809-638C-4CE5-B515-CD63530E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57781-2D98-4CC2-974C-86A58D05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D4222-E7D7-4A5A-A2CD-1DA742AD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1369E-9E6F-4133-93AB-8E5B7803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FFA7-A995-4222-943B-9B81EB78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F41E9-D09D-4BC8-8F3E-F85E01EA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CA682-F856-4604-BA2D-8060066A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0D207-C269-4F2C-968B-45A67D41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636F1-40CE-43F9-85E1-134BF95F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6D1BB-ADCE-426D-8C15-F40F98C6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90F41-7703-446F-900F-C37ED2BF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B540A-F07B-4147-9C5D-ECCC5733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14714-0DC6-4DE1-8534-9E431249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5A1C4-AE9B-4C0D-A7C0-0BF7E6C2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7C87E-8B8E-4E9D-B155-35D84ED2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05D-4610-46BA-A5F9-934FF852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19132-4F83-4080-A0FD-14396C82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62678-FC30-4D28-8478-8FF3BD74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6138A-482D-4588-A14C-DBA964DB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AB3B2-070A-4988-BC2F-74B5FCE3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8473A-5F3A-467D-95A5-B808E888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2917C-065B-4166-B758-40B1F8A6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8C724-375F-4834-AC1A-C75DB775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6E95B-2F7E-497F-B48D-7DB2CA2D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FD49A-2D53-427A-9C2E-093690AB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EE522-0B3B-4C39-B808-F76E6695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3012-5CFE-429B-AC26-C69ED955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B7E07-F043-4136-A222-2B812F53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7F3B7-261A-45EC-8897-A8B72AA0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C68FC-88E1-4427-BE53-A5111B09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2C7E7-3FE4-48C6-870D-6BFAE385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0FC29-E8F5-4177-9178-DE3EB414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DC6DA-CEA3-4325-90C6-765C6858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3AAB5-5686-4161-A9D2-C4814D69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77830-A7AA-4234-A3A4-16E01B3C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88213-A719-4A8C-B4FA-AF7770A3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477EB-02BA-4397-AC9E-CEDE04FD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BDBE-35C6-4EAF-8CAB-D8C88B96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8D2C3-2834-4C82-9EA7-2619AE49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17C76-EBBD-4DDC-B97D-94BAB8A4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91146-813F-429F-93D5-4B716CAA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74D75-EFAF-416F-974A-F7884385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1EBDD-F6DC-4055-9308-BDA8F78E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67C63-AE47-443D-95F6-43D277EC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0B28D-9824-4283-8E2A-8EA07721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0B55A-9050-45CD-9DBA-510F0147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29451-7AD4-4788-B977-10749D6D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89213-E573-44D2-A5F5-4A1013CC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D4EC-636A-4EBC-BC4E-B5BB374C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5310A-B971-48C2-AC40-F5E60342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93711-5B59-4EBB-9078-D2BCA0C6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745BD-E139-4229-8160-AD298E4C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2A180-93F9-4F91-9507-293CF410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C4F3E-5508-47C6-A7AA-5234FA4C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2E2BF-23AB-4E73-8506-3C32E31CB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42B05-43E8-4934-B4F7-DD4E5783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D3F81-05FC-4867-9213-AC1ACFD7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11AC8-1F49-42CD-B3CD-5C17E64C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20BC2-5B50-40B4-8A6A-B9CE05FC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1BA0-477C-4C38-996A-0E9AE70D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47B35-AB54-47D9-925A-917B03FB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4857A-94D4-4CCF-8507-ADC0750C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8C746-C94C-4883-AD40-2169829F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1F2C0-879D-4F4E-8FEA-3604F770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7A666-5A27-445F-A5CE-E17B8E18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746C0-830D-4B75-91C3-E5066BAA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E9BC7-BFA7-4A63-B570-D3A47EAD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A4D00-5F52-4AA5-96DA-CA0376537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E2089-AF14-4444-A08C-9BCF160C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DCCE1-96F1-477E-B5F3-773DA64C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4ACD-F7DC-4C10-9C67-910190B7E5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4CBF-3982-4C08-9A2A-7B44FC0013C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59DC-A470-4487-BAEA-4D3D6435A1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3DBF-EA68-4F68-A4E0-92B3CD61A9E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B703-0B99-4C8C-A93C-3AC8D70D0A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3D7F-D255-4EC4-8C93-193E138618D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5473-C5AD-4936-8B06-5D1C84E9E6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D4EC-358F-42DA-B6B0-ACDDF49F3F4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5B0A-9844-49D9-A2CB-F4DD201A73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1D8D-9B3B-4333-99C3-B49B10D49EA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C687-321E-454E-AAC7-26492C1E3A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4148-3699-41AE-9AD5-1E28FB1ED44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1EFF-C329-462B-8005-A6B63973FD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93DF-F220-44F1-84F6-661CF132D66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A363-F241-448D-A608-9A8C458705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1D0D-941C-44DD-9F11-C1B43DF2C2C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6FB1-75F6-44BD-B222-914B001862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3EA4-8294-433D-B990-3938C136A31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EEFD-F652-41AA-A2D1-89A2729D1B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E7FA-ACAE-4AD1-A505-90CCD0B33CE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E333-C175-4992-9A7C-7516796CE6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4E31-F3E9-4E19-A846-F3140178011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3469-C1D9-43A9-8FA2-C3FB4953E4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D445-9C20-4713-836E-8F1EE290CE1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EBBE-FC22-4EC1-8174-202955E164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3"/>
          <p:cNvSpPr/>
          <p:nvPr/>
        </p:nvSpPr>
        <p:spPr>
          <a:xfrm>
            <a:off x="3571920" y="285768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背景图片简约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3714840" y="350028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3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/>
  <dc:language>en-US</dc:language>
  <cp:lastModifiedBy/>
  <dcterms:modified xsi:type="dcterms:W3CDTF">2015-05-20T08:08:05Z</dcterms:modified>
  <cp:revision>7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