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C103-3749-4E5F-917E-0AF04EA65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268C-3B98-4836-844E-B2BF7270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4886-6172-4FFA-A869-ACE388655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04E2-10CA-466F-A44B-B5E12840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6A874-32B7-4192-88E3-63BEFBB0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84B9-5CD8-4F5B-AF4E-7B303C49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19FD-DA5B-46C2-877E-8168CBFDA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C813F-A60C-4D32-B6BB-33B31568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99BB-1D63-4593-8CA8-BF0DC80B7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EE14A-F2EE-4364-A439-60EC07A28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7D30-CFF2-4F53-9548-6A1A4652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215-8300-4ADF-8AFA-662BC88AC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E2C99-DD1C-42ED-9BF8-23A4B351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5A92-30FE-442C-B51C-221FF4F2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96F7-8FB4-496C-8CE9-6EB3207E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4D900-C19A-4085-B782-07060805D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4C2C-2D46-4974-845A-FD2AAA02E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F239-C272-412A-86AF-4AF01EB2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98B8-5B06-42C9-9033-F6BBFCDD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6804-17AC-4DD9-8546-CC5F1EAC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968F-6713-4741-8BC7-2C1435D5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AA89-39AC-4504-8E4E-0FED10B3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477-2580-4F51-81B9-9D90A5A2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40D5-31D9-4FD7-A9F7-C99EDC03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400" cy="2822400"/>
            <a:chOff x="6297480" y="1676520"/>
            <a:chExt cx="282240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440"/>
              <a:ext cx="1994040" cy="19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600" cy="993600"/>
            <a:chOff x="6297480" y="6095880"/>
            <a:chExt cx="993600" cy="99360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6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24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44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200"/>
            <a:chOff x="-841320" y="2895480"/>
            <a:chExt cx="2365200" cy="236520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44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E572-30D5-42F1-ACB7-69C00FDF5D61}" type="slidenum">
              <a:rPr b="0" lang="zh-CN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03AE-7C00-4184-93D5-16C5F5E877F6}" type="datetime">
              <a:rPr b="0" lang="zh-CN" sz="1400" spc="-1" strike="noStrike">
                <a:solidFill>
                  <a:srgbClr val="000000"/>
                </a:solidFill>
                <a:latin typeface="Century Gothic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6B08-6D51-44C7-B0EE-E34C23CF9D8E}" type="slidenum">
              <a:rPr b="0" lang="zh-CN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85760" y="406440"/>
            <a:ext cx="62928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000" spc="-1" strike="noStrike">
                <a:solidFill>
                  <a:srgbClr val="ebebeb"/>
                </a:solidFill>
                <a:latin typeface="华文隶书"/>
                <a:ea typeface="华文隶书"/>
              </a:rPr>
              <a:t>终极大奖抽奖</a:t>
            </a:r>
            <a:endParaRPr b="0" lang="en-US" sz="6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99" name="图片 2" descr=""/>
          <p:cNvPicPr/>
          <p:nvPr/>
        </p:nvPicPr>
        <p:blipFill>
          <a:blip r:embed="rId2"/>
          <a:stretch/>
        </p:blipFill>
        <p:spPr>
          <a:xfrm>
            <a:off x="1900080" y="3224160"/>
            <a:ext cx="5050080" cy="402120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8" descr=""/>
          <p:cNvPicPr/>
          <p:nvPr/>
        </p:nvPicPr>
        <p:blipFill>
          <a:blip r:embed="rId3"/>
          <a:stretch/>
        </p:blipFill>
        <p:spPr>
          <a:xfrm>
            <a:off x="1479600" y="1324080"/>
            <a:ext cx="52531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 repeatCount="2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5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mph" presetID="32" repeatCount="2000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1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1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2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1"/>
                            </p:stCondLst>
                            <p:childTnLst>
                              <p:par>
                                <p:cTn id="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7037E-006 L 0.00244 -0.29143 E">
                                      <p:cBhvr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200" spc="-1" strike="noStrike">
                <a:solidFill>
                  <a:srgbClr val="ebebeb"/>
                </a:solidFill>
                <a:latin typeface="Century Gothic"/>
              </a:rPr>
              <a:t>使用规范说明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entury Gothic"/>
              </a:rPr>
              <a:t>站点介绍：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entury Gothic"/>
              </a:rPr>
              <a:t>特别说明：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entury Gothic"/>
              </a:rPr>
              <a:t>栏目推荐：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 u="sng">
                <a:solidFill>
                  <a:srgbClr val="58c1ba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Century Gothic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pic>
          <p:nvPicPr>
            <p:cNvPr id="10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2T07:13:18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5:27Z</dcterms:modified>
  <cp:revision>15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