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5658-90A1-4DF1-8C63-B91275E4F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0958-0DD0-4912-9480-050FD844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44E8-A8A9-48CB-BA3F-5F29BEDEE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3CB8-FAF2-47E6-A3C3-8AD1524A2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5BEA4-A27C-4FBD-B607-FA20D46FF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9C42-935E-4481-A5DE-FB69B2C1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DF69-92B7-4504-BF9A-9C085F6C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46407-0C74-4305-9FEF-73C98349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E6DD-AEAE-4080-8177-6F885126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9BA9-55C7-4E0F-9550-FCF69DFB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69E73-F5CE-4FA5-B9A6-CB4C3144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2AD6-18B9-47BA-AB4A-1378D0F7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4159-E3DF-4470-B038-902765F6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3B7C-7D22-4A7C-993A-36DB301F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3E0CE-D5DD-4289-AF66-0FC880E7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FFBB1-CEBA-4D39-897E-EA3A70D51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374B-DB92-44EF-8057-80DC46A5E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C5FD-9AAC-4D52-8CEA-0BB3D3E4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8B91-A5FF-4718-AC4D-9DDAEAFC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D658-2E57-4861-9676-F832F75C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F868-29C1-49B7-B893-D36B0E7B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B72A-3BD2-44B6-8CB6-C8894F9F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9340-1A6A-4EEA-B871-28488F78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C1AA-4871-4BFC-8FB2-878FE3FF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BEAC-5639-494C-B49F-6906ECEF678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7D59-330B-4AE3-BBB5-F7B1A1212F5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4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9200" indent="-238320">
              <a:spcBef>
                <a:spcPts val="64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64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90440">
              <a:spcBef>
                <a:spcPts val="64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-190800">
              <a:spcBef>
                <a:spcPts val="64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4680" indent="-190800">
              <a:spcBef>
                <a:spcPts val="64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4680" indent="-190800">
              <a:spcBef>
                <a:spcPts val="64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1423-620B-450F-8DDC-836B12044A8B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00BB-DFC9-4F6C-9AD8-CE2597507B8E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2698560" y="2136600"/>
            <a:ext cx="343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fbfbf"/>
                </a:solidFill>
                <a:latin typeface="微软雅黑"/>
                <a:ea typeface="微软雅黑"/>
              </a:rPr>
              <a:t>金属拉丝</a:t>
            </a:r>
            <a:r>
              <a:rPr b="1" lang="zh-CN" sz="3600" spc="-1" strike="noStrike">
                <a:solidFill>
                  <a:srgbClr val="bfbfb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bfbfbf"/>
                </a:solidFill>
                <a:latin typeface="微软雅黑"/>
                <a:ea typeface="微软雅黑"/>
              </a:rPr>
              <a:t>背景图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2"/>
          <p:cNvGrpSpPr/>
          <p:nvPr/>
        </p:nvGrpSpPr>
        <p:grpSpPr>
          <a:xfrm>
            <a:off x="762120" y="0"/>
            <a:ext cx="7054560" cy="5714640"/>
            <a:chOff x="762120" y="0"/>
            <a:chExt cx="7054560" cy="5714640"/>
          </a:xfrm>
        </p:grpSpPr>
        <p:sp>
          <p:nvSpPr>
            <p:cNvPr id="84" name="矩形 4"/>
            <p:cNvSpPr/>
            <p:nvPr/>
          </p:nvSpPr>
          <p:spPr>
            <a:xfrm>
              <a:off x="1301760" y="0"/>
              <a:ext cx="5599800" cy="596520"/>
            </a:xfrm>
            <a:prstGeom prst="rect">
              <a:avLst/>
            </a:prstGeom>
            <a:solidFill>
              <a:srgbClr val="c3d69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762120" y="1428480"/>
              <a:ext cx="7054560" cy="42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Box 7"/>
            <p:cNvSpPr/>
            <p:nvPr/>
          </p:nvSpPr>
          <p:spPr>
            <a:xfrm rot="20926800">
              <a:off x="2359800" y="2964960"/>
              <a:ext cx="3889080" cy="99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26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www.</a:t>
              </a:r>
              <a:r>
                <a:rPr b="0" lang="zh-CN" sz="26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eeppt</a:t>
              </a:r>
              <a:r>
                <a:rPr b="0" lang="en-US" sz="26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.com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9T06:58:00Z</dcterms:created>
  <dc:creator>lidan</dc:creator>
  <dc:description/>
  <dc:language>en-US</dc:language>
  <cp:lastModifiedBy>a</cp:lastModifiedBy>
  <dcterms:modified xsi:type="dcterms:W3CDTF">2015-05-20T05:28:14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