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F81-EFBA-4F9B-9F24-0591625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D61-D303-43C3-A96C-A2E52DE8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D24-1DC2-46FB-8643-AC070CB6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24E-56E8-4647-B563-C95F8882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CBC-F8CE-48C4-B25A-75592B49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2DC-15EB-4150-BFDF-60CCFE31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328-4493-44DD-AC96-3297187B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9E6-9571-4B03-B91D-5C0A255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B80-C1D0-4A63-B15A-4EEC1C72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4F0-0ADD-4654-A57F-B8DC1A6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2B5-E037-4E81-A21D-B33F434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462-B4BF-4551-AABD-010AE66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D0A-5B66-4483-9D5A-1EF5AACC2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1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rcRect l="0" t="0" r="0" b="47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矩形 4" descr=""/>
          <p:cNvPicPr/>
          <p:nvPr/>
        </p:nvPicPr>
        <p:blipFill>
          <a:blip r:embed="rId3"/>
          <a:stretch/>
        </p:blipFill>
        <p:spPr>
          <a:xfrm>
            <a:off x="1206360" y="438120"/>
            <a:ext cx="63342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57400" y="609480"/>
            <a:ext cx="51814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苏州园林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Picture 4" descr="suzhou0921_01"/>
          <p:cNvPicPr/>
          <p:nvPr/>
        </p:nvPicPr>
        <p:blipFill>
          <a:blip r:embed="rId2"/>
          <a:stretch/>
        </p:blipFill>
        <p:spPr>
          <a:xfrm>
            <a:off x="6629400" y="3048120"/>
            <a:ext cx="2201760" cy="1689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suzhou0921_02"/>
          <p:cNvPicPr/>
          <p:nvPr/>
        </p:nvPicPr>
        <p:blipFill>
          <a:blip r:embed="rId3"/>
          <a:stretch/>
        </p:blipFill>
        <p:spPr>
          <a:xfrm>
            <a:off x="609480" y="2743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uzhou0921_04"/>
          <p:cNvPicPr/>
          <p:nvPr/>
        </p:nvPicPr>
        <p:blipFill>
          <a:blip r:embed="rId4"/>
          <a:stretch/>
        </p:blipFill>
        <p:spPr>
          <a:xfrm>
            <a:off x="457200" y="16002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suzhou0921_05"/>
          <p:cNvPicPr/>
          <p:nvPr/>
        </p:nvPicPr>
        <p:blipFill>
          <a:blip r:embed="rId5"/>
          <a:stretch/>
        </p:blipFill>
        <p:spPr>
          <a:xfrm>
            <a:off x="3429000" y="502920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suzhou0921_03"/>
          <p:cNvPicPr/>
          <p:nvPr/>
        </p:nvPicPr>
        <p:blipFill>
          <a:blip r:embed="rId6"/>
          <a:stretch/>
        </p:blipFill>
        <p:spPr>
          <a:xfrm>
            <a:off x="1523880" y="4800600"/>
            <a:ext cx="205740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zzy_18"/>
          <p:cNvPicPr/>
          <p:nvPr/>
        </p:nvPicPr>
        <p:blipFill>
          <a:blip r:embed="rId7"/>
          <a:stretch/>
        </p:blipFill>
        <p:spPr>
          <a:xfrm>
            <a:off x="6705720" y="1523880"/>
            <a:ext cx="2286000" cy="167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suzhou0921_04"/>
          <p:cNvPicPr/>
          <p:nvPr/>
        </p:nvPicPr>
        <p:blipFill>
          <a:blip r:embed="rId8"/>
          <a:stretch/>
        </p:blipFill>
        <p:spPr>
          <a:xfrm>
            <a:off x="3352680" y="2209680"/>
            <a:ext cx="2819520" cy="21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lt_16"/>
          <p:cNvPicPr/>
          <p:nvPr/>
        </p:nvPicPr>
        <p:blipFill>
          <a:blip r:embed="rId9"/>
          <a:stretch/>
        </p:blipFill>
        <p:spPr>
          <a:xfrm>
            <a:off x="5867280" y="4419720"/>
            <a:ext cx="1978200" cy="1393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1828800" y="5029200"/>
            <a:ext cx="6095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447920" y="4876920"/>
            <a:ext cx="6705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苏州园林是一幅完美的图画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1496160" y="1676520"/>
            <a:ext cx="78984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设计者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643800" y="1752480"/>
            <a:ext cx="1280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166880" y="1828800"/>
            <a:ext cx="78984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游览者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600200" y="1600200"/>
            <a:ext cx="617220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阅读全文，试找出文中把苏州园林比喻成“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图画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”的语句。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（要求大声朗读，注意字音）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95280" y="838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红色的字注音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600200" y="2057400"/>
            <a:ext cx="59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" y="259092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轩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     ）池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沼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  ）对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）重峦叠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）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嶙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     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空（           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斟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干（             ）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384280" y="3048120"/>
            <a:ext cx="206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095880" y="2514600"/>
            <a:ext cx="12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hǎo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362320" y="25146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xuānxiè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057400" y="3124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hè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590920" y="3809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è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791320" y="3733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ínxú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514600" y="4343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òu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638680" y="4419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hēnzhuó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590920" y="502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á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477120" y="31240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hàn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3880" y="1447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务必使游览者无论站在哪个点上，眼前总是一幅完美的图画。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设计者的意图：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76520" y="3733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有一个不心里想着口头说着“如在图画中”的。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14400" y="2963880"/>
            <a:ext cx="228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14400" y="27432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游览者的感受：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209680" y="5334120"/>
            <a:ext cx="487692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说明对象的特征）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14479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371600" y="1523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为了说明这幅美丽的“图画”，作者是按怎样的顺序来说明苏州园林图画美的特征的？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666880" y="838080"/>
            <a:ext cx="38862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亭台轩榭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8120" y="35053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追求自然之趣，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24080" y="45720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讲究对称。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6" name="Picture 5" descr="ly_10"/>
          <p:cNvPicPr/>
          <p:nvPr/>
        </p:nvPicPr>
        <p:blipFill>
          <a:blip r:embed="rId2"/>
          <a:stretch/>
        </p:blipFill>
        <p:spPr>
          <a:xfrm>
            <a:off x="304920" y="1143000"/>
            <a:ext cx="2666880" cy="249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ly_18"/>
          <p:cNvPicPr/>
          <p:nvPr/>
        </p:nvPicPr>
        <p:blipFill>
          <a:blip r:embed="rId3"/>
          <a:stretch/>
        </p:blipFill>
        <p:spPr>
          <a:xfrm>
            <a:off x="152280" y="3733920"/>
            <a:ext cx="2895840" cy="225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uzhou0921_04"/>
          <p:cNvPicPr/>
          <p:nvPr/>
        </p:nvPicPr>
        <p:blipFill>
          <a:blip r:embed="rId4"/>
          <a:stretch/>
        </p:blipFill>
        <p:spPr>
          <a:xfrm>
            <a:off x="6400800" y="83808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szl_17"/>
          <p:cNvPicPr/>
          <p:nvPr/>
        </p:nvPicPr>
        <p:blipFill>
          <a:blip r:embed="rId5"/>
          <a:stretch/>
        </p:blipFill>
        <p:spPr>
          <a:xfrm>
            <a:off x="6400800" y="3505320"/>
            <a:ext cx="2514600" cy="1730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36576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布局）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0"/>
            <a:ext cx="1905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假山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057400" y="0"/>
            <a:ext cx="96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与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09680" y="0"/>
            <a:ext cx="2971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池沼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4" name="Picture 5" descr="苏州园林0"/>
          <p:cNvPicPr/>
          <p:nvPr/>
        </p:nvPicPr>
        <p:blipFill>
          <a:blip r:embed="rId2"/>
          <a:stretch/>
        </p:blipFill>
        <p:spPr>
          <a:xfrm>
            <a:off x="4572000" y="609480"/>
            <a:ext cx="4343400" cy="3457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苏州园林02"/>
          <p:cNvPicPr/>
          <p:nvPr/>
        </p:nvPicPr>
        <p:blipFill>
          <a:blip r:embed="rId3"/>
          <a:stretch/>
        </p:blipFill>
        <p:spPr>
          <a:xfrm>
            <a:off x="750960" y="2057400"/>
            <a:ext cx="259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苏州园林03"/>
          <p:cNvPicPr/>
          <p:nvPr/>
        </p:nvPicPr>
        <p:blipFill>
          <a:blip r:embed="rId4"/>
          <a:stretch/>
        </p:blipFill>
        <p:spPr>
          <a:xfrm>
            <a:off x="3048120" y="4114800"/>
            <a:ext cx="2933640" cy="1843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6248520" y="49528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追求自然之趣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2952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配合）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00400" y="1371600"/>
            <a:ext cx="2438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花草树木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429000" y="2209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映衬）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1" name="Picture 4" descr="ly_15"/>
          <p:cNvPicPr/>
          <p:nvPr/>
        </p:nvPicPr>
        <p:blipFill>
          <a:blip r:embed="rId2"/>
          <a:stretch/>
        </p:blipFill>
        <p:spPr>
          <a:xfrm>
            <a:off x="0" y="762120"/>
            <a:ext cx="2819520" cy="2130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zl_10"/>
          <p:cNvPicPr/>
          <p:nvPr/>
        </p:nvPicPr>
        <p:blipFill>
          <a:blip r:embed="rId3"/>
          <a:stretch/>
        </p:blipFill>
        <p:spPr>
          <a:xfrm>
            <a:off x="228600" y="2819520"/>
            <a:ext cx="2819520" cy="24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xy_17c"/>
          <p:cNvPicPr/>
          <p:nvPr/>
        </p:nvPicPr>
        <p:blipFill>
          <a:blip r:embed="rId4"/>
          <a:stretch/>
        </p:blipFill>
        <p:spPr>
          <a:xfrm>
            <a:off x="2895480" y="449568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苏州2"/>
          <p:cNvPicPr/>
          <p:nvPr/>
        </p:nvPicPr>
        <p:blipFill>
          <a:blip r:embed="rId5"/>
          <a:stretch/>
        </p:blipFill>
        <p:spPr>
          <a:xfrm>
            <a:off x="7391520" y="762120"/>
            <a:ext cx="146844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苏州园林01"/>
          <p:cNvPicPr/>
          <p:nvPr/>
        </p:nvPicPr>
        <p:blipFill>
          <a:blip r:embed="rId6"/>
          <a:stretch/>
        </p:blipFill>
        <p:spPr>
          <a:xfrm>
            <a:off x="5715000" y="2819520"/>
            <a:ext cx="2971800" cy="2622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895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着眼在画意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yy_14"/>
          <p:cNvPicPr/>
          <p:nvPr/>
        </p:nvPicPr>
        <p:blipFill>
          <a:blip r:embed="rId2"/>
          <a:stretch/>
        </p:blipFill>
        <p:spPr>
          <a:xfrm>
            <a:off x="533520" y="2590920"/>
            <a:ext cx="3504960" cy="1823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429000" y="129528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隔而未隔，界而未界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62120" y="1295280"/>
            <a:ext cx="2590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墙壁和廊子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38080" y="1828800"/>
            <a:ext cx="2438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镜子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590920" y="1905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几乎把园林翻了一番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8120" y="5638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增加了景致的层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3" name="Picture 9" descr="苏州园林03"/>
          <p:cNvPicPr/>
          <p:nvPr/>
        </p:nvPicPr>
        <p:blipFill>
          <a:blip r:embed="rId3"/>
          <a:stretch/>
        </p:blipFill>
        <p:spPr>
          <a:xfrm>
            <a:off x="5334120" y="2666880"/>
            <a:ext cx="2781360" cy="174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14300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隔而未隔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56272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界而未界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276720" y="0"/>
            <a:ext cx="358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远景和近景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58128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层次）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90720" y="990720"/>
            <a:ext cx="2819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每一个角落：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9880" y="1066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都注意图画美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1" name="Picture 7" descr="yy_10"/>
          <p:cNvPicPr/>
          <p:nvPr/>
        </p:nvPicPr>
        <p:blipFill>
          <a:blip r:embed="rId2"/>
          <a:stretch/>
        </p:blipFill>
        <p:spPr>
          <a:xfrm>
            <a:off x="228600" y="2362320"/>
            <a:ext cx="1936800" cy="280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yy_14"/>
          <p:cNvPicPr/>
          <p:nvPr/>
        </p:nvPicPr>
        <p:blipFill>
          <a:blip r:embed="rId3"/>
          <a:stretch/>
        </p:blipFill>
        <p:spPr>
          <a:xfrm>
            <a:off x="5715000" y="2133720"/>
            <a:ext cx="3429000" cy="264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wsy018"/>
          <p:cNvPicPr/>
          <p:nvPr/>
        </p:nvPicPr>
        <p:blipFill>
          <a:blip r:embed="rId4"/>
          <a:stretch/>
        </p:blipFill>
        <p:spPr>
          <a:xfrm>
            <a:off x="2362320" y="4191120"/>
            <a:ext cx="35049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7"/>
          <p:cNvSpPr/>
          <p:nvPr/>
        </p:nvSpPr>
        <p:spPr>
          <a:xfrm>
            <a:off x="1676520" y="10666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人们常说“上有天堂，下有苏杭”。那么杭州的美在于什么？下面让我们来欣赏一个片段。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zy_14"/>
          <p:cNvPicPr/>
          <p:nvPr/>
        </p:nvPicPr>
        <p:blipFill>
          <a:blip r:embed="rId2"/>
          <a:stretch/>
        </p:blipFill>
        <p:spPr>
          <a:xfrm>
            <a:off x="5715000" y="3429000"/>
            <a:ext cx="3124080" cy="202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a3"/>
          <p:cNvPicPr/>
          <p:nvPr/>
        </p:nvPicPr>
        <p:blipFill>
          <a:blip r:embed="rId3"/>
          <a:stretch/>
        </p:blipFill>
        <p:spPr>
          <a:xfrm>
            <a:off x="2819520" y="4343400"/>
            <a:ext cx="3352680" cy="20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xy_17"/>
          <p:cNvPicPr/>
          <p:nvPr/>
        </p:nvPicPr>
        <p:blipFill>
          <a:blip r:embed="rId4"/>
          <a:stretch/>
        </p:blipFill>
        <p:spPr>
          <a:xfrm>
            <a:off x="228600" y="3429000"/>
            <a:ext cx="2819520" cy="2001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1371600" y="685800"/>
            <a:ext cx="167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门和窗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124080" y="457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工细而不庸俗，简朴而别具匠心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523880" y="1676520"/>
            <a:ext cx="1447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色彩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048120" y="1676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注意与自然景色的配合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981080" y="1143000"/>
            <a:ext cx="533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下面我们来总结本文采用了怎样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明顺序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来说明苏州园林图画美的特征的？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828800" y="762120"/>
            <a:ext cx="579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0880" y="1371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务必使游览者无论站在哪个点上眼前总是一幅完美的图画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29000" y="609480"/>
            <a:ext cx="4114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讲究亭台轩榭的布局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讲究假山池沼的配合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讲究花草树木的映衬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讲究近景远景的层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每一个角落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门和窗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色彩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077320" y="1295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153280" y="4419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66680" y="5867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648320" y="5867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2895480" y="8380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6248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845820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04920" y="152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设计者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14400" y="380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游览者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600200"/>
            <a:ext cx="20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没有一  个不心里想着口头说着“如在图画中”的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86200" y="1600200"/>
            <a:ext cx="5715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一幅美术画，有自然之趣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忘却苏州城市，只觉得身在山间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鱼戏莲叶间”又是入画的一景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感到无限的繁华和欢悦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得到美的享受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3429000" y="1676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905120" y="25909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在我们所看的杭州的美景与苏州园林的美有何异同？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8" name="Picture 3" descr="DSC00010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zl_10"/>
          <p:cNvPicPr/>
          <p:nvPr/>
        </p:nvPicPr>
        <p:blipFill>
          <a:blip r:embed="rId3"/>
          <a:stretch/>
        </p:blipFill>
        <p:spPr>
          <a:xfrm>
            <a:off x="5334120" y="4138560"/>
            <a:ext cx="327636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371600" y="457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我们来看看下面这几幅图，我们泰州的园林中有没有与之相同的景色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1" name="Picture 3" descr="苏州园林0"/>
          <p:cNvPicPr/>
          <p:nvPr/>
        </p:nvPicPr>
        <p:blipFill>
          <a:blip r:embed="rId2"/>
          <a:stretch/>
        </p:blipFill>
        <p:spPr>
          <a:xfrm>
            <a:off x="914400" y="2286000"/>
            <a:ext cx="3733920" cy="245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ly_15"/>
          <p:cNvPicPr/>
          <p:nvPr/>
        </p:nvPicPr>
        <p:blipFill>
          <a:blip r:embed="rId3"/>
          <a:stretch/>
        </p:blipFill>
        <p:spPr>
          <a:xfrm>
            <a:off x="4114800" y="4038480"/>
            <a:ext cx="3352680" cy="231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szl_18"/>
          <p:cNvPicPr/>
          <p:nvPr/>
        </p:nvPicPr>
        <p:blipFill>
          <a:blip r:embed="rId4"/>
          <a:stretch/>
        </p:blipFill>
        <p:spPr>
          <a:xfrm>
            <a:off x="5638680" y="1981080"/>
            <a:ext cx="2640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85800" y="838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文中哪一句说明了这一点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43000" y="2438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苏州园林是我国各地园林的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标本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各地园林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或多或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都受到苏州园林的影响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43000" y="990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受影响的主要是哪些方面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143000" y="3200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又有哪些方面没有受到苏州园林的影响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4510080"/>
            <a:ext cx="733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914400" y="190512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苏州园林的图画美表现在哪些方面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试用文中的话来回答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990720" y="1295280"/>
            <a:ext cx="70102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读完全文后，试用一句话说出苏州园林美的一个方面。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苏州园林的美，美就美在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······”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要求说出自己的感受）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1187280" y="101448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6" name="杭州西湖.MPG" descr=""/>
          <p:cNvPicPr/>
          <p:nvPr/>
        </p:nvPicPr>
        <p:blipFill>
          <a:blip r:embed="rId17"/>
          <a:stretch/>
        </p:blipFill>
        <p:spPr>
          <a:xfrm>
            <a:off x="1143000" y="312840"/>
            <a:ext cx="670572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2120" y="1066680"/>
            <a:ext cx="7696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再次朗读课文，怎样读呢？读你喜欢的句段和词语，并说说你为什么喜欢它（喜欢的原因可从内容和形式两个方面去体会） ？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读完后说说你记住了哪些语句和词语。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295280"/>
            <a:ext cx="5410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抄写自己喜欢的语句，并说说喜欢的原因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抄写自己喜欢的词语，并说说它们在文中好在哪里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苏州园林的自然美与中国传统的对称美，你有何看法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895480" y="22096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再见！</a:t>
            </a:r>
            <a:endParaRPr b="0" lang="en-US" sz="8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6002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美丽的西湖和周围的山所构成的湖光山色是杭州美的所在。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44792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那么苏州的美在于什么呢？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shi202"/>
          <p:cNvPicPr/>
          <p:nvPr/>
        </p:nvPicPr>
        <p:blipFill>
          <a:blip r:embed="rId2"/>
          <a:stretch/>
        </p:blipFill>
        <p:spPr>
          <a:xfrm>
            <a:off x="1371600" y="380880"/>
            <a:ext cx="6705720" cy="1133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981080" y="213372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苏州园林</a:t>
            </a:r>
            <a:endParaRPr b="0" lang="en-US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24080" y="40384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简介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-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" name="Picture 5" descr="suzhou0921_01"/>
          <p:cNvPicPr/>
          <p:nvPr/>
        </p:nvPicPr>
        <p:blipFill>
          <a:blip r:embed="rId2"/>
          <a:stretch/>
        </p:blipFill>
        <p:spPr>
          <a:xfrm>
            <a:off x="2120760" y="-2692440"/>
            <a:ext cx="2286000" cy="140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suzhou0921_04"/>
          <p:cNvPicPr/>
          <p:nvPr/>
        </p:nvPicPr>
        <p:blipFill>
          <a:blip r:embed="rId3"/>
          <a:stretch/>
        </p:blipFill>
        <p:spPr>
          <a:xfrm>
            <a:off x="6248520" y="4572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uzhou0921_03"/>
          <p:cNvPicPr/>
          <p:nvPr/>
        </p:nvPicPr>
        <p:blipFill>
          <a:blip r:embed="rId4"/>
          <a:stretch/>
        </p:blipFill>
        <p:spPr>
          <a:xfrm>
            <a:off x="533520" y="5105520"/>
            <a:ext cx="2057400" cy="123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suzhou0921_05"/>
          <p:cNvPicPr/>
          <p:nvPr/>
        </p:nvPicPr>
        <p:blipFill>
          <a:blip r:embed="rId5"/>
          <a:stretch/>
        </p:blipFill>
        <p:spPr>
          <a:xfrm>
            <a:off x="2120760" y="7969320"/>
            <a:ext cx="2057400" cy="1235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1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304920" y="0"/>
            <a:ext cx="5486040" cy="5000760"/>
            <a:chOff x="304920" y="0"/>
            <a:chExt cx="5486040" cy="5000760"/>
          </a:xfrm>
        </p:grpSpPr>
        <p:sp>
          <p:nvSpPr>
            <p:cNvPr id="60" name="Rectangle 12"/>
            <p:cNvSpPr/>
            <p:nvPr/>
          </p:nvSpPr>
          <p:spPr>
            <a:xfrm>
              <a:off x="304920" y="0"/>
              <a:ext cx="548604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04920" y="0"/>
              <a:ext cx="5486040" cy="29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江苏苏州古典园林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      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997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年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月，江苏苏州古典园林被列入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《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世界遗产名录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》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。 </a:t>
              </a:r>
              <a:br>
                <a:rPr sz="2400"/>
              </a:b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      苏州城历史悠久，私家园林始建于公元前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世纪，至明代建园之风尤盛，清末时城内外有园林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7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多处。为苏州赢得了“园林之城”的称号。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62" name="Rectangle 16"/>
          <p:cNvSpPr/>
          <p:nvPr/>
        </p:nvSpPr>
        <p:spPr>
          <a:xfrm>
            <a:off x="2819520" y="46483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拙政园享有“江南名园精华”的盛誉。宋、元、明、清历代园林各具自然的、历史的、文化的、艺术的特色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现存名园十余处，闻名遐尔的有沧浪亭、狮子林、拙政园、留园、网狮园、怡园等。苏州园林占地面积小，采用变换无穷、不拘一格的艺术手法，以中国山水花鸟的情趣，寓唐诗宋词的意境，在有限的空间内点缀假山、树木，安排亭台楼阁、池塘小桥，使苏州园林以景取胜，景因园异，给人以小中见大的艺术效果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447920" y="16002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下面让我们来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欣赏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这城市之林吧！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苏州园林.DAT" descr=""/>
          <p:cNvPicPr/>
          <p:nvPr/>
        </p:nvPicPr>
        <p:blipFill>
          <a:blip r:embed="rId2"/>
          <a:stretch/>
        </p:blipFill>
        <p:spPr>
          <a:xfrm>
            <a:off x="1752480" y="1122480"/>
            <a:ext cx="53341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523880" y="11430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看完这段介绍后你有何感想，试用一个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比喻句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来比喻苏州园林的美。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7:51:5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5:27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