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5.jpeg" ContentType="image/jpeg"/>
  <Override PartName="/ppt/media/image2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D65D-CF60-4D03-9059-13378D1F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760C-2110-4108-B791-4635DBB2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3409-6836-49A7-AE95-C0DD5076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602-62FA-4A82-9F3A-83D6D56E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0288-7DBF-4437-9D78-389B848B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C16-0718-400B-8E09-93749796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687-9001-4D97-B03D-959CE3BC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0078-DF46-4B4C-A218-2E380791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09C-98A3-4157-8A6A-CA81B21B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FEDD-E710-4CFD-91EF-C525B45F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9F5B-DE99-4723-8E69-2234CC5F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55C5-04DF-466D-A9DF-37CF4F06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3027-6D5E-43EF-94A9-CB4C9282BD79}" type="slidenum"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4.png"/><Relationship Id="rId16" Type="http://schemas.openxmlformats.org/officeDocument/2006/relationships/image" Target="../media/image7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hyperlink" Target="gua.exe" TargetMode="External"/><Relationship Id="rId4" Type="http://schemas.openxmlformats.org/officeDocument/2006/relationships/image" Target="../media/image9.png"/><Relationship Id="rId5" Type="http://schemas.openxmlformats.org/officeDocument/2006/relationships/hyperlink" Target="yi.exe" TargetMode="Externa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867280" y="2133720"/>
            <a:ext cx="2514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看着可爱的雪孩子，小白兔真高兴。他和雪孩子又唱又跳，玩得很开心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1" name="Picture 4" descr="雪娃娃03"/>
          <p:cNvPicPr/>
          <p:nvPr/>
        </p:nvPicPr>
        <p:blipFill>
          <a:blip r:embed="rId3"/>
          <a:stretch/>
        </p:blipFill>
        <p:spPr>
          <a:xfrm>
            <a:off x="1622520" y="1676520"/>
            <a:ext cx="4092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5715000" y="2286000"/>
            <a:ext cx="29718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小白兔玩累了，就回家休息。屋子里很冷，他往火里加了一些柴，就上床睡觉了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4" name="Picture 4" descr="雪娃娃04"/>
          <p:cNvPicPr/>
          <p:nvPr/>
        </p:nvPicPr>
        <p:blipFill>
          <a:blip r:embed="rId3"/>
          <a:stretch/>
        </p:blipFill>
        <p:spPr>
          <a:xfrm>
            <a:off x="1447920" y="1752480"/>
            <a:ext cx="4113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5943600" y="2513160"/>
            <a:ext cx="2514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火把旁边的柴堆烧着了。小白兔睡得正香，一点儿也不知道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7" name="Picture 4" descr="雪娃娃05"/>
          <p:cNvPicPr/>
          <p:nvPr/>
        </p:nvPicPr>
        <p:blipFill>
          <a:blip r:embed="rId3"/>
          <a:stretch/>
        </p:blipFill>
        <p:spPr>
          <a:xfrm>
            <a:off x="1654200" y="1828800"/>
            <a:ext cx="4060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791320" y="2860560"/>
            <a:ext cx="2514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雪孩子看见小白兔家着火了，就飞快地跑了过去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80" name="Picture 4" descr="雪娃娃06"/>
          <p:cNvPicPr/>
          <p:nvPr/>
        </p:nvPicPr>
        <p:blipFill>
          <a:blip r:embed="rId3"/>
          <a:stretch/>
        </p:blipFill>
        <p:spPr>
          <a:xfrm>
            <a:off x="1533600" y="1828800"/>
            <a:ext cx="3952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5867280" y="2514600"/>
            <a:ext cx="2514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雪孩子从大火中救出了小白兔，自己却化了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83" name="Picture 4" descr="雪娃娃07"/>
          <p:cNvPicPr/>
          <p:nvPr/>
        </p:nvPicPr>
        <p:blipFill>
          <a:blip r:embed="rId3"/>
          <a:stretch/>
        </p:blipFill>
        <p:spPr>
          <a:xfrm>
            <a:off x="1592280" y="1752480"/>
            <a:ext cx="3970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5486400" y="2209680"/>
            <a:ext cx="2514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雪孩子哪里去了呢？他飞到了空中，成了一朵白云，一朵很美很美的白云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86" name="Picture 4" descr="雪娃娃08"/>
          <p:cNvPicPr/>
          <p:nvPr/>
        </p:nvPicPr>
        <p:blipFill>
          <a:blip r:embed="rId3"/>
          <a:stretch/>
        </p:blipFill>
        <p:spPr>
          <a:xfrm>
            <a:off x="1411200" y="1752480"/>
            <a:ext cx="3846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29" descr="小学语文(记叙文）04"/>
          <p:cNvPicPr/>
          <p:nvPr/>
        </p:nvPicPr>
        <p:blipFill>
          <a:blip r:embed="rId2"/>
          <a:stretch/>
        </p:blipFill>
        <p:spPr>
          <a:xfrm>
            <a:off x="1219320" y="1069920"/>
            <a:ext cx="2079360" cy="606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030"/>
          <p:cNvSpPr/>
          <p:nvPr/>
        </p:nvSpPr>
        <p:spPr>
          <a:xfrm>
            <a:off x="1219320" y="1981080"/>
            <a:ext cx="20574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读读议议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9" name="Rectangle 1034"/>
          <p:cNvSpPr/>
          <p:nvPr/>
        </p:nvSpPr>
        <p:spPr>
          <a:xfrm>
            <a:off x="2148840" y="4191120"/>
            <a:ext cx="4740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雪孩子是怎样飞到天上的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还会回来吗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0" name="Text Box 1035"/>
          <p:cNvSpPr/>
          <p:nvPr/>
        </p:nvSpPr>
        <p:spPr>
          <a:xfrm>
            <a:off x="2323080" y="3162240"/>
            <a:ext cx="4569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雪孩子救出了小白兔，自己变成了什么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1" name="Rectangle 1037"/>
          <p:cNvSpPr/>
          <p:nvPr/>
        </p:nvSpPr>
        <p:spPr>
          <a:xfrm>
            <a:off x="3851280" y="141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第一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模板网：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www.1ppt.com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小学语文(记叙文）04"/>
          <p:cNvPicPr/>
          <p:nvPr/>
        </p:nvPicPr>
        <p:blipFill>
          <a:blip r:embed="rId2"/>
          <a:stretch/>
        </p:blipFill>
        <p:spPr>
          <a:xfrm>
            <a:off x="1219320" y="1069920"/>
            <a:ext cx="2079360" cy="6066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9"/>
          <p:cNvGrpSpPr/>
          <p:nvPr/>
        </p:nvGrpSpPr>
        <p:grpSpPr>
          <a:xfrm>
            <a:off x="990720" y="2017800"/>
            <a:ext cx="7238880" cy="4461120"/>
            <a:chOff x="990720" y="2017800"/>
            <a:chExt cx="7238880" cy="4461120"/>
          </a:xfrm>
        </p:grpSpPr>
        <p:grpSp>
          <p:nvGrpSpPr>
            <p:cNvPr id="94" name="Group 7"/>
            <p:cNvGrpSpPr/>
            <p:nvPr/>
          </p:nvGrpSpPr>
          <p:grpSpPr>
            <a:xfrm>
              <a:off x="990720" y="2017800"/>
              <a:ext cx="7238880" cy="3773520"/>
              <a:chOff x="990720" y="2017800"/>
              <a:chExt cx="7238880" cy="3773520"/>
            </a:xfrm>
          </p:grpSpPr>
          <p:pic>
            <p:nvPicPr>
              <p:cNvPr id="95" name="Picture 5" descr="雪孩子课件1"/>
              <p:cNvPicPr/>
              <p:nvPr/>
            </p:nvPicPr>
            <p:blipFill>
              <a:blip r:embed="rId3"/>
              <a:stretch/>
            </p:blipFill>
            <p:spPr>
              <a:xfrm>
                <a:off x="5218200" y="2017800"/>
                <a:ext cx="3011400" cy="377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Picture 6" descr="雪孩子课件2"/>
              <p:cNvPicPr/>
              <p:nvPr/>
            </p:nvPicPr>
            <p:blipFill>
              <a:blip r:embed="rId4"/>
              <a:stretch/>
            </p:blipFill>
            <p:spPr>
              <a:xfrm>
                <a:off x="990720" y="2362320"/>
                <a:ext cx="3962520" cy="3157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7" name="Text Box 8"/>
            <p:cNvSpPr/>
            <p:nvPr/>
          </p:nvSpPr>
          <p:spPr>
            <a:xfrm>
              <a:off x="3353040" y="5897520"/>
              <a:ext cx="252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雪 的 形 成</a:t>
              </a:r>
              <a:endParaRPr b="0" lang="en-US" sz="32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小学语文(记叙文）04"/>
          <p:cNvPicPr/>
          <p:nvPr/>
        </p:nvPicPr>
        <p:blipFill>
          <a:blip r:embed="rId2"/>
          <a:stretch/>
        </p:blipFill>
        <p:spPr>
          <a:xfrm>
            <a:off x="1219320" y="1069920"/>
            <a:ext cx="2079360" cy="6066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1219320" y="1600200"/>
            <a:ext cx="28191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想想说说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800600" y="4381560"/>
            <a:ext cx="3809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你想对雪孩子说什么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3"/>
          <a:stretch/>
        </p:blipFill>
        <p:spPr>
          <a:xfrm>
            <a:off x="1079640" y="2362320"/>
            <a:ext cx="3568680" cy="40575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4807080" y="2911320"/>
            <a:ext cx="36576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说说小白兔望着白云会说些什么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小学语文(记叙文）04"/>
          <p:cNvPicPr/>
          <p:nvPr/>
        </p:nvPicPr>
        <p:blipFill>
          <a:blip r:embed="rId2"/>
          <a:stretch/>
        </p:blipFill>
        <p:spPr>
          <a:xfrm>
            <a:off x="1219320" y="1069920"/>
            <a:ext cx="2079360" cy="6066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1371600" y="18288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读读说说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905120" y="2819520"/>
            <a:ext cx="5943600" cy="27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又唱又跳　　　又细又长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又说又笑　　　又大又圆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又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又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    又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又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　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219320" y="1116000"/>
            <a:ext cx="2079360" cy="560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7" descr="1_1-1-21-312_20030103215224"/>
          <p:cNvPicPr/>
          <p:nvPr/>
        </p:nvPicPr>
        <p:blipFill>
          <a:blip r:embed="rId3"/>
          <a:stretch/>
        </p:blipFill>
        <p:spPr>
          <a:xfrm>
            <a:off x="2247840" y="1676520"/>
            <a:ext cx="400068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219320" y="117324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914400" y="2362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80008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读儿歌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4905360" y="3805200"/>
            <a:ext cx="3505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太阳公公怕他热，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把他的衣裳全脱掉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光着身子还冒汗，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越流汗水个越小。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295280" y="3160800"/>
            <a:ext cx="3124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堆雪人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寒风吹，雪花飘，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堆个雪人个子高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我给雪人穿单衣，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外面又套大棉袄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459080" y="1647720"/>
            <a:ext cx="5475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buClr>
                <a:srgbClr val="80008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续编故事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雪孩子又回来了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》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8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219320" y="1116000"/>
            <a:ext cx="2079360" cy="560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6" descr="news_2003122221417"/>
          <p:cNvPicPr/>
          <p:nvPr/>
        </p:nvPicPr>
        <p:blipFill>
          <a:blip r:embed="rId3"/>
          <a:stretch/>
        </p:blipFill>
        <p:spPr>
          <a:xfrm>
            <a:off x="1066680" y="1752480"/>
            <a:ext cx="6934320" cy="4272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87640" y="330840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www.1ppt.com/sucai/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1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2"/>
              </a:rPr>
              <a:t>www.1ppt.com/ziliao/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46" name="Picture 2050" descr="小学语文(记叙文）01"/>
          <p:cNvPicPr/>
          <p:nvPr/>
        </p:nvPicPr>
        <p:blipFill>
          <a:blip r:embed="rId15"/>
          <a:stretch/>
        </p:blipFill>
        <p:spPr>
          <a:xfrm>
            <a:off x="1219320" y="1116000"/>
            <a:ext cx="2079360" cy="560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71" descr=""/>
          <p:cNvPicPr/>
          <p:nvPr/>
        </p:nvPicPr>
        <p:blipFill>
          <a:blip r:embed="rId16"/>
          <a:stretch/>
        </p:blipFill>
        <p:spPr>
          <a:xfrm>
            <a:off x="1828800" y="1905120"/>
            <a:ext cx="5334120" cy="384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219320" y="117324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612800" y="2362320"/>
            <a:ext cx="5943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仔细看图，想想每幅图上画了什么。再读读图旁的句子，画出自己不认识的字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2728080" y="17971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认一认，读一读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1" name="Picture 4" descr="小学语文(记叙文）02"/>
          <p:cNvPicPr/>
          <p:nvPr/>
        </p:nvPicPr>
        <p:blipFill>
          <a:blip r:embed="rId2"/>
          <a:stretch/>
        </p:blipFill>
        <p:spPr>
          <a:xfrm>
            <a:off x="1219320" y="1173240"/>
            <a:ext cx="2079360" cy="50328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15"/>
          <p:cNvGrpSpPr/>
          <p:nvPr/>
        </p:nvGrpSpPr>
        <p:grpSpPr>
          <a:xfrm>
            <a:off x="1676520" y="2722680"/>
            <a:ext cx="6396120" cy="2765880"/>
            <a:chOff x="1676520" y="2722680"/>
            <a:chExt cx="6396120" cy="2765880"/>
          </a:xfrm>
        </p:grpSpPr>
        <p:grpSp>
          <p:nvGrpSpPr>
            <p:cNvPr id="53" name="Group 13"/>
            <p:cNvGrpSpPr/>
            <p:nvPr/>
          </p:nvGrpSpPr>
          <p:grpSpPr>
            <a:xfrm>
              <a:off x="1676520" y="2722680"/>
              <a:ext cx="6396120" cy="1164600"/>
              <a:chOff x="1676520" y="2722680"/>
              <a:chExt cx="6396120" cy="1164600"/>
            </a:xfrm>
          </p:grpSpPr>
          <p:sp>
            <p:nvSpPr>
              <p:cNvPr id="54" name="Rectangle 8"/>
              <p:cNvSpPr/>
              <p:nvPr/>
            </p:nvSpPr>
            <p:spPr>
              <a:xfrm>
                <a:off x="1676520" y="3244680"/>
                <a:ext cx="6248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孩 让 起 玩 往</a:t>
                </a:r>
                <a:endParaRPr b="0" lang="en-US" sz="36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  <p:sp>
            <p:nvSpPr>
              <p:cNvPr id="55" name="Text Box 10"/>
              <p:cNvSpPr/>
              <p:nvPr/>
            </p:nvSpPr>
            <p:spPr>
              <a:xfrm>
                <a:off x="1691640" y="2722680"/>
                <a:ext cx="6381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h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Century Gothic"/>
                  </a:rPr>
                  <a:t>á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i      r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Century Gothic"/>
                  </a:rPr>
                  <a:t>à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ng       qǐ       w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Century Gothic"/>
                  </a:rPr>
                  <a:t>á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n     zhù</a:t>
                </a:r>
                <a:endParaRPr b="0" lang="en-US" sz="32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4"/>
            <p:cNvGrpSpPr/>
            <p:nvPr/>
          </p:nvGrpSpPr>
          <p:grpSpPr>
            <a:xfrm>
              <a:off x="1697040" y="4338360"/>
              <a:ext cx="6257520" cy="1150200"/>
              <a:chOff x="1697040" y="4338360"/>
              <a:chExt cx="6257520" cy="1150200"/>
            </a:xfrm>
          </p:grpSpPr>
          <p:sp>
            <p:nvSpPr>
              <p:cNvPr id="57" name="Rectangle 9"/>
              <p:cNvSpPr/>
              <p:nvPr/>
            </p:nvSpPr>
            <p:spPr>
              <a:xfrm>
                <a:off x="1720800" y="4845960"/>
                <a:ext cx="6019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觉 烧 知 道 化 </a:t>
                </a:r>
                <a:endParaRPr b="0" lang="en-US" sz="36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  <p:sp>
            <p:nvSpPr>
              <p:cNvPr id="58" name="Text Box 12"/>
              <p:cNvSpPr/>
              <p:nvPr/>
            </p:nvSpPr>
            <p:spPr>
              <a:xfrm>
                <a:off x="1697040" y="4338360"/>
                <a:ext cx="625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ji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Century Gothic"/>
                  </a:rPr>
                  <a:t>à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o     shāo     zhī     d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Century Gothic"/>
                  </a:rPr>
                  <a:t>à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o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Book Antiqua"/>
                  </a:rPr>
                  <a:t>      hu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Century Gothic"/>
                  </a:rPr>
                  <a:t>à</a:t>
                </a:r>
                <a:endParaRPr b="0" lang="en-US" sz="32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小学语文(记叙文）02"/>
          <p:cNvPicPr/>
          <p:nvPr/>
        </p:nvPicPr>
        <p:blipFill>
          <a:blip r:embed="rId2"/>
          <a:stretch/>
        </p:blipFill>
        <p:spPr>
          <a:xfrm>
            <a:off x="1219320" y="117324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373392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写一写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1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3048120"/>
            <a:ext cx="3352680" cy="2012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0600" y="3024360"/>
            <a:ext cx="3276720" cy="20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雪娃娃01"/>
          <p:cNvPicPr/>
          <p:nvPr/>
        </p:nvPicPr>
        <p:blipFill>
          <a:blip r:embed="rId3"/>
          <a:stretch/>
        </p:blipFill>
        <p:spPr>
          <a:xfrm>
            <a:off x="1295280" y="1828800"/>
            <a:ext cx="4800600" cy="42703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6248520" y="2708280"/>
            <a:ext cx="25146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下了一天一夜的雪。房子上、树上、地上一片白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6019920" y="2241720"/>
            <a:ext cx="2514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兔妈妈要出去找吃的。她堆了一个漂亮的雪孩子，让他和小白兔一起玩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8" name="Picture 4" descr="雪娃娃02"/>
          <p:cNvPicPr/>
          <p:nvPr/>
        </p:nvPicPr>
        <p:blipFill>
          <a:blip r:embed="rId3"/>
          <a:stretch/>
        </p:blipFill>
        <p:spPr>
          <a:xfrm>
            <a:off x="1219320" y="1828800"/>
            <a:ext cx="457200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2:41:56Z</dcterms:created>
  <dc:creator>An</dc:creator>
  <dc:description/>
  <dc:language>en-US</dc:language>
  <cp:lastModifiedBy>a</cp:lastModifiedBy>
  <dcterms:modified xsi:type="dcterms:W3CDTF">2015-05-20T07:41:53Z</dcterms:modified>
  <cp:revision>8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