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BB5-F22F-4639-84C4-0D0EEBAFA4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4A9E-56FA-4682-AFCE-89B20470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4571-0BED-4B11-BD32-058678BE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D16-19F0-43D6-8109-480AD1C9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3D4A-F61A-4FD9-9CFC-0F18A268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55280" y="404640"/>
            <a:ext cx="7777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7B8-3B71-45A3-8351-6E459D55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CF59-2AE2-4056-91D8-0D973F8E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4984-C7FB-479E-98F5-8B5DB3C4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D573-53E8-4B2D-8BDB-2F07DC63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657-17D6-4C18-BC78-E7AF8DE3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F72-0E9B-4CBB-9149-7EC12A2A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327A-6349-4EE6-81F7-724D65941C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55280" y="404640"/>
            <a:ext cx="7777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894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3779640" y="6347880"/>
            <a:ext cx="1834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C306-A347-4FDC-9C82-D5A3FD52F9B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55640" y="2565360"/>
            <a:ext cx="60433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新年快乐  幸福吉祥</a:t>
            </a: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555640" y="4292280"/>
            <a:ext cx="5321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81" name="Picture 7" descr="未标题-1"/>
          <p:cNvPicPr/>
          <p:nvPr/>
        </p:nvPicPr>
        <p:blipFill>
          <a:blip r:embed="rId2"/>
          <a:stretch/>
        </p:blipFill>
        <p:spPr>
          <a:xfrm>
            <a:off x="6004080" y="260280"/>
            <a:ext cx="2595240" cy="1567080"/>
          </a:xfrm>
          <a:prstGeom prst="rect">
            <a:avLst/>
          </a:prstGeom>
          <a:ln w="0">
            <a:noFill/>
          </a:ln>
        </p:spPr>
      </p:pic>
      <p:sp>
        <p:nvSpPr>
          <p:cNvPr id="82" name="矩形 6"/>
          <p:cNvSpPr/>
          <p:nvPr/>
        </p:nvSpPr>
        <p:spPr>
          <a:xfrm>
            <a:off x="108000" y="25560"/>
            <a:ext cx="718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 Black"/>
              </a:rPr>
              <a:t>幸福吉祥年</a:t>
            </a:r>
            <a:endParaRPr b="1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10920" y="2997000"/>
            <a:ext cx="6045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MV Boli"/>
                <a:ea typeface="华文隶书"/>
              </a:rPr>
              <a:t>Happy New Year</a:t>
            </a:r>
            <a:br>
              <a:rPr sz="4300"/>
            </a:br>
            <a:r>
              <a:rPr b="1" lang="en-US" sz="4300" spc="-1" strike="noStrike">
                <a:solidFill>
                  <a:srgbClr val="ffffff"/>
                </a:solidFill>
                <a:latin typeface="MV Boli"/>
                <a:ea typeface="华文隶书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V Boli"/>
                <a:ea typeface="华文隶书"/>
              </a:rPr>
              <a:t>O(∩_∩)O~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5" name="Picture 7" descr="未标题-1"/>
          <p:cNvPicPr/>
          <p:nvPr/>
        </p:nvPicPr>
        <p:blipFill>
          <a:blip r:embed="rId2"/>
          <a:stretch/>
        </p:blipFill>
        <p:spPr>
          <a:xfrm>
            <a:off x="6443640" y="189000"/>
            <a:ext cx="25956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4:28:04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39:47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