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D7B-1F7C-4A5F-849F-D5F55831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A18-4248-40AA-958C-9371743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05C-C0A8-40A2-9340-67DB8EF0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AAA-9452-437F-901D-96F5ECDE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4806-D6F4-4EBD-AAD4-E8D7AEB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8FF-E795-454A-94D3-72C91C7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F5CE-3A2C-4B0D-8D5A-8EA64EC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F06-F295-42DE-BBA1-6958FCA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E88-3612-42AD-92CC-FDB30DE5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FBA5-57B2-46FA-B217-61CFAD0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3D03-8C90-416C-9198-FFE2D5D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2F9-83CE-4C6A-B88B-446D984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7B83-E168-4F38-BCD7-45E9293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9966-C3ED-4EBF-9DFD-2F3C446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D154-0538-418E-BB47-86B73DA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0BD9-5410-4AFD-9747-B749229B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65B9-A7F1-4196-A321-6A202D36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097-66DA-452A-AA76-CC93480B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A20-695F-423A-9B63-2EF56F2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CC9-6D51-4512-822F-7352E56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E1D-7DC3-472A-982A-CB4FD33C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437-E475-4BE0-80E1-BB5CD01D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FA5-2549-47B8-89CC-85EBB0D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A3-4E1D-4A59-B523-7E24BF5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350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3633-23AE-45DC-A285-5AD16E5D8816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1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350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E93-5CBF-4432-9674-5F3E86552B3C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177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Verdana"/>
              </a:rPr>
              <a:t>新年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5400" spc="-1" strike="noStrike">
              <a:solidFill>
                <a:srgbClr val="cc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K:\投Bar\2011 1224 红色新年团龙主题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0" y="-387360"/>
            <a:ext cx="9972720" cy="7245360"/>
          </a:xfrm>
          <a:prstGeom prst="rect">
            <a:avLst/>
          </a:prstGeom>
          <a:ln w="0">
            <a:noFill/>
          </a:ln>
        </p:spPr>
      </p:pic>
      <p:sp>
        <p:nvSpPr>
          <p:cNvPr id="88" name="矩形 10"/>
          <p:cNvSpPr/>
          <p:nvPr/>
        </p:nvSpPr>
        <p:spPr>
          <a:xfrm>
            <a:off x="1320840" y="476280"/>
            <a:ext cx="7488360" cy="55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微软雅黑"/>
              </a:rPr>
              <a:t>图片粘贴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395280" y="342108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K:\投Bar\2011 1224 红色新年团龙主题\3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65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de2b0"/>
                </a:solidFill>
                <a:latin typeface="Verdana"/>
              </a:rPr>
              <a:t>谢谢观看！</a:t>
            </a: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Verdana"/>
              </a:rPr>
              <a:t>使用规范说明</a:t>
            </a:r>
            <a:endParaRPr b="1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6:03:2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0:0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