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49C-F9F5-4FDA-83FA-72719029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ECA-53B7-4E73-A596-70015C0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AEB-37D8-4242-8EA5-B4020C74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270-8B91-4E5E-823E-F89DF48C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131-3A42-4BBD-BD72-B818A088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A5C0-2C6C-4093-8899-44A72E73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5B9-820F-4D74-9DCD-D62D4B7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F65-F402-4374-99A4-EF9E5BF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BB87-A0B5-44FF-99EF-AC27B5EE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ADE8-1F95-4B6B-B66E-EEA30B69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280F-6B8A-417C-85DC-BB18F15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579-FA50-4819-BA05-884B27F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7F1-9BAE-46CA-B302-2F064D5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D78B-85FC-4E91-8E61-22ABDB2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F73D-DB26-42C3-A0C9-FD85854C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1D98-E5A3-4169-BFA0-CD89319C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C0B-FFE8-4841-BFA5-9AC7653D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B05-2D4E-452C-B3B4-9827B83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304-B156-4427-A235-0739F80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E43-7AB6-4EBA-9A49-5F5AAF3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180-B35A-467A-A0AC-45112D4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070-EAE8-43B6-A93D-FD9AC9F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E90-15D4-4514-83A1-15F282C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212-58BE-4B77-9BC1-77E4A65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F5F-3866-4400-8637-EDC3BE52DC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851-1108-4E32-A7DD-E8E1B12D89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080-F4F9-42DC-B1B0-92CEE36F20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9D3F-5465-476A-B57E-119123F47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4786200" y="4286160"/>
            <a:ext cx="41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4929120" y="4286160"/>
            <a:ext cx="135756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786200" y="395748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8"/>
          <p:cNvSpPr/>
          <p:nvPr/>
        </p:nvSpPr>
        <p:spPr>
          <a:xfrm>
            <a:off x="-25164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940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31550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594108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32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2876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35121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3518640" y="21924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655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3083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-1087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79776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8691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512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2980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3817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-180000" y="714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1549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201204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6551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01264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34200" y="571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315504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65492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329796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0839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0839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1654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35121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36550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-180000" y="5716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33696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44104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15120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-108720" y="714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15120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654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512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508392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33696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-25164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86904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0119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8698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59410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08376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5-20T05:33:06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