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AF7-46BC-440D-849F-32CCD875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62A-B788-4A5A-908C-12046D4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F68-2151-47EB-8BC1-4FB2DB6F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E24-F420-4494-8238-0AA48F3A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12BD-987D-4D85-9652-99F8AE73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BEF5-6CF9-4448-95A4-026BFBB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3A49-1F3A-40EA-BA81-96B67FE6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3C19-667D-4433-BA9A-3CA68998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E55-903A-48A4-8AFB-2AB07B0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1B68-36F3-4644-A6FE-2D0A950A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455-5BF7-4A28-93C7-09F13FD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58B-19D4-444B-9F0F-7424D8C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880-DCA0-4025-ADC5-168D27E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8F26-BCE7-470C-9867-6E40629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A32-398B-4F92-8677-6F6D946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A3D-8342-44BE-B269-6DDD7793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DFED-82F5-4DBB-A10B-7DDE659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732-AB5F-4DF7-9119-01AE9AD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A98-CC95-40FD-AB03-F1FB421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429-7B80-4D10-8A7F-5CF4F182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B28-CB57-491F-85E8-114E5B06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A28-3F8E-4D10-834F-61FDF1D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7B8-59E0-4428-82BB-8FC225C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E84-E405-4FFA-86CC-5C7FCC7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54D-F6C2-4C99-B6BF-B0C36994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DCF-4900-4EE5-B6A5-3372DDA873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9D8-82C2-492E-A350-6ED0F175E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10007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987640" y="299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执教：简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132000" y="3860640"/>
            <a:ext cx="32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制作：简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640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116000" y="549360"/>
            <a:ext cx="722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华文琥珀"/>
                <a:ea typeface="华文琥珀"/>
              </a:rPr>
              <a:t>小松鼠找花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4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31840" y="0"/>
            <a:ext cx="304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猜一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麻屋子，红帐子，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面坐了个白胖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林海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0" y="-243000"/>
            <a:ext cx="40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认一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84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         花生              旁  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种           许   多        格   外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鲜 艳         呀            每    天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  言  自  语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54936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700360" y="692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hē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64000" y="696960"/>
            <a:ext cx="30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á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0" y="220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zhò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2627280" y="2060640"/>
            <a:ext cx="15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003640" y="2133720"/>
            <a:ext cx="393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é wà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187280" y="3706920"/>
            <a:ext cx="20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348000" y="3797280"/>
            <a:ext cx="113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906160" y="37972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ě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332000" y="5310360"/>
            <a:ext cx="186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3492360" y="5237280"/>
            <a:ext cx="160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31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1773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问鼹鼠：“这是什么花呀？”鼹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这是花生的花。到了秋天，会结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，花生可好吃啦！”小松鼠很高兴，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：等花结了果，我就把花生摘下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留着冬天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95912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84720" y="2421000"/>
            <a:ext cx="331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476360" y="3068640"/>
            <a:ext cx="766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0" y="36450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5128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83664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每天都到地里去，看看结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了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等啊，等啊，等到花都落光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没看见一个花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258920" y="4076640"/>
            <a:ext cx="295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2771640" y="148428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557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感到很奇怪，自言自语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是谁把花生摘走了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95480" y="4724280"/>
            <a:ext cx="70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花生真的被摘走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5940360" y="234936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u=4066271674,231511607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50920" y="0"/>
            <a:ext cx="27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读儿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1341360"/>
            <a:ext cx="953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小松鼠，找花生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没找到，格外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花落了，果结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花生呀，在地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一夜的工作结束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-3240"/>
            <a:ext cx="38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做一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1052640"/>
            <a:ext cx="879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生   生长    生日    花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2492280"/>
            <a:ext cx="908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（     ）（     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0" y="3860640"/>
            <a:ext cx="916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许（    ） （     ）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0" y="5229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外（    ） （      ）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403280" y="256536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21164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732720" y="26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10348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403280" y="393372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975120" y="400536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588000" y="40114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也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332000" y="53737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067280" y="537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804000" y="53802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8:31:16Z</dcterms:created>
  <dc:creator>user</dc:creator>
  <dc:description/>
  <dc:language>en-US</dc:language>
  <cp:lastModifiedBy>a</cp:lastModifiedBy>
  <dcterms:modified xsi:type="dcterms:W3CDTF">2015-05-20T04:17:0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