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gif" ContentType="image/gif"/>
  <Override PartName="/ppt/media/image7.gif" ContentType="image/gif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2F0-5F89-4237-BAD8-0E8DF2BF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581-3089-4BF1-ADDC-EE9D69AC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E60-2B1C-430B-828F-C8070349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587-F09C-4799-89FC-4657A55E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FEA-20F9-48AC-A902-776681FD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760-DAB1-4C21-9BA4-9766875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AB8-8047-41BC-A687-BDEB95D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A33-BC51-4894-8AB9-2C2C2DD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1A8-FF37-47DC-BAEF-15A36C37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90E-4F05-4E80-8156-17831600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BBF-3723-47C9-ADFB-4ED518A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467-0E55-4C0F-A5D2-732349F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6D2E-643E-4A72-952E-34D095168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00"/>
                </a:solidFill>
                <a:latin typeface="Arial"/>
                <a:ea typeface="华文行楷"/>
              </a:rPr>
              <a:t>新文化运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086600" y="6095880"/>
            <a:ext cx="1752480" cy="45720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518160" y="54705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水柱简体"/>
              </a:rPr>
              <a:t>广雅实验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水柱简体"/>
              </a:rPr>
              <a:t>李丽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3"/>
          <p:cNvPicPr/>
          <p:nvPr/>
        </p:nvPicPr>
        <p:blipFill>
          <a:blip r:embed="rId2"/>
          <a:srcRect l="0" t="0" r="-142" b="40"/>
          <a:stretch/>
        </p:blipFill>
        <p:spPr>
          <a:xfrm>
            <a:off x="0" y="0"/>
            <a:ext cx="2133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旧道德       新道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7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旧道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指孔子学说为代表的儒家传统道德。其核心内容是三纲五常（三纲指君为臣纲、父为子纲、夫为妻纲。五常通常指仁、义、礼、智、信）。历代统治者以此来束缚人们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7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7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道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指男女平等、个性解放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iDivid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33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OK"/>
          <p:cNvPicPr/>
          <p:nvPr/>
        </p:nvPicPr>
        <p:blipFill>
          <a:blip r:embed="rId2"/>
          <a:stretch/>
        </p:blipFill>
        <p:spPr>
          <a:xfrm>
            <a:off x="7391520" y="5726160"/>
            <a:ext cx="1752480" cy="113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旧文学        新文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2590920" y="25146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048120" y="42670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BOOK"/>
          <p:cNvPicPr/>
          <p:nvPr/>
        </p:nvPicPr>
        <p:blipFill>
          <a:blip r:embed="rId1"/>
          <a:stretch/>
        </p:blipFill>
        <p:spPr>
          <a:xfrm>
            <a:off x="7391520" y="5726160"/>
            <a:ext cx="1752480" cy="1131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555120" y="260676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革命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76320" y="4370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改良刍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666880" y="1903320"/>
            <a:ext cx="640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独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04f16"/>
                </a:solidFill>
                <a:latin typeface="Arial"/>
              </a:rPr>
              <a:t>主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推倒陈腐、雕琢、艰涩的旧文学</a:t>
            </a:r>
            <a:r>
              <a:rPr b="1" i="1" lang="zh-CN" sz="3200" spc="-1" strike="noStrike">
                <a:solidFill>
                  <a:srgbClr val="f04f16"/>
                </a:solidFill>
                <a:latin typeface="Arial"/>
              </a:rPr>
              <a:t>建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新鲜、平易、通俗的新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22720" y="4495680"/>
            <a:ext cx="40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00400" y="345600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胡     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04f16"/>
                </a:solidFill>
                <a:latin typeface="Arial"/>
              </a:rPr>
              <a:t>提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话文代替文言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04f16"/>
                </a:solidFill>
                <a:latin typeface="Arial"/>
              </a:rPr>
              <a:t>强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文章“须言之有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025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7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380880" y="1752480"/>
            <a:ext cx="4191120" cy="3581640"/>
          </a:xfrm>
          <a:prstGeom prst="rightArrowCallout">
            <a:avLst>
              <a:gd name="adj1" fmla="val 25002"/>
              <a:gd name="adj2" fmla="val 25000"/>
              <a:gd name="adj3" fmla="val 19503"/>
              <a:gd name="adj4" fmla="val 743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4724280" y="1828800"/>
            <a:ext cx="4114800" cy="3429000"/>
          </a:xfrm>
          <a:prstGeom prst="leftArrowCallout">
            <a:avLst>
              <a:gd name="adj1" fmla="val 25002"/>
              <a:gd name="adj2" fmla="val 25000"/>
              <a:gd name="adj3" fmla="val 20000"/>
              <a:gd name="adj4" fmla="val 743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92120" y="251460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民主、自由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等、博爱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想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06720" y="533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一背景：新旧思潮的激烈冲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867280" y="26002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民教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孔子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修身大本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24720" y="152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二新文化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58920" y="1052640"/>
          <a:ext cx="6842160" cy="5527440"/>
        </p:xfrm>
        <a:graphic>
          <a:graphicData uri="http://schemas.openxmlformats.org/drawingml/2006/table">
            <a:tbl>
              <a:tblPr/>
              <a:tblGrid>
                <a:gridCol w="3073320"/>
                <a:gridCol w="376884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时     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807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标      志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157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领袖人物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157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指导思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80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活动基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51" name="WordArt 25" descr=""/>
          <p:cNvPicPr/>
          <p:nvPr/>
        </p:nvPicPr>
        <p:blipFill>
          <a:blip r:embed="rId1"/>
          <a:stretch/>
        </p:blipFill>
        <p:spPr>
          <a:xfrm>
            <a:off x="5211720" y="1122480"/>
            <a:ext cx="1622520" cy="534960"/>
          </a:xfrm>
          <a:prstGeom prst="rect">
            <a:avLst/>
          </a:prstGeom>
          <a:ln w="0">
            <a:noFill/>
          </a:ln>
        </p:spPr>
      </p:pic>
      <p:pic>
        <p:nvPicPr>
          <p:cNvPr id="52" name="WordArt 26" descr=""/>
          <p:cNvPicPr/>
          <p:nvPr/>
        </p:nvPicPr>
        <p:blipFill>
          <a:blip r:embed="rId2"/>
          <a:stretch/>
        </p:blipFill>
        <p:spPr>
          <a:xfrm>
            <a:off x="4827600" y="1914480"/>
            <a:ext cx="265284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WordArt 27"/>
          <p:cNvSpPr txBox="1"/>
          <p:nvPr/>
        </p:nvSpPr>
        <p:spPr>
          <a:xfrm>
            <a:off x="4905360" y="4363920"/>
            <a:ext cx="2619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（前期）民权、平等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达尔文进化论</a:t>
            </a:r>
            <a:endParaRPr b="1" lang="en-US" sz="40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WordArt 28"/>
          <p:cNvSpPr txBox="1"/>
          <p:nvPr/>
        </p:nvSpPr>
        <p:spPr>
          <a:xfrm>
            <a:off x="5684760" y="5948280"/>
            <a:ext cx="1047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北大</a:t>
            </a:r>
            <a:endParaRPr b="1" lang="en-US" sz="40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WordArt 29"/>
          <p:cNvSpPr txBox="1"/>
          <p:nvPr/>
        </p:nvSpPr>
        <p:spPr>
          <a:xfrm>
            <a:off x="4361040" y="2851200"/>
            <a:ext cx="36669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陈独秀、李大钊</a:t>
            </a:r>
            <a:endParaRPr b="1" lang="en-US" sz="40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鲁迅、胡适</a:t>
            </a:r>
            <a:endParaRPr b="1" lang="en-US" sz="40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9640" y="301680"/>
            <a:ext cx="743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三、新文化运动的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195640" y="1413000"/>
            <a:ext cx="1047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前期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156360" y="1413000"/>
            <a:ext cx="1047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后期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79480" y="2117880"/>
            <a:ext cx="46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提倡民主与科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反对专制与愚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79480" y="3651120"/>
            <a:ext cx="32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提倡新道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反对旧道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00000" y="5091120"/>
            <a:ext cx="32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提倡新文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反对旧文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all3"/>
          <p:cNvPicPr/>
          <p:nvPr/>
        </p:nvPicPr>
        <p:blipFill>
          <a:blip r:embed="rId1"/>
          <a:stretch/>
        </p:blipFill>
        <p:spPr>
          <a:xfrm>
            <a:off x="477720" y="2492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all3"/>
          <p:cNvPicPr/>
          <p:nvPr/>
        </p:nvPicPr>
        <p:blipFill>
          <a:blip r:embed="rId2"/>
          <a:stretch/>
        </p:blipFill>
        <p:spPr>
          <a:xfrm>
            <a:off x="477720" y="400536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ball3"/>
          <p:cNvPicPr/>
          <p:nvPr/>
        </p:nvPicPr>
        <p:blipFill>
          <a:blip r:embed="rId3"/>
          <a:stretch/>
        </p:blipFill>
        <p:spPr>
          <a:xfrm>
            <a:off x="468360" y="5445000"/>
            <a:ext cx="133200" cy="133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5584680" y="2155680"/>
            <a:ext cx="317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马克思主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思想广泛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619280" y="2286000"/>
            <a:ext cx="7524720" cy="119124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6a6a45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600" spc="-1" strike="noStrike">
                <a:solidFill>
                  <a:srgbClr val="99cc00"/>
                </a:solidFill>
                <a:latin typeface="创艺简魏碑"/>
                <a:ea typeface="创艺简魏碑"/>
              </a:rPr>
              <a:t>“</a:t>
            </a:r>
            <a:r>
              <a:rPr b="1" lang="zh-CN" sz="3600" spc="-1" strike="noStrike">
                <a:solidFill>
                  <a:srgbClr val="99cc00"/>
                </a:solidFill>
                <a:latin typeface="创艺简魏碑"/>
                <a:ea typeface="创艺简魏碑"/>
              </a:rPr>
              <a:t>西洋人因为拥护德、赛两先生，闹了多少事，流了多少血，德、赛两先生才渐渐从黑暗中把他们救出，引到光明世界。我们现在认定只有这两位先生，可以救治中国政治上、道德上、艺术上、思想上一切的黑暗。”</a:t>
            </a: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创艺简魏碑"/>
              </a:rPr>
              <a:t>—</a:t>
            </a:r>
            <a:r>
              <a:rPr b="1" lang="zh-CN" sz="3600" spc="-1" strike="noStrike">
                <a:solidFill>
                  <a:srgbClr val="99cc00"/>
                </a:solidFill>
                <a:latin typeface="创艺简魏碑"/>
                <a:ea typeface="创艺简魏碑"/>
              </a:rPr>
              <a:t>陈独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创艺简魏碑"/>
                <a:ea typeface="创艺简魏碑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784520" y="3438360"/>
            <a:ext cx="6902280" cy="16480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EMOCRACY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民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CIENCE--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科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tilde14"/>
          <p:cNvPicPr/>
          <p:nvPr/>
        </p:nvPicPr>
        <p:blipFill>
          <a:blip r:embed="rId1"/>
          <a:stretch/>
        </p:blipFill>
        <p:spPr>
          <a:xfrm>
            <a:off x="-152280" y="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308600" y="1278000"/>
            <a:ext cx="691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对于新文化运动：有人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它是中国近代史上一次空前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思想解放运动，也有人说它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有很大的历史局限性。你认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怎样评价这场运动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1111"/>
                </a:solidFill>
                <a:latin typeface="隶书"/>
                <a:ea typeface="隶书"/>
              </a:rPr>
              <a:t>四、新文化运动的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360" y="838080"/>
            <a:ext cx="857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积极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动摇了封建思想的统治地位，使人们思想得到空前解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民主和科学的思想得到弘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对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四运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爆发起了宣传动员作用，作了思想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后期传 播了社会主义思想、成为中国先进的知识分子拯救国家、改造社会的思想武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79520" y="4981680"/>
            <a:ext cx="706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局限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没有同群众运动相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对东西文化的态度片面化、绝对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304920" y="76320"/>
            <a:ext cx="8534160" cy="18288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材补充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袁世凯的专制统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6_10"/>
          <p:cNvPicPr/>
          <p:nvPr/>
        </p:nvPicPr>
        <p:blipFill>
          <a:blip r:embed="rId1"/>
          <a:stretch/>
        </p:blipFill>
        <p:spPr>
          <a:xfrm>
            <a:off x="2563920" y="1828800"/>
            <a:ext cx="376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新青年"/>
          <p:cNvPicPr/>
          <p:nvPr/>
        </p:nvPicPr>
        <p:blipFill>
          <a:blip r:embed="rId1"/>
          <a:stretch/>
        </p:blipFill>
        <p:spPr>
          <a:xfrm>
            <a:off x="609480" y="457200"/>
            <a:ext cx="8128080" cy="5950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681120" y="746280"/>
            <a:ext cx="79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阵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地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041"/>
          <p:cNvPicPr/>
          <p:nvPr/>
        </p:nvPicPr>
        <p:blipFill>
          <a:blip r:embed="rId1"/>
          <a:stretch/>
        </p:blipFill>
        <p:spPr>
          <a:xfrm>
            <a:off x="0" y="0"/>
            <a:ext cx="8964720" cy="670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4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049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632448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43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40:3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