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AA1-A67B-4A35-A07F-79A5EE71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535-2D93-4BD5-86EC-82E2ABF0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126-15C6-4940-80E3-64006DF3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D88-640B-4136-9E33-9F23426F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63B-4B29-486D-8D8B-146EFBDF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5B5-D47B-4F59-B94C-B9BD2F7E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803-F1EA-41A7-81C0-225A4D33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7F4-0F60-4F66-85EB-3EEDF0A5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D7E-24C3-4712-A145-C583B567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365-65F7-44C6-BEFA-10C732EB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C5A-56A9-4D8D-982E-DD4A219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03B-1CDA-4108-81C6-F1B931C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DD05-6CFE-488B-8536-5040F5AB4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132000" y="1052640"/>
            <a:ext cx="126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á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059280" y="162864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916360" y="16304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134680" y="981000"/>
            <a:ext cx="11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219640" y="155880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003640" y="15588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556000" y="5013360"/>
            <a:ext cx="28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木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195640" y="16304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B0201"/>
          <p:cNvPicPr/>
          <p:nvPr/>
        </p:nvPicPr>
        <p:blipFill>
          <a:blip r:embed="rId1"/>
          <a:srcRect l="0" t="0" r="88" b="0"/>
          <a:stretch/>
        </p:blipFill>
        <p:spPr>
          <a:xfrm>
            <a:off x="755640" y="2708280"/>
            <a:ext cx="43196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32000" y="155736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ú  p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939760" y="155736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é 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019840" y="4869000"/>
            <a:ext cx="33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uà  zhōng  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48920" y="328464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iǎng  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949840" y="3284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 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838880" y="494172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ǜ  yóu  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24360" y="1557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508720" y="3213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shù  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5280" y="2276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竹  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2987640" y="2276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禾  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96000" y="2205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539640" y="4076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  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059280" y="4005360"/>
            <a:ext cx="194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508720" y="4005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692360" y="558972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绿  油  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076720" y="555768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画   中   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755640" y="260280"/>
            <a:ext cx="259236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68360" y="2205000"/>
            <a:ext cx="821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iǎo xiǎo zhú pái huà zhōng y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9640" y="315900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小  小  竹  排  画  中  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92720" y="314172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Arial"/>
                <a:ea typeface="楷体_GB2312"/>
              </a:rPr>
              <a:t>画  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1908000" y="54612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iǎo  zhú  pái     shùn  shuǐ li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835280" y="534348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iǎo  xiǎo  zhú   pái   huà  zhōng  y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411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iǎo  er  chàng    yú    er   y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979640" y="22748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liǎng  à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shù   mù    m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124000" y="335448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hé   miáo  lǜ   yóu   y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908000" y="42908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āng  nán  yú   mǐ  xi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2052720" y="9064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 竹  排，  顺   水  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1979640" y="1773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鸟 儿   唱，鱼   儿   游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2124000" y="258120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两  岸  树   木  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836720" y="3745080"/>
            <a:ext cx="50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禾  苗   绿   油  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2050920" y="468144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江  南  鱼  米   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1514520" y="5680080"/>
            <a:ext cx="74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   小  竹  排    画  中   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pai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pai3"/>
          <p:cNvPicPr/>
          <p:nvPr/>
        </p:nvPicPr>
        <p:blipFill>
          <a:blip r:embed="rId2"/>
          <a:stretch/>
        </p:blipFill>
        <p:spPr>
          <a:xfrm>
            <a:off x="3132000" y="3789360"/>
            <a:ext cx="3108600" cy="1627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692360" y="981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211640" y="90792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300720" y="98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油   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276720" y="386064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两  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547640" y="207972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  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050920" y="299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6659640" y="57340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禾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534000" y="51577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é 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1908000" y="2565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1359000" y="1628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 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>
            <a:off x="1547640" y="54936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2991600" y="342576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iǎng 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6156360" y="4046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宋体"/>
              </a:rPr>
              <a:t>lǜ  yóu  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4211640" y="33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宋体"/>
              </a:rPr>
              <a:t>lǜ  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5302080"/>
            <a:ext cx="69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692360" y="981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11640" y="90792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300720" y="98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油   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276720" y="386064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两  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547640" y="207972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  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050920" y="299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659640" y="57340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禾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534000" y="51577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é 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908000" y="2565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m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1359000" y="1628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 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547640" y="54936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hù  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991600" y="342576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iǎng 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6221880" y="40464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宋体"/>
              </a:rPr>
              <a:t>lǜ  yóu  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211640" y="33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宋体"/>
              </a:rPr>
              <a:t>lǜ  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692360" y="981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211640" y="90792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300720" y="98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楷体_GB2312"/>
              </a:rPr>
              <a:t>绿  油   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76720" y="386064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两  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547640" y="207972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  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050920" y="299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树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59640" y="57340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禾  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0"/>
          <p:cNvSpPr/>
          <p:nvPr/>
        </p:nvSpPr>
        <p:spPr>
          <a:xfrm>
            <a:off x="395280" y="2276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竹  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987640" y="2276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禾  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796000" y="2205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39640" y="4076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  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059280" y="4005360"/>
            <a:ext cx="194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508720" y="4005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树  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1692360" y="558972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绿  油  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5076720" y="555768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画   中   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755640" y="260280"/>
            <a:ext cx="259236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h84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258920" y="765000"/>
            <a:ext cx="4897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竹排画中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竹排，顺水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儿唱，鱼儿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岸树木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禾苗绿油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南鱼米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竹排画中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mid03.mid" descr=""/>
          <p:cNvPicPr/>
          <p:nvPr/>
        </p:nvPicPr>
        <p:blipFill>
          <a:blip r:embed="rId2"/>
          <a:stretch/>
        </p:blipFill>
        <p:spPr>
          <a:xfrm>
            <a:off x="8028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6"/>
          <p:cNvSpPr/>
          <p:nvPr/>
        </p:nvSpPr>
        <p:spPr>
          <a:xfrm>
            <a:off x="7236000" y="4581360"/>
            <a:ext cx="1568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0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692360" y="77760"/>
            <a:ext cx="5029200" cy="66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江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江  南  可  采  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莲  叶  何  田  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  戏  莲  叶  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932360" y="765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á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932360" y="2349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ji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ā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211640" y="765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3:01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8:06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