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6D4-1BA4-467F-B7B6-11D9A97E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B14-2B41-4F33-B038-37F48586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EFEB-C72E-4BD9-92D7-F1DDD45D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C015-1C47-4729-9FA7-F8F749EE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066FF-899F-477C-BCF4-739C781B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5712C-1E03-435F-B6F9-BBD7EF82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B608F-E727-439E-919F-B85C83D8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60279-2293-48EF-8909-F82CF4EB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BC492-F2D1-4956-A29E-B0AC6BC6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E11AD-9CAC-4F16-AEC6-B8A967E2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94B43-1615-4EB6-B63F-B1C93543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54D-1392-4FA3-BF74-92A39FE2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B451B-0C3B-4D2B-88BD-D1D93FFF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8A540-995B-413A-9423-BD95BD49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0C42B-F62A-4293-B6D7-082D4BCA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10AF5-B035-426D-9BAF-7DC01453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48D7F-B691-4E42-80F7-201BBEF3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6F01F-0340-4BE7-A90B-2DB5BEBE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B70DF-C25A-4A75-BD02-F26051FD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8A871-727C-4B82-8D5E-0E043395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0F54C-C4AF-42BD-81BD-E1B9648D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B74A0-D5CE-4EA8-8189-399BB6D6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8348-33DA-4021-825C-8F293705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D62AD-6797-49DA-AB30-434153EB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867C0-6AFE-472C-AD57-00A1B403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40019-CC66-4888-ACD6-D228171E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37F15-469D-4721-B920-618F46A0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2AE52-F61D-489D-89C0-E8F03FC7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6416B-BF94-4FD3-8E50-A211724E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E1DC8-F11F-4B9E-8155-D1DE8613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2B5-C213-48BC-8015-279BD3F7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61BD-5EF9-4561-9A3A-B5B6E6A7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B81D-F321-49BC-A140-BF62FD6B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4BB7-6100-46F1-8DF8-0B79CE13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518C-46E3-476E-BDBC-CBA1E4FE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19F7-EEB6-42C5-AD45-2FB062D9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6D4E-A3F6-4ABE-8174-5457CF927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8B22-D7C3-47D6-940C-0CF4FBEC5A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AC8B-16C0-4D71-B792-5E1D76C75B4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4B69-9EB9-4AE3-8424-86750573A1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6"/>
          <p:cNvSpPr/>
          <p:nvPr/>
        </p:nvSpPr>
        <p:spPr>
          <a:xfrm>
            <a:off x="3352680" y="441972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图片6"/>
          <p:cNvPicPr/>
          <p:nvPr/>
        </p:nvPicPr>
        <p:blipFill>
          <a:blip r:embed="rId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3"/>
          <p:cNvSpPr txBox="1"/>
          <p:nvPr/>
        </p:nvSpPr>
        <p:spPr>
          <a:xfrm>
            <a:off x="324000" y="836640"/>
            <a:ext cx="446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小熊住山洞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36" name="Picture 4" descr="50"/>
          <p:cNvPicPr/>
          <p:nvPr/>
        </p:nvPicPr>
        <p:blipFill>
          <a:blip r:embed="rId15"/>
          <a:stretch/>
        </p:blipFill>
        <p:spPr>
          <a:xfrm flipH="1" rot="1367400">
            <a:off x="279360" y="2560320"/>
            <a:ext cx="2448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5"/>
          <p:cNvSpPr txBox="1"/>
          <p:nvPr/>
        </p:nvSpPr>
        <p:spPr>
          <a:xfrm>
            <a:off x="395280" y="328680"/>
            <a:ext cx="31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说话练习</a:t>
            </a:r>
            <a:endParaRPr b="1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0720" y="1739880"/>
            <a:ext cx="85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春天，如果砍掉了小树 ，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450720" y="2670120"/>
            <a:ext cx="85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夏天，如果砍掉了小树 ，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50720" y="3602160"/>
            <a:ext cx="85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秋天，如果砍掉了小树 ，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50720" y="4533840"/>
            <a:ext cx="85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冬天，如果砍掉了小树 ，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说一说"/>
          <p:cNvPicPr/>
          <p:nvPr/>
        </p:nvPicPr>
        <p:blipFill>
          <a:blip r:embed="rId2"/>
          <a:stretch/>
        </p:blipFill>
        <p:spPr>
          <a:xfrm>
            <a:off x="7524720" y="5300640"/>
            <a:ext cx="13874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5"/>
          <p:cNvSpPr txBox="1"/>
          <p:nvPr/>
        </p:nvSpPr>
        <p:spPr>
          <a:xfrm>
            <a:off x="2124000" y="476280"/>
            <a:ext cx="31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想一想：</a:t>
            </a:r>
            <a:endParaRPr b="1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684360" y="249228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楷体_GB2312"/>
              </a:rPr>
              <a:t>动物给小熊送鲜花时会说些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我会猜"/>
          <p:cNvPicPr/>
          <p:nvPr/>
        </p:nvPicPr>
        <p:blipFill>
          <a:blip r:embed="rId2"/>
          <a:stretch/>
        </p:blipFill>
        <p:spPr>
          <a:xfrm>
            <a:off x="179280" y="54000"/>
            <a:ext cx="1619280" cy="15033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304920" y="4876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Frame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1080" y="1223640"/>
            <a:ext cx="6985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5000" spc="-1" strike="noStrike">
                <a:solidFill>
                  <a:srgbClr val="ff0000"/>
                </a:solidFill>
                <a:latin typeface="黑体"/>
                <a:ea typeface="黑体"/>
              </a:rPr>
              <a:t>作业</a:t>
            </a:r>
            <a:r>
              <a:rPr b="0" lang="en-US" sz="50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br>
              <a:rPr sz="50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(1)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画画你心目中的大森林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在上面写上你想说的话。</a:t>
            </a:r>
            <a:br>
              <a:rPr sz="2400"/>
            </a:br>
            <a:br>
              <a:rPr sz="24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(2)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实践活动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“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保护环境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从我做起”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为校园的花草树木做点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我会猜"/>
          <p:cNvPicPr/>
          <p:nvPr/>
        </p:nvPicPr>
        <p:blipFill>
          <a:blip r:embed="rId2"/>
          <a:stretch/>
        </p:blipFill>
        <p:spPr>
          <a:xfrm>
            <a:off x="1085760" y="966960"/>
            <a:ext cx="144000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m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379440" y="17985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6600"/>
                </a:solidFill>
                <a:latin typeface="Arial"/>
              </a:rPr>
              <a:t>kǎn  z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à</a:t>
            </a:r>
            <a:r>
              <a:rPr b="0" lang="en-US" sz="4800" spc="-1" strike="noStrike">
                <a:solidFill>
                  <a:srgbClr val="006600"/>
                </a:solidFill>
                <a:latin typeface="Arial"/>
              </a:rPr>
              <a:t>o  mǎn   shě    ji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砍    造     满     舍    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6600"/>
                </a:solidFill>
                <a:latin typeface="Arial"/>
              </a:rPr>
              <a:t>ni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á</a:t>
            </a:r>
            <a:r>
              <a:rPr b="0" lang="en-US" sz="4800" spc="-1" strike="noStrike">
                <a:solidFill>
                  <a:srgbClr val="006600"/>
                </a:solidFill>
                <a:latin typeface="Arial"/>
              </a:rPr>
              <a:t>n   zhí  dòng  shù    l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年    直     动      束    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我会读pic_227543"/>
          <p:cNvPicPr/>
          <p:nvPr/>
        </p:nvPicPr>
        <p:blipFill>
          <a:blip r:embed="rId3"/>
          <a:stretch/>
        </p:blipFill>
        <p:spPr>
          <a:xfrm>
            <a:off x="0" y="0"/>
            <a:ext cx="1692360" cy="13874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1835280" y="404640"/>
            <a:ext cx="38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我会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755640" y="4365720"/>
            <a:ext cx="7058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小熊一家住在山洞里。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14240" y="5027760"/>
            <a:ext cx="70581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熊爸爸对小熊说：“我们去砍些树，造一间木头房子住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4005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684360" y="443700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春天，他们走进森林。树上长满了绿叶，小熊舍不得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3"/>
          <p:cNvPicPr/>
          <p:nvPr/>
        </p:nvPicPr>
        <p:blipFill>
          <a:blip r:embed="rId2"/>
          <a:stretch/>
        </p:blipFill>
        <p:spPr>
          <a:xfrm>
            <a:off x="0" y="-100080"/>
            <a:ext cx="9144000" cy="51548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900000" y="508464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夏天，他们走进森林。树上开满了花儿，小熊舍不得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900000" y="515628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秋天，他们走进森林。树上结满了果子，小熊舍不得砍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900000" y="489888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冬天，他们走进森林。树上有许多鸟儿，小熊舍不得砍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5"/>
          <p:cNvPicPr/>
          <p:nvPr/>
        </p:nvPicPr>
        <p:blipFill>
          <a:blip r:embed="rId2"/>
          <a:stretch/>
        </p:blipFill>
        <p:spPr>
          <a:xfrm>
            <a:off x="0" y="0"/>
            <a:ext cx="91440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4019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324000" y="394812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一年又一年，他们没有砍树造房子，一直住在山洞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66760" y="52293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森林里的动物都很感激小熊一家，给他们送来一束束美丽的鲜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5"/>
          <p:cNvPicPr/>
          <p:nvPr/>
        </p:nvPicPr>
        <p:blipFill>
          <a:blip r:embed="rId1"/>
          <a:srcRect l="16685" t="0" r="20997" b="0"/>
          <a:stretch/>
        </p:blipFill>
        <p:spPr>
          <a:xfrm>
            <a:off x="4627440" y="3508200"/>
            <a:ext cx="4426200" cy="3278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4"/>
          <p:cNvPicPr/>
          <p:nvPr/>
        </p:nvPicPr>
        <p:blipFill>
          <a:blip r:embed="rId2"/>
          <a:srcRect l="9374" t="0" r="17060" b="0"/>
          <a:stretch/>
        </p:blipFill>
        <p:spPr>
          <a:xfrm>
            <a:off x="68400" y="3494160"/>
            <a:ext cx="4425840" cy="3278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3"/>
          <p:cNvPicPr/>
          <p:nvPr/>
        </p:nvPicPr>
        <p:blipFill>
          <a:blip r:embed="rId3"/>
          <a:srcRect l="7968" t="0" r="15898" b="0"/>
          <a:stretch/>
        </p:blipFill>
        <p:spPr>
          <a:xfrm>
            <a:off x="4629240" y="42840"/>
            <a:ext cx="4427280" cy="3278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2"/>
          <p:cNvPicPr/>
          <p:nvPr/>
        </p:nvPicPr>
        <p:blipFill>
          <a:blip r:embed="rId4"/>
          <a:srcRect l="19873" t="0" r="21185" b="0"/>
          <a:stretch/>
        </p:blipFill>
        <p:spPr>
          <a:xfrm>
            <a:off x="77760" y="71280"/>
            <a:ext cx="4425840" cy="327852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6"/>
          <p:cNvGrpSpPr/>
          <p:nvPr/>
        </p:nvGrpSpPr>
        <p:grpSpPr>
          <a:xfrm>
            <a:off x="3535200" y="2319480"/>
            <a:ext cx="2044800" cy="1728720"/>
            <a:chOff x="3535200" y="2319480"/>
            <a:chExt cx="2044800" cy="1728720"/>
          </a:xfrm>
        </p:grpSpPr>
        <p:sp>
          <p:nvSpPr>
            <p:cNvPr id="160" name="Rectangle 7"/>
            <p:cNvSpPr/>
            <p:nvPr/>
          </p:nvSpPr>
          <p:spPr>
            <a:xfrm>
              <a:off x="3535200" y="2319480"/>
              <a:ext cx="2044800" cy="17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8"/>
            <p:cNvGrpSpPr/>
            <p:nvPr/>
          </p:nvGrpSpPr>
          <p:grpSpPr>
            <a:xfrm>
              <a:off x="3651120" y="2369880"/>
              <a:ext cx="1870560" cy="1627560"/>
              <a:chOff x="3651120" y="2369880"/>
              <a:chExt cx="1870560" cy="1627560"/>
            </a:xfrm>
          </p:grpSpPr>
          <p:sp>
            <p:nvSpPr>
              <p:cNvPr id="162" name="WordArt 9"/>
              <p:cNvSpPr txBox="1"/>
              <p:nvPr/>
            </p:nvSpPr>
            <p:spPr>
              <a:xfrm>
                <a:off x="4703760" y="2369880"/>
                <a:ext cx="817920" cy="674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宋体"/>
                  </a:rPr>
                  <a:t>夏</a:t>
                </a:r>
                <a:endPara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163" name="WordArt 10"/>
              <p:cNvSpPr txBox="1"/>
              <p:nvPr/>
            </p:nvSpPr>
            <p:spPr>
              <a:xfrm>
                <a:off x="3651120" y="2369880"/>
                <a:ext cx="817920" cy="674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宋体"/>
                  </a:rPr>
                  <a:t>春</a:t>
                </a:r>
                <a:endPara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164" name="WordArt 11"/>
              <p:cNvSpPr txBox="1"/>
              <p:nvPr/>
            </p:nvSpPr>
            <p:spPr>
              <a:xfrm>
                <a:off x="3651120" y="3322800"/>
                <a:ext cx="817920" cy="674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宋体"/>
                  </a:rPr>
                  <a:t>秋</a:t>
                </a:r>
                <a:endPara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165" name="WordArt 12"/>
              <p:cNvSpPr txBox="1"/>
              <p:nvPr/>
            </p:nvSpPr>
            <p:spPr>
              <a:xfrm>
                <a:off x="4644360" y="3262320"/>
                <a:ext cx="817920" cy="674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宋体"/>
                  </a:rPr>
                  <a:t>冬</a:t>
                </a:r>
                <a:endPara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7:03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4:17:03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