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10E-A8D0-4C27-85C3-C51C9657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D48-2AB9-4B2B-B667-A4A33676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43C-D39A-47D6-B777-D7770E1F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948-80D7-4128-B769-06277D63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6E61-19A5-4649-9E64-76C16675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88E0E-6AC4-49A6-8489-BA70F53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193C-A7F5-4070-A1E7-CA2CB74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4CBE8-789B-477F-A986-DA4C166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6B87-8618-4550-B2AE-0FD8929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CE2B3-5105-4B48-BCE0-762A48E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3F9F6-E014-4EB3-95C7-180049C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6C8-C6BE-4A4A-978B-0F0535C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EB86C-F3F3-42FE-84C6-0164D43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A5B86-0330-4906-B995-355CE17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44AB1-BDCE-424C-8CF0-C5248232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892F9-A2BB-42E6-BC24-5281CF5A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F7F27-0EFC-4DB0-A917-59F7FA36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170-2F6E-4B9C-B930-11C9C7D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0BA-8393-4215-B279-BA60C9D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636-302A-45F0-A668-542FDF5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71F-00DB-41F4-85E4-43536BA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D38-251C-4F53-BAE2-A4858D7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7DB-51B4-4060-A210-DF20B02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E5E-DFEC-4410-AAB0-5ACC7982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1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817-6E4E-43D7-815A-B40B9F335D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9A3-095C-439D-A629-04583D66E8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欢迎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名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总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讨论所讲述的主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申欢迎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提醒需要上交文书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要讲述的主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历史和远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要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政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福利评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绩回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需的文书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4360" y="6454800"/>
            <a:ext cx="705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ffcc"/>
                </a:solidFill>
                <a:uFillTx/>
                <a:latin typeface="Times New Roman"/>
                <a:hlinkClick r:id="rId3"/>
              </a:rPr>
              <a:t>企业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qi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公司历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创建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远景和合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陈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的产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主题可能需要多张幻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重要任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出公司的重要管理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处可以应用组织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公司政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调最重要的政策并进行评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论公司的上班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公司对员工的期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发公司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主题可能需要多张幻灯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福利评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牙医选择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休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病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身保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退休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机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福利有效范围的详细说明可能需要专门开会进行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成绩回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顾的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顾的频率和时间安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概述回顾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发并评述各种表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其他资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政策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各个区域的联系人姓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必需的书面工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述需要立即填写的表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新员工提供完成书面工作的时间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7:05:5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1:1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LCID">
    <vt:r8>2052</vt:r8>
  </property>
</Properties>
</file>