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BCF-1A9D-43A8-AEEF-022641AD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449-EC76-4671-8717-5C4D56DC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BD9-A8D3-42CA-9C86-81443891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6CD-7A45-48CE-88A9-7BE8308D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81F2-8E28-45CA-896B-71E47A4A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449F-CD9E-4383-AD78-C8F56491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5B43-FD80-486A-A264-776A1EB5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513A-9B14-4106-8596-C6542E0A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85CC-76BA-499E-A0E3-33E5E1C6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4F41-9624-4616-89DD-EC1B13CC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0774-59BF-4F84-B48F-60340202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AC9-6892-49FB-B12A-20F5A721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27EA-DD9D-4933-9D5D-33BC557B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16B0-39BC-43D1-9F18-7CEECAC3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7B98-CEC1-4A5C-A8CA-B13CED8D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156A-732E-4EB0-B1FE-76B4AC10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2922-8188-4BB5-8569-015DFDB1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CDA-7420-4FA0-B46E-98A103CC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8B0-4D54-4645-BAA5-A535F7EA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40D-5DB6-4B48-93AE-95FC3704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D1F-3DF0-4E1A-9BE0-BAD55AEC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23A-2247-4745-9C11-2825A729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5ED-9064-4AC9-AB14-498C7AA7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D605-1AAB-4AB4-B7A9-AE35E40A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A1F7-8A59-4ABE-8BBD-F65EAD7B82FE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70DA-4E8E-4CFF-A2C5-DA2C46C3FCA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3893-A8DC-462A-B2DD-5A5CF69F02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in.hongdou.com.cn/down/200482016411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9" name="20056291175919811.mid" descr=""/>
          <p:cNvPicPr/>
          <p:nvPr/>
        </p:nvPicPr>
        <p:blipFill>
          <a:blip r:embed="rId2"/>
          <a:stretch/>
        </p:blipFill>
        <p:spPr>
          <a:xfrm>
            <a:off x="78487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:\Emily\tupian\washing.gif"/>
          <p:cNvPicPr/>
          <p:nvPr/>
        </p:nvPicPr>
        <p:blipFill>
          <a:blip r:embed="rId1"/>
          <a:stretch/>
        </p:blipFill>
        <p:spPr>
          <a:xfrm>
            <a:off x="1143000" y="685800"/>
            <a:ext cx="4876920" cy="3789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014120" y="4648320"/>
            <a:ext cx="81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is he going to do tomorrow evening 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32520" y="5486400"/>
            <a:ext cx="61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He is going to do some wash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" y="609480"/>
          <a:ext cx="8610480" cy="3780000"/>
        </p:xfrm>
        <a:graphic>
          <a:graphicData uri="http://schemas.openxmlformats.org/drawingml/2006/table">
            <a:tbl>
              <a:tblPr/>
              <a:tblGrid>
                <a:gridCol w="2209680"/>
                <a:gridCol w="2133720"/>
                <a:gridCol w="2133720"/>
                <a:gridCol w="21333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ay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hat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here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Monday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lay volleyball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fter school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t school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uesday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Read a book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1:0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t home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ednesday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ave supper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9:0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t hom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29"/>
          <p:cNvSpPr/>
          <p:nvPr/>
        </p:nvSpPr>
        <p:spPr>
          <a:xfrm>
            <a:off x="829440" y="4419720"/>
            <a:ext cx="68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What’s she going to do on …(Monday)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Where is she going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When is she going ther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s she going to …?   Who is going to …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52280" y="882720"/>
          <a:ext cx="8724960" cy="4755960"/>
        </p:xfrm>
        <a:graphic>
          <a:graphicData uri="http://schemas.openxmlformats.org/drawingml/2006/table">
            <a:tbl>
              <a:tblPr/>
              <a:tblGrid>
                <a:gridCol w="1981080"/>
                <a:gridCol w="2514600"/>
                <a:gridCol w="2095560"/>
                <a:gridCol w="2133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hursday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raw a pictur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3:00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the office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riday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o homework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:30—9:00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the r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aturday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ke up the mountain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ll day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Near the field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unday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ave a rest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the afternoon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her bedroom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52280" y="198360"/>
          <a:ext cx="8724960" cy="639720"/>
        </p:xfrm>
        <a:graphic>
          <a:graphicData uri="http://schemas.openxmlformats.org/drawingml/2006/table">
            <a:tbl>
              <a:tblPr/>
              <a:tblGrid>
                <a:gridCol w="1981080"/>
                <a:gridCol w="2476800"/>
                <a:gridCol w="2133360"/>
                <a:gridCol w="2133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ay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hat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hen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here 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09480" y="-42840"/>
            <a:ext cx="85345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-How are they ____to ___there tomorrow?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 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__By bus.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A. go, going   B. getting, go   C. going, get D. get, going 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（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He is going _____ early tomorrow afternoon.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A. to go there B. to come here C. go there D. there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（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he students are going ___their first field trip.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　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A. in B. to C. at D. on 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85640" y="304920"/>
            <a:ext cx="8201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-____ are you going to do this morning?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-I'm to do some reading.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A. How     B. What     C. When     D. be 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（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here is going to _____ a game in our class. </a:t>
            </a: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A. have      B. is     C. has        D. be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Why don't ____with your teacher?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A. going hiking  B. to going hiking C. go hiking     D. going hik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80880" y="3049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It is ______tomorrow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A. rain B. rainy C. going to rain D. rains</a:t>
            </a:r>
            <a:br>
              <a:rPr sz="3600"/>
            </a:b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Going to have a party _____more fun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A. going to B. is going to C. is going to be D. is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80880" y="525600"/>
            <a:ext cx="80010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There are a lot of coats in the shopping window.I think I am going to buy _____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A .the green one .B. green one. C .the green ones D. those green ones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Let's discuss how____ going there.                          A. are we B. we are C. we do D. do w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28600" y="380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1.They are going to play basketball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tomorrow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40480" y="1066680"/>
            <a:ext cx="821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2.They are going to go boating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the day after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tomorrow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31480" y="2286000"/>
            <a:ext cx="77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3.He is going to go fishing next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Monday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31120" y="3016080"/>
            <a:ext cx="77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4.She is going to go shopping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next week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673000" y="4159080"/>
            <a:ext cx="412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一般将来是通常用来表示将要发生的事情或是计划做某事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它一般与表示将来的时间连用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它的基本形式有：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be going to +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动词的原形组成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597600" y="879480"/>
            <a:ext cx="7948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1.She goes to school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everyday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2.I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often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play basketball on Monday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Sometimes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they go home by bu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4. He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always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reads a book at the weekend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479240" y="31680"/>
            <a:ext cx="23752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这学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点名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准时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教师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带上最美好的祝愿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过得快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作报告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在课上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有个好主意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不得不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不再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浪费时间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57960" y="0"/>
            <a:ext cx="453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his tim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call one’s nam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on tim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eachers’ Day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with one’s best wishe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have fun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give a talk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in clas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have a good idea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have to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not…any mor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a waste of time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:\Emily\tupian\basketball match.jpg"/>
          <p:cNvPicPr/>
          <p:nvPr/>
        </p:nvPicPr>
        <p:blipFill>
          <a:blip r:embed="rId1"/>
          <a:stretch/>
        </p:blipFill>
        <p:spPr>
          <a:xfrm>
            <a:off x="380880" y="685800"/>
            <a:ext cx="3200400" cy="4800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809880" y="126036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are they going to do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next Monda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023000" y="2635200"/>
            <a:ext cx="44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They are going to play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basketball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220040" y="244440"/>
            <a:ext cx="1826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谈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全名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姓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名字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与。。。不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例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简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。。。的意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为某人买某物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做卡片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想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102200" y="196920"/>
            <a:ext cx="3530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alk about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full name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family nam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given nam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be different from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for exampl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be short for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he meaning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buy sth. for sb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make a card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hink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036080" y="549360"/>
            <a:ext cx="1826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后天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。。。的顶端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作某时很费力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太多的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走错路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绊倒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快点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观看足球赛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购物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编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171600" y="577800"/>
            <a:ext cx="5969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he day after tomorrow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he top of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have some problems doing sth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oo many / too much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go the wrong way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rip over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hurry up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watch a football match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do some shopping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make up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1042920"/>
            <a:ext cx="3429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即将到来的郊游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把。。。带上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离。。。远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026960" y="789120"/>
            <a:ext cx="415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he coming field trip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take with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be far from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4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Emily\tupian\football match.jpg"/>
          <p:cNvPicPr/>
          <p:nvPr/>
        </p:nvPicPr>
        <p:blipFill>
          <a:blip r:embed="rId1"/>
          <a:stretch/>
        </p:blipFill>
        <p:spPr>
          <a:xfrm>
            <a:off x="1219320" y="457200"/>
            <a:ext cx="4952880" cy="3222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826560" y="4194000"/>
            <a:ext cx="70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are they going to do tomorrow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74640" y="5149800"/>
            <a:ext cx="59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They are going to play football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Emily\tupian\go boating.jpg"/>
          <p:cNvPicPr/>
          <p:nvPr/>
        </p:nvPicPr>
        <p:blipFill>
          <a:blip r:embed="rId1"/>
          <a:stretch/>
        </p:blipFill>
        <p:spPr>
          <a:xfrm>
            <a:off x="1676520" y="838080"/>
            <a:ext cx="4647960" cy="316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055520" y="4540320"/>
            <a:ext cx="76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are they going to do next Monda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78480" y="5530680"/>
            <a:ext cx="55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They are going to go boat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:\Emily\tupian\go fishing.jpg"/>
          <p:cNvPicPr/>
          <p:nvPr/>
        </p:nvPicPr>
        <p:blipFill>
          <a:blip r:embed="rId1"/>
          <a:stretch/>
        </p:blipFill>
        <p:spPr>
          <a:xfrm>
            <a:off x="1981080" y="990720"/>
            <a:ext cx="4953240" cy="3632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360440" y="4768920"/>
            <a:ext cx="69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is he going to do next holida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281960" y="5607000"/>
            <a:ext cx="48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He is going to go fish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:\Emily\tupian\go for a picnic.jpg"/>
          <p:cNvPicPr/>
          <p:nvPr/>
        </p:nvPicPr>
        <p:blipFill>
          <a:blip r:embed="rId1"/>
          <a:stretch/>
        </p:blipFill>
        <p:spPr>
          <a:xfrm>
            <a:off x="1600200" y="914400"/>
            <a:ext cx="6426360" cy="3646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284480" y="4921200"/>
            <a:ext cx="71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are they going to do next week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132200" y="5683320"/>
            <a:ext cx="60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They are going to have a picnic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:\Emily\tupian\go hiking.jpg"/>
          <p:cNvPicPr/>
          <p:nvPr/>
        </p:nvPicPr>
        <p:blipFill>
          <a:blip r:embed="rId1"/>
          <a:stretch/>
        </p:blipFill>
        <p:spPr>
          <a:xfrm>
            <a:off x="2057400" y="914400"/>
            <a:ext cx="4568760" cy="3365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57320" y="4464000"/>
            <a:ext cx="90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is she going to do the day after tomorrow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368000" y="5378400"/>
            <a:ext cx="487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She is going to go hik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D:\Emily\tupian\go shopping.bmp"/>
          <p:cNvPicPr/>
          <p:nvPr/>
        </p:nvPicPr>
        <p:blipFill>
          <a:blip r:embed="rId1"/>
          <a:stretch/>
        </p:blipFill>
        <p:spPr>
          <a:xfrm>
            <a:off x="1828800" y="685800"/>
            <a:ext cx="5867280" cy="39290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1146600" y="5073480"/>
            <a:ext cx="709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is she going to do next Sunda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86520" y="5759280"/>
            <a:ext cx="53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She is going to go shopp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Emily\tupian\have a party.jpg"/>
          <p:cNvPicPr/>
          <p:nvPr/>
        </p:nvPicPr>
        <p:blipFill>
          <a:blip r:embed="rId1"/>
          <a:stretch/>
        </p:blipFill>
        <p:spPr>
          <a:xfrm>
            <a:off x="1905120" y="685800"/>
            <a:ext cx="4952880" cy="3706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919080" y="4768920"/>
            <a:ext cx="76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What is the baby going to do next week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665000" y="5530680"/>
            <a:ext cx="66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It is going to have a birthday party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8:10:39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5:50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