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6D9-5CF8-457B-BF12-A20686B2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0E6-5AE5-45FD-BE9F-C27BC437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B0D-949E-47A6-88B5-CF356E4F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F4D-F74F-4D95-B224-AAF2B52D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33F9-0B5D-473D-B848-EDBA3BB6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83D4-5956-4CC6-8C80-542E7E7D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771A-9A29-4866-A150-64BAF09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FD73-3498-47A4-8562-C6B252EC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4485-6A59-4F27-9C24-93EE439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B613-181D-4E7A-8A5B-9465DE1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58E-7EDF-4AF7-8519-EE853DB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943-9DEC-4547-A360-3F6FBB87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B6E-F515-48EC-A86A-DA39279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F892-BB61-4C26-BA98-ADFFA49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48F8-B968-4402-AF54-CD33031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EFFB-F26B-4926-B264-07B9F06B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9A6A-A0CD-4CC3-B99C-D7388654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A25-3FD6-4631-AB51-DB31F1E7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8B0-687B-434A-9A4F-C9526F34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EB1-E7CF-4779-A23B-6722364F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098-D103-4445-A3FF-DEBDBE77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982-E375-49FA-9F24-D5C24B38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CB5-FAAC-4A30-B7B9-D80B4FB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EAA-1594-41A9-ABF3-0780A3E0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A51-3922-4FF1-BC3F-8676BC414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4646-AC37-4B0D-8BC6-D1B952D74A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3C10-0809-43F0-A9BB-4F3548B26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&#21021;&#19977;&#29289;&#29702;&#31532;&#21313;&#19968;&#31456;&#36816;&#21160;&#21644;&#21147;flash&#35838;&#20214;&#38598;&#19968; &#26032;&#35838;&#26631; &#20154;&#25945;&#29256;/11.1&#21442;&#29031;&#29289;.swf" TargetMode="External"/><Relationship Id="rId2" Type="http://schemas.openxmlformats.org/officeDocument/2006/relationships/hyperlink" Target="../&#21021;&#19977;&#29289;&#29702;&#31532;&#21313;&#19968;&#31456;&#36816;&#21160;&#21644;&#21147;flash&#35838;&#20214;&#38598;&#19968; &#26032;&#35838;&#26631; &#20154;&#25945;&#29256;/11.1&#26426;&#26800;&#36816;&#21160;&#30340;&#30456;&#23545;&#24615;.sw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00963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380360" y="1052640"/>
            <a:ext cx="100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运动的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867280" y="3573360"/>
            <a:ext cx="7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教师：梁武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260280"/>
            <a:ext cx="9144000" cy="496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成长目标聚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知识与技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．知道什么是机械运动，知道机械运动是宇宙中最普遍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．知道什么叫参照物，知道判断物体的运动情况需要选定参照物。知道运动和静止的相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．知道什么是匀速直线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过程与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体验物体运动和静止的相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情感态度与价值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认识运动是宇宙中的普遍现象，运动和静止是相对的，建立辩证唯物主义世界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0096299"/>
          <p:cNvPicPr/>
          <p:nvPr/>
        </p:nvPicPr>
        <p:blipFill>
          <a:blip r:embed="rId1"/>
          <a:stretch/>
        </p:blipFill>
        <p:spPr>
          <a:xfrm>
            <a:off x="395280" y="33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1123298337"/>
          <p:cNvPicPr/>
          <p:nvPr/>
        </p:nvPicPr>
        <p:blipFill>
          <a:blip r:embed="rId2"/>
          <a:stretch/>
        </p:blipFill>
        <p:spPr>
          <a:xfrm>
            <a:off x="395280" y="3429000"/>
            <a:ext cx="8280360" cy="30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11457915920455378"/>
          <p:cNvPicPr/>
          <p:nvPr/>
        </p:nvPicPr>
        <p:blipFill>
          <a:blip r:embed="rId3"/>
          <a:stretch/>
        </p:blipFill>
        <p:spPr>
          <a:xfrm>
            <a:off x="4427640" y="376200"/>
            <a:ext cx="4032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机械运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907920"/>
            <a:ext cx="9144000" cy="119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(1)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什么是机械运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动是个多义词，物理学里讲的运动是指物体位置的变化。猎豹追逐小兔时，滑雪运动员在滑雪时，对地面或路旁的树都有位置的变化；飞机在天空中飞行，它相对于地面有位置的变化。</a:t>
            </a:r>
            <a:r>
              <a:rPr b="1" i="1" lang="zh-CN" sz="3200" spc="-1" strike="noStrike" u="sng">
                <a:solidFill>
                  <a:srgbClr val="ff5050"/>
                </a:solidFill>
                <a:uFillTx/>
                <a:latin typeface="Arial"/>
              </a:rPr>
              <a:t>物理学里把物体位置的变化叫机械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(2)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机械运动是宇宙中最普遍的运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j2_021"/>
          <p:cNvPicPr/>
          <p:nvPr/>
        </p:nvPicPr>
        <p:blipFill>
          <a:blip r:embed="rId1"/>
          <a:stretch/>
        </p:blipFill>
        <p:spPr>
          <a:xfrm>
            <a:off x="0" y="0"/>
            <a:ext cx="4427640" cy="558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114820709_ytaW7H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58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24000" y="6021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正在表演的飞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859280" y="6021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油机和受油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692280"/>
            <a:ext cx="712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运动和静止的相对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1628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如上图：飞机都在做机械运动，站在地面上的人认为受油机是静止的，而加油机的飞行员却认为受油机是运动的，它们的说法正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地面上的人认为受油机是静止的是以加油机为标准，而加油机的飞行员认为受油机是运动的，它是以地面为标准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00" y="333360"/>
            <a:ext cx="252072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2133720"/>
            <a:ext cx="7991280" cy="78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5050"/>
                </a:solidFill>
                <a:latin typeface="Arial"/>
              </a:rPr>
              <a:t>在描述物体是运动还是静止，要看是以哪个物体做标准。这个被选作标准的物体叫做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参照物</a:t>
            </a:r>
            <a:r>
              <a:rPr b="1" i="1" lang="zh-CN" sz="4000" spc="-1" strike="noStrike">
                <a:solidFill>
                  <a:srgbClr val="ff5050"/>
                </a:solidFill>
                <a:latin typeface="Arial"/>
              </a:rPr>
              <a:t>。同一个物体是运动还是静止，取决于所选定的参照物。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这就是运动和静止的相对性。</a:t>
            </a:r>
            <a:r>
              <a:rPr b="1" i="1" lang="zh-CN" sz="4000" spc="-1" strike="noStrike">
                <a:solidFill>
                  <a:srgbClr val="ff5050"/>
                </a:solidFill>
                <a:latin typeface="Arial"/>
              </a:rPr>
              <a:t>物体叫参照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能力训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1197000"/>
            <a:ext cx="8893080" cy="2592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？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看课本图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2—4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，卡车和联合收割机在农田里并排行驶，受油机与大型加油机在空中飞行，说它们是运动的，你选什么物体为参照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答：选大地为参照物，它们是运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？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在甲图中如果选卡车或收割机为参照物，在乙图中如果选受油机或加油机为参照物，另一物体的运动情况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答：另一物体是静止的。因为它们相对于参照物没有位置的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549360"/>
            <a:ext cx="8208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？法国飞行员抓子弹的故事，你可能听说过，什么情况下我们也能顺手抓住一颗飞行的子弹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55640" y="3645000"/>
            <a:ext cx="741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答：当飞机和子弹的运行速度相同且运动方向相同时，飞机和子弹此时处于相对静止状态，我们就可以抓住一颗飞行的子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51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9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