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chimes.wav" ContentType="audio/x-wav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FFE4-D5B2-437C-8B2C-9E986B59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1EE-AF9C-4B06-859C-D9CC7DA5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6453-836D-4249-B05E-E6BBC6F4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2E52-97FC-4374-88AA-04964BD5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6803-95CF-47FC-A011-B10DE9B7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1433-CFCA-48CC-9342-D522645D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FED3-8706-40A4-BD76-C7EC711B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C81E-DAF0-4FCD-B9C1-F3395A56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0FDF-741D-48A8-93FA-3BFA620A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E211-2EC3-4DD7-B419-B2A2FBB0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D7D7-4513-48EA-9CBF-05DA7057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FE0F-8FE0-4FF4-BEC2-D74B8F4F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A06F-6E77-4B60-8222-C3DD1D90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75F5-2ACB-460C-AD6A-C67F1AF8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7E4D-753D-4228-8D3E-EA759867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BCC2-C87F-4D83-9A2E-9B181D1C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F94F-028E-4A1E-9C19-0F3DD645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1B26-F7E1-466B-8DFE-97BDC957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D22C-0A99-4622-A823-75E3B8FA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9526-F9AC-4E9D-AB9B-D209E128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2DB5-1BE4-42FE-BB00-DF599EAB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16E0-D52F-4665-9B33-78C41D87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002-BD40-497B-9C9A-BA5B9F50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03C-53C4-4614-877C-59603E88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My Documents\bits\Expbanna.png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0948-FDCF-41AD-AA0C-F251A9AE1E3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:\!Themes\Expedition\EXPHORSA.GIF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3781-04A8-4B74-A711-CA5AA69DD9F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AE5E-F2D2-4204-8BE7-047C56EC54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8,3,&#22797;&#20064;2&#65288;1&#65289;" TargetMode="External"/><Relationship Id="rId3" Type="http://schemas.openxmlformats.org/officeDocument/2006/relationships/hyperlink" Target="259,4,&#26032;&#25480;1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57,2,&#22797;&#20064;2" TargetMode="External"/><Relationship Id="rId3" Type="http://schemas.openxmlformats.org/officeDocument/2006/relationships/hyperlink" Target="257,2,&#22797;&#20064;2" TargetMode="External"/><Relationship Id="rId4" Type="http://schemas.openxmlformats.org/officeDocument/2006/relationships/hyperlink" Target="257,2,&#22797;&#20064;2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4347360" y="1676520"/>
            <a:ext cx="1399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约   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课题：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33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17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219320" y="1849320"/>
            <a:ext cx="7391160" cy="44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根据分数的基本性质填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）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）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——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——  =   ——  =   ——  =   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           16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）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）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           10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 ）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—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——  =   ——  =   ——  =   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            3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）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复习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复习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47920" y="2362320"/>
            <a:ext cx="6933960" cy="32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写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800" spc="-1" strike="noStrike" u="sng">
                <a:solidFill>
                  <a:srgbClr val="993300"/>
                </a:solidFill>
                <a:uFillTx/>
                <a:latin typeface="Times New Roman"/>
                <a:hlinkClick r:id="rId2"/>
              </a:rPr>
              <a:t>公约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指出哪两个数是</a:t>
            </a:r>
            <a:r>
              <a:rPr b="0" lang="zh-CN" sz="2800" spc="-1" strike="noStrike" u="sng">
                <a:solidFill>
                  <a:srgbClr val="993300"/>
                </a:solidFill>
                <a:uFillTx/>
                <a:latin typeface="Times New Roman"/>
                <a:hlinkClick r:id="rId3"/>
              </a:rPr>
              <a:t>互质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               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复习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2</a:t>
            </a:r>
            <a:r>
              <a:rPr b="0" lang="zh-CN" sz="4400" spc="-1" strike="noStrike" u="sng">
                <a:solidFill>
                  <a:srgbClr val="993300"/>
                </a:solidFill>
                <a:uFillTx/>
                <a:latin typeface="Times New Roman"/>
                <a:hlinkClick r:id="rId2"/>
              </a:rPr>
              <a:t>（</a:t>
            </a:r>
            <a:r>
              <a:rPr b="0" lang="en-US" sz="4400" spc="-1" strike="noStrike" u="sng">
                <a:solidFill>
                  <a:srgbClr val="993300"/>
                </a:solidFill>
                <a:uFillTx/>
                <a:latin typeface="Times New Roman"/>
                <a:hlinkClick r:id="rId3"/>
              </a:rPr>
              <a:t>1</a:t>
            </a:r>
            <a:r>
              <a:rPr b="0" lang="zh-CN" sz="4400" spc="-1" strike="noStrike" u="sng">
                <a:solidFill>
                  <a:srgbClr val="993300"/>
                </a:solidFill>
                <a:uFillTx/>
                <a:latin typeface="Times New Roman"/>
                <a:hlinkClick r:id="rId4"/>
              </a:rPr>
              <a:t>）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295280" y="2438280"/>
            <a:ext cx="7315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约数有：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约数有：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公约数有：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新授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371600" y="1752480"/>
            <a:ext cx="70866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化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化简指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化简要运用什么性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化简到什么时候为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练习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352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143000" y="2019240"/>
            <a:ext cx="73915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判断下面各等式，哪些是约分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        2                        20         10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—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——                   —— = ——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         3                        24       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         12                         4    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—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——                    —— = 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        24                        5     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练习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219320" y="1905120"/>
            <a:ext cx="7315200" cy="44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指出下面哪些分数是最简分数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             6           10           11          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——       ——       ——       ——       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             9           12           12       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             9            24           21          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——        ——       ——       ——       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            16           25           24          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新授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295280" y="1636560"/>
            <a:ext cx="70106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约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约分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一般用分子和分母的公约数（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Times New Roman"/>
              </a:rPr>
              <a:t>1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Times New Roman"/>
              </a:rPr>
              <a:t>除外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）去除分数的分子和分母；通常要除到得出</a:t>
            </a:r>
            <a:r>
              <a:rPr b="1" lang="zh-CN" sz="2800" spc="-1" strike="noStrike" u="sng">
                <a:solidFill>
                  <a:srgbClr val="333399"/>
                </a:solidFill>
                <a:uFillTx/>
                <a:latin typeface="Times New Roman"/>
              </a:rPr>
              <a:t>最简分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为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练习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143000" y="2019240"/>
            <a:ext cx="73915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下面的分数约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           9            5           24          12          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——      ——      ——      ——      ——       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          12          10          30          16        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3366"/>
                </a:solidFill>
                <a:latin typeface="Times New Roman"/>
              </a:rPr>
              <a:t>70         100          80          30         140       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Times New Roman"/>
              </a:rPr>
              <a:t>     ——       ——      ——      ——      ——      ——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3366"/>
                </a:solidFill>
                <a:latin typeface="Times New Roman"/>
              </a:rPr>
              <a:t>200        300        400        100        150       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2T01:07:01Z</dcterms:created>
  <dc:creator>An</dc:creator>
  <dc:description>ppt模板下载网站 http://www.eeppt.com</dc:description>
  <cp:keywords>ppt模板下载网站 http:/www.eeppt.com</cp:keywords>
  <dc:language>en-US</dc:language>
  <cp:lastModifiedBy>a</cp:lastModifiedBy>
  <dcterms:modified xsi:type="dcterms:W3CDTF">2015-05-20T04:18:35Z</dcterms:modified>
  <cp:revision>12</cp:revision>
  <dc:subject/>
  <dc:title>复习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