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024-F8A1-4C9D-BC1D-E44A32F2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3BC-0A06-4BB5-9DE6-8A230631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3DA-0A9C-42CE-8DAD-B1442C69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D71-CE28-4098-8242-251CAB95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F6C-668B-4387-9847-3A0441C1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B02-E3EC-4F85-810D-DD8C4FD7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27C-B8AB-4F4B-BB32-3A1E0B6B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302-6EAC-4F74-A68E-02407EB5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F8F-E1B4-4467-A53E-5E4A22A1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C6E-87EA-4A25-9869-25DC8842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C14-42FC-48DA-9FBA-1D366393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2CA-2731-47CF-9A04-89FD85AF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897B-6A1A-4E89-B6EA-50765248A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 rot="5400000">
            <a:off x="-720360" y="1593000"/>
            <a:ext cx="410364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一分钟</a:t>
            </a:r>
            <a:endParaRPr b="1" lang="en-US" sz="2400" spc="-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4"/>
          <p:cNvGrpSpPr/>
          <p:nvPr/>
        </p:nvGrpSpPr>
        <p:grpSpPr>
          <a:xfrm>
            <a:off x="6443640" y="620640"/>
            <a:ext cx="1616040" cy="847800"/>
            <a:chOff x="6443640" y="620640"/>
            <a:chExt cx="1616040" cy="847800"/>
          </a:xfrm>
        </p:grpSpPr>
        <p:sp>
          <p:nvSpPr>
            <p:cNvPr id="44" name="Text Box 6"/>
            <p:cNvSpPr/>
            <p:nvPr/>
          </p:nvSpPr>
          <p:spPr>
            <a:xfrm>
              <a:off x="6443640" y="7477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好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Picture 14" descr="d0233[1]"/>
            <p:cNvPicPr/>
            <p:nvPr/>
          </p:nvPicPr>
          <p:blipFill>
            <a:blip r:embed="rId2"/>
            <a:stretch/>
          </p:blipFill>
          <p:spPr>
            <a:xfrm>
              <a:off x="7164360" y="620640"/>
              <a:ext cx="895320" cy="84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5" descr="xiaohai"/>
          <p:cNvPicPr/>
          <p:nvPr/>
        </p:nvPicPr>
        <p:blipFill>
          <a:blip r:embed="rId3"/>
          <a:stretch/>
        </p:blipFill>
        <p:spPr>
          <a:xfrm>
            <a:off x="755640" y="765000"/>
            <a:ext cx="5256360" cy="525636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23"/>
          <p:cNvGrpSpPr/>
          <p:nvPr/>
        </p:nvGrpSpPr>
        <p:grpSpPr>
          <a:xfrm>
            <a:off x="6448320" y="1717560"/>
            <a:ext cx="1652760" cy="847800"/>
            <a:chOff x="6448320" y="1717560"/>
            <a:chExt cx="1652760" cy="847800"/>
          </a:xfrm>
        </p:grpSpPr>
        <p:sp>
          <p:nvSpPr>
            <p:cNvPr id="48" name="Text Box 7"/>
            <p:cNvSpPr/>
            <p:nvPr/>
          </p:nvSpPr>
          <p:spPr>
            <a:xfrm>
              <a:off x="6448320" y="19303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佳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Picture 16" descr="d0233[1]"/>
            <p:cNvPicPr/>
            <p:nvPr/>
          </p:nvPicPr>
          <p:blipFill>
            <a:blip r:embed="rId4"/>
            <a:stretch/>
          </p:blipFill>
          <p:spPr>
            <a:xfrm>
              <a:off x="7205400" y="1717560"/>
              <a:ext cx="895680" cy="8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Group 21"/>
          <p:cNvGrpSpPr/>
          <p:nvPr/>
        </p:nvGrpSpPr>
        <p:grpSpPr>
          <a:xfrm>
            <a:off x="6519960" y="3949560"/>
            <a:ext cx="1611360" cy="847800"/>
            <a:chOff x="6519960" y="3949560"/>
            <a:chExt cx="1611360" cy="847800"/>
          </a:xfrm>
        </p:grpSpPr>
        <p:sp>
          <p:nvSpPr>
            <p:cNvPr id="51" name="Text Box 9"/>
            <p:cNvSpPr/>
            <p:nvPr/>
          </p:nvSpPr>
          <p:spPr>
            <a:xfrm>
              <a:off x="6519960" y="414468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思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Picture 18" descr="d0233[1]"/>
            <p:cNvPicPr/>
            <p:nvPr/>
          </p:nvPicPr>
          <p:blipFill>
            <a:blip r:embed="rId5"/>
            <a:stretch/>
          </p:blipFill>
          <p:spPr>
            <a:xfrm>
              <a:off x="7236000" y="3949560"/>
              <a:ext cx="895320" cy="8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 20"/>
          <p:cNvGrpSpPr/>
          <p:nvPr/>
        </p:nvGrpSpPr>
        <p:grpSpPr>
          <a:xfrm>
            <a:off x="6516720" y="5173560"/>
            <a:ext cx="1614600" cy="847800"/>
            <a:chOff x="6516720" y="5173560"/>
            <a:chExt cx="1614600" cy="847800"/>
          </a:xfrm>
        </p:grpSpPr>
        <p:sp>
          <p:nvSpPr>
            <p:cNvPr id="54" name="Text Box 10"/>
            <p:cNvSpPr/>
            <p:nvPr/>
          </p:nvSpPr>
          <p:spPr>
            <a:xfrm>
              <a:off x="6516720" y="538956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Picture 19" descr="d0233[1]"/>
            <p:cNvPicPr/>
            <p:nvPr/>
          </p:nvPicPr>
          <p:blipFill>
            <a:blip r:embed="rId6"/>
            <a:stretch/>
          </p:blipFill>
          <p:spPr>
            <a:xfrm>
              <a:off x="7236000" y="5173560"/>
              <a:ext cx="895320" cy="8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25"/>
          <p:cNvGrpSpPr/>
          <p:nvPr/>
        </p:nvGrpSpPr>
        <p:grpSpPr>
          <a:xfrm>
            <a:off x="6516720" y="2797200"/>
            <a:ext cx="1611360" cy="847800"/>
            <a:chOff x="6516720" y="2797200"/>
            <a:chExt cx="1611360" cy="847800"/>
          </a:xfrm>
        </p:grpSpPr>
        <p:sp>
          <p:nvSpPr>
            <p:cNvPr id="57" name="Text Box 26"/>
            <p:cNvSpPr/>
            <p:nvPr/>
          </p:nvSpPr>
          <p:spPr>
            <a:xfrm>
              <a:off x="6516720" y="29923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朗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Picture 27" descr="d0233[1]"/>
            <p:cNvPicPr/>
            <p:nvPr/>
          </p:nvPicPr>
          <p:blipFill>
            <a:blip r:embed="rId7"/>
            <a:stretch/>
          </p:blipFill>
          <p:spPr>
            <a:xfrm>
              <a:off x="7232760" y="2797200"/>
              <a:ext cx="895320" cy="84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0" y="45720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元打了个哈欠，翻了个身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想再睡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分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吧，就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分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不会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迟到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0" y="42210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叹了口气，说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是早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分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好了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0" y="11592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又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叹了口气，说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是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分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好了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22050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元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红着脸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低着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坐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自己的座位上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0" y="436572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老师看了看手表，说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今天你迟到了</a:t>
            </a:r>
            <a:r>
              <a:rPr b="1" lang="en-US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20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分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9" descr="魔棒"/>
          <p:cNvPicPr/>
          <p:nvPr/>
        </p:nvPicPr>
        <p:blipFill>
          <a:blip r:embed="rId2"/>
          <a:stretch/>
        </p:blipFill>
        <p:spPr>
          <a:xfrm rot="2638800">
            <a:off x="7667640" y="5589360"/>
            <a:ext cx="127008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44"/>
          <p:cNvGrpSpPr/>
          <p:nvPr/>
        </p:nvGrpSpPr>
        <p:grpSpPr>
          <a:xfrm>
            <a:off x="539640" y="2276640"/>
            <a:ext cx="8154360" cy="2954520"/>
            <a:chOff x="539640" y="2276640"/>
            <a:chExt cx="8154360" cy="2954520"/>
          </a:xfrm>
        </p:grpSpPr>
        <p:grpSp>
          <p:nvGrpSpPr>
            <p:cNvPr id="66" name="Group 2"/>
            <p:cNvGrpSpPr/>
            <p:nvPr/>
          </p:nvGrpSpPr>
          <p:grpSpPr>
            <a:xfrm>
              <a:off x="539640" y="2276640"/>
              <a:ext cx="3082680" cy="1002600"/>
              <a:chOff x="539640" y="2276640"/>
              <a:chExt cx="3082680" cy="1002600"/>
            </a:xfrm>
          </p:grpSpPr>
          <p:sp>
            <p:nvSpPr>
              <p:cNvPr id="67" name="Text Box 3"/>
              <p:cNvSpPr/>
              <p:nvPr/>
            </p:nvSpPr>
            <p:spPr>
              <a:xfrm>
                <a:off x="539640" y="2636640"/>
                <a:ext cx="231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一分钟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Text Box 4"/>
              <p:cNvSpPr/>
              <p:nvPr/>
            </p:nvSpPr>
            <p:spPr>
              <a:xfrm>
                <a:off x="539640" y="2276640"/>
                <a:ext cx="30826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Group 5"/>
            <p:cNvGrpSpPr/>
            <p:nvPr/>
          </p:nvGrpSpPr>
          <p:grpSpPr>
            <a:xfrm>
              <a:off x="3012840" y="2304720"/>
              <a:ext cx="2305080" cy="974520"/>
              <a:chOff x="3012840" y="2304720"/>
              <a:chExt cx="2305080" cy="974520"/>
            </a:xfrm>
          </p:grpSpPr>
          <p:sp>
            <p:nvSpPr>
              <p:cNvPr id="70" name="Text Box 6"/>
              <p:cNvSpPr/>
              <p:nvPr/>
            </p:nvSpPr>
            <p:spPr>
              <a:xfrm>
                <a:off x="3012840" y="2636640"/>
                <a:ext cx="230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闹钟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7"/>
              <p:cNvSpPr/>
              <p:nvPr/>
            </p:nvSpPr>
            <p:spPr>
              <a:xfrm>
                <a:off x="3660480" y="2304720"/>
                <a:ext cx="1440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8"/>
            <p:cNvGrpSpPr/>
            <p:nvPr/>
          </p:nvGrpSpPr>
          <p:grpSpPr>
            <a:xfrm>
              <a:off x="4841640" y="2363760"/>
              <a:ext cx="3852360" cy="929520"/>
              <a:chOff x="4841640" y="2363760"/>
              <a:chExt cx="3852360" cy="929520"/>
            </a:xfrm>
          </p:grpSpPr>
          <p:sp>
            <p:nvSpPr>
              <p:cNvPr id="73" name="Text Box 9"/>
              <p:cNvSpPr/>
              <p:nvPr/>
            </p:nvSpPr>
            <p:spPr>
              <a:xfrm>
                <a:off x="4844520" y="2650680"/>
                <a:ext cx="160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哈欠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Text Box 10"/>
              <p:cNvSpPr/>
              <p:nvPr/>
            </p:nvSpPr>
            <p:spPr>
              <a:xfrm>
                <a:off x="4841640" y="2363760"/>
                <a:ext cx="385236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11"/>
            <p:cNvGrpSpPr/>
            <p:nvPr/>
          </p:nvGrpSpPr>
          <p:grpSpPr>
            <a:xfrm>
              <a:off x="6594480" y="2363760"/>
              <a:ext cx="1942560" cy="970920"/>
              <a:chOff x="6594480" y="2363760"/>
              <a:chExt cx="1942560" cy="970920"/>
            </a:xfrm>
          </p:grpSpPr>
          <p:sp>
            <p:nvSpPr>
              <p:cNvPr id="76" name="Text Box 12"/>
              <p:cNvSpPr/>
              <p:nvPr/>
            </p:nvSpPr>
            <p:spPr>
              <a:xfrm>
                <a:off x="6737040" y="2692080"/>
                <a:ext cx="180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迟到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 Box 13"/>
              <p:cNvSpPr/>
              <p:nvPr/>
            </p:nvSpPr>
            <p:spPr>
              <a:xfrm>
                <a:off x="6594480" y="2363760"/>
                <a:ext cx="143964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14"/>
            <p:cNvGrpSpPr/>
            <p:nvPr/>
          </p:nvGrpSpPr>
          <p:grpSpPr>
            <a:xfrm>
              <a:off x="674640" y="3608280"/>
              <a:ext cx="3328560" cy="1042200"/>
              <a:chOff x="674640" y="3608280"/>
              <a:chExt cx="3328560" cy="1042200"/>
            </a:xfrm>
          </p:grpSpPr>
          <p:sp>
            <p:nvSpPr>
              <p:cNvPr id="79" name="Text Box 15"/>
              <p:cNvSpPr/>
              <p:nvPr/>
            </p:nvSpPr>
            <p:spPr>
              <a:xfrm>
                <a:off x="674640" y="4007880"/>
                <a:ext cx="332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丁零零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 Box 16"/>
              <p:cNvSpPr/>
              <p:nvPr/>
            </p:nvSpPr>
            <p:spPr>
              <a:xfrm>
                <a:off x="952560" y="3608280"/>
                <a:ext cx="2772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Group 17"/>
            <p:cNvGrpSpPr/>
            <p:nvPr/>
          </p:nvGrpSpPr>
          <p:grpSpPr>
            <a:xfrm>
              <a:off x="3201840" y="3605040"/>
              <a:ext cx="1944720" cy="1077120"/>
              <a:chOff x="3201840" y="3605040"/>
              <a:chExt cx="1944720" cy="1077120"/>
            </a:xfrm>
          </p:grpSpPr>
          <p:sp>
            <p:nvSpPr>
              <p:cNvPr id="82" name="Text Box 18"/>
              <p:cNvSpPr/>
              <p:nvPr/>
            </p:nvSpPr>
            <p:spPr>
              <a:xfrm>
                <a:off x="3201840" y="4039560"/>
                <a:ext cx="194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决定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 Box 19"/>
              <p:cNvSpPr/>
              <p:nvPr/>
            </p:nvSpPr>
            <p:spPr>
              <a:xfrm>
                <a:off x="3201840" y="3605040"/>
                <a:ext cx="1440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Group 20"/>
            <p:cNvGrpSpPr/>
            <p:nvPr/>
          </p:nvGrpSpPr>
          <p:grpSpPr>
            <a:xfrm>
              <a:off x="5113080" y="3676320"/>
              <a:ext cx="2016000" cy="1554840"/>
              <a:chOff x="5113080" y="3676320"/>
              <a:chExt cx="2016000" cy="1554840"/>
            </a:xfrm>
          </p:grpSpPr>
          <p:sp>
            <p:nvSpPr>
              <p:cNvPr id="85" name="Text Box 21"/>
              <p:cNvSpPr/>
              <p:nvPr/>
            </p:nvSpPr>
            <p:spPr>
              <a:xfrm>
                <a:off x="5113080" y="4039920"/>
                <a:ext cx="201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后悔         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22"/>
              <p:cNvSpPr/>
              <p:nvPr/>
            </p:nvSpPr>
            <p:spPr>
              <a:xfrm>
                <a:off x="5184360" y="3676320"/>
                <a:ext cx="1440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7" name="Picture 43" descr="胡蝶5"/>
          <p:cNvPicPr/>
          <p:nvPr/>
        </p:nvPicPr>
        <p:blipFill>
          <a:blip r:embed="rId1"/>
          <a:stretch/>
        </p:blipFill>
        <p:spPr>
          <a:xfrm>
            <a:off x="250920" y="260280"/>
            <a:ext cx="2089080" cy="129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7" descr="魔棒"/>
          <p:cNvPicPr/>
          <p:nvPr/>
        </p:nvPicPr>
        <p:blipFill>
          <a:blip r:embed="rId2"/>
          <a:stretch/>
        </p:blipFill>
        <p:spPr>
          <a:xfrm rot="19023600">
            <a:off x="7596360" y="5229000"/>
            <a:ext cx="888840" cy="1269720"/>
          </a:xfrm>
          <a:prstGeom prst="rect">
            <a:avLst/>
          </a:prstGeom>
          <a:ln w="0">
            <a:noFill/>
          </a:ln>
        </p:spPr>
      </p:pic>
      <p:sp>
        <p:nvSpPr>
          <p:cNvPr id="89" name="WordArt 68"/>
          <p:cNvSpPr txBox="1"/>
          <p:nvPr/>
        </p:nvSpPr>
        <p:spPr>
          <a:xfrm>
            <a:off x="2627280" y="333360"/>
            <a:ext cx="352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8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我能行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611280" y="1844640"/>
            <a:ext cx="8208000" cy="3671640"/>
            <a:chOff x="611280" y="1844640"/>
            <a:chExt cx="8208000" cy="3671640"/>
          </a:xfrm>
        </p:grpSpPr>
        <p:sp>
          <p:nvSpPr>
            <p:cNvPr id="91" name="Line 4"/>
            <p:cNvSpPr/>
            <p:nvPr/>
          </p:nvSpPr>
          <p:spPr>
            <a:xfrm flipV="1">
              <a:off x="611280" y="4292280"/>
              <a:ext cx="180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>
              <a:off x="611280" y="4292280"/>
              <a:ext cx="2736720" cy="2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9"/>
            <p:cNvGrpSpPr/>
            <p:nvPr/>
          </p:nvGrpSpPr>
          <p:grpSpPr>
            <a:xfrm>
              <a:off x="3346200" y="3068280"/>
              <a:ext cx="2736360" cy="1223280"/>
              <a:chOff x="3346200" y="3068280"/>
              <a:chExt cx="2736360" cy="1223280"/>
            </a:xfrm>
          </p:grpSpPr>
          <p:sp>
            <p:nvSpPr>
              <p:cNvPr id="94" name="Line 7"/>
              <p:cNvSpPr/>
              <p:nvPr/>
            </p:nvSpPr>
            <p:spPr>
              <a:xfrm flipV="1">
                <a:off x="3346200" y="3068280"/>
                <a:ext cx="0" cy="1223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8"/>
              <p:cNvSpPr/>
              <p:nvPr/>
            </p:nvSpPr>
            <p:spPr>
              <a:xfrm>
                <a:off x="3346200" y="3068280"/>
                <a:ext cx="2736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10"/>
            <p:cNvGrpSpPr/>
            <p:nvPr/>
          </p:nvGrpSpPr>
          <p:grpSpPr>
            <a:xfrm>
              <a:off x="6082920" y="1844640"/>
              <a:ext cx="2736360" cy="1223280"/>
              <a:chOff x="6082920" y="1844640"/>
              <a:chExt cx="2736360" cy="1223280"/>
            </a:xfrm>
          </p:grpSpPr>
          <p:sp>
            <p:nvSpPr>
              <p:cNvPr id="97" name="Line 11"/>
              <p:cNvSpPr/>
              <p:nvPr/>
            </p:nvSpPr>
            <p:spPr>
              <a:xfrm flipV="1">
                <a:off x="6082920" y="1844640"/>
                <a:ext cx="0" cy="1223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12"/>
              <p:cNvSpPr/>
              <p:nvPr/>
            </p:nvSpPr>
            <p:spPr>
              <a:xfrm>
                <a:off x="6082920" y="1844640"/>
                <a:ext cx="2736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" name="Text Box 14"/>
          <p:cNvSpPr/>
          <p:nvPr/>
        </p:nvSpPr>
        <p:spPr>
          <a:xfrm>
            <a:off x="755640" y="4221000"/>
            <a:ext cx="25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正    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635280" y="299736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流   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084720" y="1628640"/>
            <a:ext cx="28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有感情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WordArt 17"/>
          <p:cNvSpPr txBox="1"/>
          <p:nvPr/>
        </p:nvSpPr>
        <p:spPr>
          <a:xfrm>
            <a:off x="755640" y="692280"/>
            <a:ext cx="374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朗读要求</a:t>
            </a:r>
            <a:endParaRPr b="1" lang="en-US" sz="2400" spc="-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8101080" y="5805360"/>
            <a:ext cx="755640" cy="692280"/>
          </a:xfrm>
          <a:prstGeom prst="leftArrow">
            <a:avLst>
              <a:gd name="adj1" fmla="val 50000"/>
              <a:gd name="adj2" fmla="val 27288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22"/>
          <p:cNvGrpSpPr/>
          <p:nvPr/>
        </p:nvGrpSpPr>
        <p:grpSpPr>
          <a:xfrm>
            <a:off x="826920" y="5013360"/>
            <a:ext cx="2160720" cy="576360"/>
            <a:chOff x="826920" y="5013360"/>
            <a:chExt cx="2160720" cy="576360"/>
          </a:xfrm>
        </p:grpSpPr>
        <p:sp>
          <p:nvSpPr>
            <p:cNvPr id="105" name="AutoShape 19"/>
            <p:cNvSpPr/>
            <p:nvPr/>
          </p:nvSpPr>
          <p:spPr>
            <a:xfrm>
              <a:off x="826920" y="5013360"/>
              <a:ext cx="576360" cy="57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AutoShape 20"/>
            <p:cNvSpPr/>
            <p:nvPr/>
          </p:nvSpPr>
          <p:spPr>
            <a:xfrm>
              <a:off x="1618920" y="5013360"/>
              <a:ext cx="576360" cy="57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21"/>
            <p:cNvSpPr/>
            <p:nvPr/>
          </p:nvSpPr>
          <p:spPr>
            <a:xfrm>
              <a:off x="2411280" y="5013360"/>
              <a:ext cx="576360" cy="57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3635280" y="3860640"/>
            <a:ext cx="2160720" cy="576360"/>
            <a:chOff x="3635280" y="3860640"/>
            <a:chExt cx="2160720" cy="576360"/>
          </a:xfrm>
        </p:grpSpPr>
        <p:sp>
          <p:nvSpPr>
            <p:cNvPr id="109" name="AutoShape 24"/>
            <p:cNvSpPr/>
            <p:nvPr/>
          </p:nvSpPr>
          <p:spPr>
            <a:xfrm>
              <a:off x="3635280" y="3860640"/>
              <a:ext cx="576360" cy="57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25"/>
            <p:cNvSpPr/>
            <p:nvPr/>
          </p:nvSpPr>
          <p:spPr>
            <a:xfrm>
              <a:off x="4427280" y="3860640"/>
              <a:ext cx="576360" cy="57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26"/>
            <p:cNvSpPr/>
            <p:nvPr/>
          </p:nvSpPr>
          <p:spPr>
            <a:xfrm>
              <a:off x="5219640" y="3860640"/>
              <a:ext cx="576360" cy="57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27"/>
          <p:cNvGrpSpPr/>
          <p:nvPr/>
        </p:nvGrpSpPr>
        <p:grpSpPr>
          <a:xfrm>
            <a:off x="6372360" y="2637000"/>
            <a:ext cx="2160000" cy="576000"/>
            <a:chOff x="6372360" y="2637000"/>
            <a:chExt cx="2160000" cy="576000"/>
          </a:xfrm>
        </p:grpSpPr>
        <p:sp>
          <p:nvSpPr>
            <p:cNvPr id="113" name="AutoShape 28"/>
            <p:cNvSpPr/>
            <p:nvPr/>
          </p:nvSpPr>
          <p:spPr>
            <a:xfrm>
              <a:off x="6372360" y="2637000"/>
              <a:ext cx="576000" cy="576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29"/>
            <p:cNvSpPr/>
            <p:nvPr/>
          </p:nvSpPr>
          <p:spPr>
            <a:xfrm>
              <a:off x="7164000" y="2637000"/>
              <a:ext cx="576000" cy="576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30"/>
            <p:cNvSpPr/>
            <p:nvPr/>
          </p:nvSpPr>
          <p:spPr>
            <a:xfrm>
              <a:off x="7956360" y="2637000"/>
              <a:ext cx="576000" cy="576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12720" y="602136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179280" y="549360"/>
            <a:ext cx="7129440" cy="3384360"/>
          </a:xfrm>
          <a:prstGeom prst="wedgeEllipseCallout">
            <a:avLst>
              <a:gd name="adj1" fmla="val 57884"/>
              <a:gd name="adj2" fmla="val 5121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49160" y="1182600"/>
            <a:ext cx="613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元只多睡了一分钟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会迟到了二十分钟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d0233[1]"/>
          <p:cNvPicPr/>
          <p:nvPr/>
        </p:nvPicPr>
        <p:blipFill>
          <a:blip r:embed="rId2"/>
          <a:stretch/>
        </p:blipFill>
        <p:spPr>
          <a:xfrm>
            <a:off x="6983280" y="3860640"/>
            <a:ext cx="2160720" cy="20466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7"/>
          <p:cNvSpPr/>
          <p:nvPr/>
        </p:nvSpPr>
        <p:spPr>
          <a:xfrm>
            <a:off x="8172360" y="6165720"/>
            <a:ext cx="647640" cy="692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533520" y="1828800"/>
            <a:ext cx="7543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闹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(    )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ōng(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(     )       zōng 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 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        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(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迟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叹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 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        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(  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990720" y="19810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4267080" y="19810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143000" y="35053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4267080" y="35053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1143000" y="4952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267080" y="5029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2133720" y="25146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22860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5867280" y="1905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2133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71500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20574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57913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4" descr="d0233[1]"/>
          <p:cNvPicPr/>
          <p:nvPr/>
        </p:nvPicPr>
        <p:blipFill>
          <a:blip r:embed="rId2"/>
          <a:stretch/>
        </p:blipFill>
        <p:spPr>
          <a:xfrm>
            <a:off x="7380360" y="404640"/>
            <a:ext cx="1400040" cy="1325880"/>
          </a:xfrm>
          <a:prstGeom prst="rect">
            <a:avLst/>
          </a:prstGeom>
          <a:ln w="0">
            <a:noFill/>
          </a:ln>
        </p:spPr>
      </p:pic>
      <p:sp>
        <p:nvSpPr>
          <p:cNvPr id="136" name="WordArt 25"/>
          <p:cNvSpPr txBox="1"/>
          <p:nvPr/>
        </p:nvSpPr>
        <p:spPr>
          <a:xfrm>
            <a:off x="2411280" y="47628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选一选</a:t>
            </a:r>
            <a:endParaRPr b="1" lang="en-US" sz="2400" spc="-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8172360" y="6165720"/>
            <a:ext cx="647640" cy="692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2:55:15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43:49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