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440-0695-431F-99BE-0EAB1196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374-0496-48B3-9652-F0D8AD0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134-A7EA-4CF9-A8D9-4F1968DD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451-C527-4699-8329-7CD38EE8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A854-69FE-46AA-A44B-B047114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D23-F96A-4F2B-9877-77E1963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C28-C9AF-4004-BFAC-5C6B31C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71CF-748C-4C1B-A3D2-24F4D2C9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3F9-2542-445D-BD91-031FA41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CC8-BE6E-4260-9DBD-884E7A5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DD8-1EB6-44C7-BD68-6622E5E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055-6446-495F-88C0-2B747635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32F-FE9F-4115-91B8-A573628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DA9C-FA58-49EF-878A-62D72D5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061F-5351-4E41-9275-98A473E0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72B8-DE8A-439A-8ED7-39DF028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47A-43F4-40DE-81E9-264C541B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E75-8644-4622-9511-FDC289E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DF7-9E57-49DB-8EDE-3CD8C62A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E40-8F30-4E2E-99E8-F908534A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970-0262-4A08-8680-05F0AE32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9DF-6F01-4679-945D-FDE91F3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3D4-E7A4-4B0E-8971-E9FEE10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D0D-7EEA-46CF-A9BA-F19705A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621-EC1D-4E38-AEF5-5647BB79E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137-A796-4F6A-B2D0-024E1C1A19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D95-4A4C-4FC8-A342-8C19C6ED0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lap.wav" TargetMode="External"/><Relationship Id="rId3" Type="http://schemas.microsoft.com/office/2007/relationships/media" Target="file:///tmp/home/.config/libreoffice/4/user/gallery/clap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627280" y="549360"/>
            <a:ext cx="52135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efefe"/>
                  </a:solidFill>
                  <a:miter/>
                </a:ln>
                <a:solidFill>
                  <a:srgbClr val="ffffff"/>
                </a:solidFill>
                <a:effectLst>
                  <a:outerShdw dist="50933" dir="7495540" blurRad="0" rotWithShape="0">
                    <a:srgbClr val="000000">
                      <a:alpha val="34000"/>
                    </a:srgbClr>
                  </a:outerShdw>
                </a:effectLst>
                <a:latin typeface="微软雅黑"/>
              </a:rPr>
              <a:t>月光曲</a:t>
            </a:r>
            <a:endParaRPr b="0" lang="en-US" sz="2400" spc="1" strike="noStrike">
              <a:ln w="19080">
                <a:solidFill>
                  <a:srgbClr val="fefefe"/>
                </a:solidFill>
                <a:miter/>
              </a:ln>
              <a:solidFill>
                <a:srgbClr val="ffffff"/>
              </a:solidFill>
              <a:effectLst>
                <a:outerShdw dist="50933" dir="7495540" blurRad="0" rotWithShape="0">
                  <a:srgbClr val="000000">
                    <a:alpha val="3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509840" y="93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分两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48080" y="1866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段（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45760" y="1843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304880" y="1828800"/>
            <a:ext cx="29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介绍著名的钢琴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德国音乐家贝多芬谱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461960" y="2816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段（        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330280" y="2816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88000" y="274320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介绍贝多芬谱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62880" y="36194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55240" y="359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在散步时听到有人弹他的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918800" y="40528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5151600" y="40528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走进茅屋，为盲姑娘弹了两首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928160" y="4510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955040" y="45100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根据记忆谱成了著名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992520" y="32767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342880" y="103176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“断断续续”的钢琴声，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460600" y="17175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断续续”的钢琴声，说明盲姑娘喜欢贝多芬的曲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弹得不熟练；还说明贝多芬听到有人弹他得曲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熟练，菜走进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28680" y="3241800"/>
            <a:ext cx="35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真是“随便说说”的吗？她为什么要对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这么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878200" y="430848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便说说罢了”是盲姑娘对她哥哥的劝慰。她怕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买不起音乐会的入场券而心里难过，所以这样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实她很想“听一听贝多芬自己是怎样弹的”，这表明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娘非常体谅哥哥的难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653200" y="914400"/>
            <a:ext cx="41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能听出贝多芬钢琴弹得纯熟，感情深，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什么？“您，您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……”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表达了盲姑娘怎样的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50840" y="18288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盲姑娘能听出贝多芬钢琴弹得纯熟，感情深，说明盲姑娘不仅爱音乐而且懂音乐。她从琴声中体会出演奏者的“感情多深”，从“纯熟”的演奏技巧中猜到演奏者就是贝多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85200" y="359712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从课文中哪些词句可以看出兄妹俩被美妙的琴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陶醉”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182120" y="4603680"/>
            <a:ext cx="131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鞋匠静静地听着。”“月光正照在她那恬静地脸上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他们苏醒过来，贝多芬早已离开了茅屋。”从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句可以看出兄妹俩被美妙的琴声“陶醉”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706120" y="1600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多芬坐在钢琴前面，弹起盲姑娘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那首曲子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12120" y="2174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飞奔回客店，花了一夜工夫，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曲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录了下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748160" y="955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两个句子中的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刚才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”分别指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02000" y="324180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听到盲姑娘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她哥哥的谈话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2000" y="446076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为盲姑娘弹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一首曲子，盲姑娘听出他是贝多芬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15960" y="1415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为什么贝多芬要给盲姑娘弹钢琴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听到盲姑娘在弹他的曲子，十分渴望能听到他的演奏，可是家境贫苦，买不起音乐会的入场券，但她很懂事，体谅哥哥的难处，所以贝多芬决定亲自给盲姑娘弹钢琴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767760" y="141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弹完一首，为什么又弹一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59600" y="141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是怎样吧第二首曲子记录下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即兴弹完第二首曲子后心情十分激动，飞奔回客店，连夜记录下了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月光曲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072160" y="882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再读课文，归纳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072880" y="16765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助课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851920" y="2286000"/>
            <a:ext cx="38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首乐曲是谁谱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首乐曲是怎样谱写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6880" y="36781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故事的人物、起因、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结果，连起来说说，归纳课文主要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62680" y="98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203480" y="2098800"/>
            <a:ext cx="67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99ff"/>
                </a:solidFill>
                <a:latin typeface="Times New Roman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40080" y="116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68960" y="179388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语抄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意抄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背诵课文第九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9172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现在，让我们来欣赏一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947320" y="2117880"/>
            <a:ext cx="17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光曲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738160" y="350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在曲子里听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00080" y="4800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听出贝多芬的心声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2505240" y="1752480"/>
            <a:ext cx="412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下课</a:t>
            </a:r>
            <a:endParaRPr b="1" i="1" lang="en-US" sz="9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贝多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17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出生于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波恩一个音乐家的家庭。从小学习钢琴和小提琴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举行首次公开演奏会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开始作曲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定居维也纳。当时正是奥地利封建统治最黑暗的时代。他十分憎恨专权暴政，极其蔑视封建贵族的褊狭庸俗。他早年受到启蒙运动和法国资产阶级革命影响，毕生追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自由、平等、博爱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理想，不少作品反映了当时资产阶级反封建、争民主的革命热情及其理想中的英雄性格。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时，两耳失聪仍坚持创作。他一生谱写了许多著名的乐曲，主要作品有交响曲九部、钢琴奏鸣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。他的音乐创作，集古典派的大成，开浪漫派的先河，对欧洲音乐艺术的革新与发展，有着极其重要的影响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贝多芬在奥地利维也纳逝世，终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。贝多芬是欧洲音乐史上最伟大的音乐家，被人们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乐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的所有作品在世界各地广为传诵，他的成功完全来之自身的艰苦奋斗，直到今日还被人们视为奋斗的楷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97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贝多芬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295280" y="17524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文中提到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贝多芬创作的一首著名的钢琴奏鸣曲。课文写的是关于贝多芬谱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传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传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民间流传的故事，不一定确有其事。但是，民间传说能够反映出人民群众的愿望和好恶。从贝多芬谱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光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传说中，我们可以看到贝多芬是怎样一位音乐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1672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21320" y="1447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52720" y="146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21320" y="1927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琴键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655880" y="1905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琴、钢琴等上面装置的白色或黑色的供演奏时按动的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02132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3670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0670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905120" y="29401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0213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谱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765520" y="367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写（歌曲或乐曲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682720" y="502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728440" y="5638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53200" y="1676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9444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43160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2944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56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444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25635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39351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6078960" y="1870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50840" y="11844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恬静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441960" y="4191120"/>
            <a:ext cx="22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夜深了，周围（            ）极了，一切都再沉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姑娘那（           ）的脸上嵌着一双水汪汪的大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670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幽静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60840" y="3657600"/>
            <a:ext cx="54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春天的樱花公园，（            ）的林中小道上不时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三两两的游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片树林远离大路，树木茂盛，显得很（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923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1006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苏醒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91320" y="4191120"/>
            <a:ext cx="50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巨大的教育攻势下，他终于（            ）了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政府交待自己的罪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他刚（           ）过来，就忙问：‘“那些书受损失吗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9162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56356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3:29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52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