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CBBC-A5B1-42F8-BBA5-6BE410C33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BED8-BF7F-48A9-82D3-B302A6F4A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DAFB-095E-44DB-9985-B5C5133CA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5353-81B2-4BDC-A134-6F14BB937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DA85-602C-46DD-88B1-AAA4B2086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F71E5-DBE2-404B-B463-2A533A8D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59EC-64DE-42D1-B969-95465A9F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1B9F-196A-49F0-A56D-2857D43D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7FD12-7D30-4280-A4AF-33AC3F51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E9035-33B1-42E6-8BBE-F6E73427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A1A8-9B14-40E8-A799-74A7EEB411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08AB-D2C6-48C8-BBF2-011C87A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A1195-CBF1-4E34-BF7C-628ADCF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420A5-2CCF-4B7B-8BF4-74E9CED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6139A-5DE4-46D4-80CF-1A131EF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AE9DD-56A6-4C35-85D8-235BE61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AEE76-A869-46AD-BB2E-577919A5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36859-F236-4E3F-89DB-4982DFA8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1160-E26E-4F11-996F-1329E6B98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F88F-92F0-4D82-AC4F-4D960929C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1A7D-E344-4CBA-8C48-64E049330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10C7-F913-4A40-AB0F-7A18852A2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536B-0348-41BE-89B7-5EC53FFF5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FD13-142B-42DF-9BC9-D153CFAF4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2DE-E822-4E97-A974-36881F04B13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78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42" name="Line 32"/>
          <p:cNvSpPr/>
          <p:nvPr/>
        </p:nvSpPr>
        <p:spPr>
          <a:xfrm>
            <a:off x="3571920" y="5786280"/>
            <a:ext cx="51055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724A-E0B6-4434-B412-25FF669D98C4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71480" y="5105520"/>
            <a:ext cx="60721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*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月工作总结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5" name="椭圆 3"/>
          <p:cNvGrpSpPr/>
          <p:nvPr/>
        </p:nvGrpSpPr>
        <p:grpSpPr>
          <a:xfrm>
            <a:off x="3809880" y="5321160"/>
            <a:ext cx="384120" cy="293760"/>
            <a:chOff x="3809880" y="5321160"/>
            <a:chExt cx="384120" cy="293760"/>
          </a:xfrm>
        </p:grpSpPr>
        <p:pic>
          <p:nvPicPr>
            <p:cNvPr id="126" name="椭圆 3" descr=""/>
            <p:cNvPicPr/>
            <p:nvPr/>
          </p:nvPicPr>
          <p:blipFill>
            <a:blip r:embed="rId1"/>
            <a:stretch/>
          </p:blipFill>
          <p:spPr>
            <a:xfrm>
              <a:off x="3809880" y="5321160"/>
              <a:ext cx="38412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960720" y="5351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" name="椭圆 4"/>
          <p:cNvGrpSpPr/>
          <p:nvPr/>
        </p:nvGrpSpPr>
        <p:grpSpPr>
          <a:xfrm>
            <a:off x="4352760" y="5321160"/>
            <a:ext cx="390600" cy="293760"/>
            <a:chOff x="4352760" y="5321160"/>
            <a:chExt cx="390600" cy="293760"/>
          </a:xfrm>
        </p:grpSpPr>
        <p:pic>
          <p:nvPicPr>
            <p:cNvPr id="129" name="椭圆 4" descr=""/>
            <p:cNvPicPr/>
            <p:nvPr/>
          </p:nvPicPr>
          <p:blipFill>
            <a:blip r:embed="rId2"/>
            <a:stretch/>
          </p:blipFill>
          <p:spPr>
            <a:xfrm>
              <a:off x="4352760" y="5321160"/>
              <a:ext cx="3906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08280" y="5351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" name="椭圆 5"/>
          <p:cNvGrpSpPr/>
          <p:nvPr/>
        </p:nvGrpSpPr>
        <p:grpSpPr>
          <a:xfrm>
            <a:off x="4900680" y="5321160"/>
            <a:ext cx="390600" cy="293760"/>
            <a:chOff x="4900680" y="5321160"/>
            <a:chExt cx="390600" cy="293760"/>
          </a:xfrm>
        </p:grpSpPr>
        <p:pic>
          <p:nvPicPr>
            <p:cNvPr id="132" name="椭圆 5" descr=""/>
            <p:cNvPicPr/>
            <p:nvPr/>
          </p:nvPicPr>
          <p:blipFill>
            <a:blip r:embed="rId3"/>
            <a:stretch/>
          </p:blipFill>
          <p:spPr>
            <a:xfrm>
              <a:off x="4900680" y="5321160"/>
              <a:ext cx="3906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56200" y="5351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071960" y="5796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59aa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05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06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7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ffffff"/>
                </a:gs>
                <a:gs pos="100000">
                  <a:srgbClr val="449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4987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255241"/>
                </a:gs>
                <a:gs pos="100000">
                  <a:srgbClr val="449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49878">
                    <a:alpha val="0"/>
                  </a:srgbClr>
                </a:gs>
                <a:gs pos="100000">
                  <a:srgbClr val="2b61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ffffff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0a8b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4e5b5f"/>
                </a:gs>
                <a:gs pos="100000">
                  <a:srgbClr val="90a8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0"/>
                  </a:srgbClr>
                </a:gs>
                <a:gs pos="100000">
                  <a:srgbClr val="5b6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21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22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3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6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50000">
                  <a:srgbClr val="ffffff"/>
                </a:gs>
                <a:gs pos="100000">
                  <a:srgbClr val="438a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05e"/>
                </a:gs>
                <a:gs pos="100000">
                  <a:srgbClr val="438acb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50000">
                  <a:srgbClr val="244b6e"/>
                </a:gs>
                <a:gs pos="100000">
                  <a:srgbClr val="438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38acb">
                    <a:alpha val="0"/>
                  </a:srgbClr>
                </a:gs>
                <a:gs pos="100000">
                  <a:srgbClr val="2b5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31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32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3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4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5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37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8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9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1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45" name="Group 31"/>
          <p:cNvGrpSpPr/>
          <p:nvPr/>
        </p:nvGrpSpPr>
        <p:grpSpPr>
          <a:xfrm>
            <a:off x="1714680" y="1785960"/>
            <a:ext cx="5181120" cy="4495680"/>
            <a:chOff x="1714680" y="1785960"/>
            <a:chExt cx="5181120" cy="4495680"/>
          </a:xfrm>
        </p:grpSpPr>
        <p:sp>
          <p:nvSpPr>
            <p:cNvPr id="346" name="Rectangle 32"/>
            <p:cNvSpPr/>
            <p:nvPr/>
          </p:nvSpPr>
          <p:spPr>
            <a:xfrm rot="13770000">
              <a:off x="4767840" y="395964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7" name="Rectangle 33"/>
            <p:cNvSpPr/>
            <p:nvPr/>
          </p:nvSpPr>
          <p:spPr>
            <a:xfrm rot="20856000">
              <a:off x="2900880" y="3562560"/>
              <a:ext cx="941400" cy="154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8" name="Rectangle 34"/>
            <p:cNvSpPr/>
            <p:nvPr/>
          </p:nvSpPr>
          <p:spPr>
            <a:xfrm rot="18394200">
              <a:off x="4880160" y="2579400"/>
              <a:ext cx="531000" cy="122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9" name="Group 35"/>
            <p:cNvGrpSpPr/>
            <p:nvPr/>
          </p:nvGrpSpPr>
          <p:grpSpPr>
            <a:xfrm>
              <a:off x="3774600" y="2614320"/>
              <a:ext cx="1497960" cy="1420200"/>
              <a:chOff x="3774600" y="2614320"/>
              <a:chExt cx="1497960" cy="1420200"/>
            </a:xfrm>
          </p:grpSpPr>
          <p:grpSp>
            <p:nvGrpSpPr>
              <p:cNvPr id="350" name="Group 36"/>
              <p:cNvGrpSpPr/>
              <p:nvPr/>
            </p:nvGrpSpPr>
            <p:grpSpPr>
              <a:xfrm>
                <a:off x="3774600" y="2614320"/>
                <a:ext cx="1497960" cy="1420200"/>
                <a:chOff x="3774600" y="2614320"/>
                <a:chExt cx="1497960" cy="1420200"/>
              </a:xfrm>
            </p:grpSpPr>
            <p:sp>
              <p:nvSpPr>
                <p:cNvPr id="351" name="Oval 37"/>
                <p:cNvSpPr/>
                <p:nvPr/>
              </p:nvSpPr>
              <p:spPr>
                <a:xfrm>
                  <a:off x="3774600" y="2614320"/>
                  <a:ext cx="149796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8"/>
                <p:cNvSpPr/>
                <p:nvPr/>
              </p:nvSpPr>
              <p:spPr>
                <a:xfrm>
                  <a:off x="3945600" y="2637720"/>
                  <a:ext cx="1155600" cy="536040"/>
                </a:xfrm>
                <a:custGeom>
                  <a:avLst/>
                  <a:gdLst>
                    <a:gd name="textAreaLeft" fmla="*/ 0 w 1155600"/>
                    <a:gd name="textAreaRight" fmla="*/ 1155960 w 11556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39"/>
              <p:cNvSpPr/>
              <p:nvPr/>
            </p:nvSpPr>
            <p:spPr>
              <a:xfrm>
                <a:off x="3809880" y="32317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40"/>
            <p:cNvGrpSpPr/>
            <p:nvPr/>
          </p:nvGrpSpPr>
          <p:grpSpPr>
            <a:xfrm>
              <a:off x="5059440" y="1785960"/>
              <a:ext cx="909360" cy="769320"/>
              <a:chOff x="5059440" y="1785960"/>
              <a:chExt cx="909360" cy="769320"/>
            </a:xfrm>
          </p:grpSpPr>
          <p:grpSp>
            <p:nvGrpSpPr>
              <p:cNvPr id="355" name="Group 41"/>
              <p:cNvGrpSpPr/>
              <p:nvPr/>
            </p:nvGrpSpPr>
            <p:grpSpPr>
              <a:xfrm>
                <a:off x="5086080" y="1785960"/>
                <a:ext cx="814680" cy="769320"/>
                <a:chOff x="5086080" y="1785960"/>
                <a:chExt cx="814680" cy="769320"/>
              </a:xfrm>
            </p:grpSpPr>
            <p:sp>
              <p:nvSpPr>
                <p:cNvPr id="356" name="Oval 42"/>
                <p:cNvSpPr/>
                <p:nvPr/>
              </p:nvSpPr>
              <p:spPr>
                <a:xfrm>
                  <a:off x="5086080" y="1785960"/>
                  <a:ext cx="81468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1022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3"/>
                <p:cNvSpPr/>
                <p:nvPr/>
              </p:nvSpPr>
              <p:spPr>
                <a:xfrm>
                  <a:off x="5178600" y="1798560"/>
                  <a:ext cx="628920" cy="290160"/>
                </a:xfrm>
                <a:custGeom>
                  <a:avLst/>
                  <a:gdLst>
                    <a:gd name="textAreaLeft" fmla="*/ 0 w 628920"/>
                    <a:gd name="textAreaRight" fmla="*/ 629280 w 62892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Text Box 44"/>
              <p:cNvSpPr/>
              <p:nvPr/>
            </p:nvSpPr>
            <p:spPr>
              <a:xfrm>
                <a:off x="5059440" y="20829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45"/>
            <p:cNvGrpSpPr/>
            <p:nvPr/>
          </p:nvGrpSpPr>
          <p:grpSpPr>
            <a:xfrm>
              <a:off x="1714680" y="2910240"/>
              <a:ext cx="1622880" cy="1597680"/>
              <a:chOff x="1714680" y="2910240"/>
              <a:chExt cx="1622880" cy="1597680"/>
            </a:xfrm>
          </p:grpSpPr>
          <p:grpSp>
            <p:nvGrpSpPr>
              <p:cNvPr id="360" name="Group 46"/>
              <p:cNvGrpSpPr/>
              <p:nvPr/>
            </p:nvGrpSpPr>
            <p:grpSpPr>
              <a:xfrm>
                <a:off x="1714680" y="2910240"/>
                <a:ext cx="1622880" cy="1597680"/>
                <a:chOff x="1714680" y="2910240"/>
                <a:chExt cx="1622880" cy="1597680"/>
              </a:xfrm>
            </p:grpSpPr>
            <p:sp>
              <p:nvSpPr>
                <p:cNvPr id="361" name="Oval 47"/>
                <p:cNvSpPr/>
                <p:nvPr/>
              </p:nvSpPr>
              <p:spPr>
                <a:xfrm>
                  <a:off x="1714680" y="291024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c6f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48"/>
                <p:cNvSpPr/>
                <p:nvPr/>
              </p:nvSpPr>
              <p:spPr>
                <a:xfrm>
                  <a:off x="1900440" y="2938320"/>
                  <a:ext cx="1253160" cy="602280"/>
                </a:xfrm>
                <a:custGeom>
                  <a:avLst/>
                  <a:gdLst>
                    <a:gd name="textAreaLeft" fmla="*/ 0 w 1253160"/>
                    <a:gd name="textAreaRight" fmla="*/ 1253520 w 1253160"/>
                    <a:gd name="textAreaTop" fmla="*/ 0 h 602280"/>
                    <a:gd name="textAreaBottom" fmla="*/ 602640 h 6022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49"/>
              <p:cNvSpPr/>
              <p:nvPr/>
            </p:nvSpPr>
            <p:spPr>
              <a:xfrm>
                <a:off x="1748160" y="36201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50"/>
            <p:cNvGrpSpPr/>
            <p:nvPr/>
          </p:nvGrpSpPr>
          <p:grpSpPr>
            <a:xfrm>
              <a:off x="5023080" y="4093920"/>
              <a:ext cx="1872720" cy="1775520"/>
              <a:chOff x="5023080" y="4093920"/>
              <a:chExt cx="1872720" cy="1775520"/>
            </a:xfrm>
          </p:grpSpPr>
          <p:grpSp>
            <p:nvGrpSpPr>
              <p:cNvPr id="365" name="Group 51"/>
              <p:cNvGrpSpPr/>
              <p:nvPr/>
            </p:nvGrpSpPr>
            <p:grpSpPr>
              <a:xfrm>
                <a:off x="5023080" y="4093920"/>
                <a:ext cx="1872720" cy="1775520"/>
                <a:chOff x="5023080" y="4093920"/>
                <a:chExt cx="1872720" cy="1775520"/>
              </a:xfrm>
            </p:grpSpPr>
            <p:sp>
              <p:nvSpPr>
                <p:cNvPr id="366" name="Oval 52"/>
                <p:cNvSpPr/>
                <p:nvPr/>
              </p:nvSpPr>
              <p:spPr>
                <a:xfrm>
                  <a:off x="5023080" y="409392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3"/>
                <p:cNvSpPr/>
                <p:nvPr/>
              </p:nvSpPr>
              <p:spPr>
                <a:xfrm>
                  <a:off x="5236920" y="4123080"/>
                  <a:ext cx="1444680" cy="669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54"/>
              <p:cNvSpPr/>
              <p:nvPr/>
            </p:nvSpPr>
            <p:spPr>
              <a:xfrm>
                <a:off x="5236560" y="48632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69" name="Oval 55"/>
            <p:cNvSpPr/>
            <p:nvPr/>
          </p:nvSpPr>
          <p:spPr>
            <a:xfrm>
              <a:off x="1901880" y="456732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0" name="Oval 56"/>
            <p:cNvSpPr/>
            <p:nvPr/>
          </p:nvSpPr>
          <p:spPr>
            <a:xfrm>
              <a:off x="3899520" y="403740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Oval 57"/>
            <p:cNvSpPr/>
            <p:nvPr/>
          </p:nvSpPr>
          <p:spPr>
            <a:xfrm>
              <a:off x="5335560" y="586980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2" name="Oval 58"/>
            <p:cNvSpPr/>
            <p:nvPr/>
          </p:nvSpPr>
          <p:spPr>
            <a:xfrm>
              <a:off x="5210280" y="261432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74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75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6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1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ffffff"/>
                </a:gs>
                <a:gs pos="100000">
                  <a:srgbClr val="449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35478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4987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255241"/>
                </a:gs>
                <a:gs pos="100000">
                  <a:srgbClr val="449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>
                    <a:alpha val="0"/>
                  </a:srgbClr>
                </a:gs>
                <a:gs pos="100000">
                  <a:srgbClr val="2b61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99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00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1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2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3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04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06" name="Group 92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07" name="AutoShape 93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8" name="AutoShape 94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AutoShape 95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AutoShape 96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AutoShape 97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AutoShape 98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13" name="Group 99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14" name="Oval 100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5" name="Oval 101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6" name="Oval 102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7" name="Oval 103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8" name="Oval 104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19" name="Text Box 105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Text Box 106"/>
            <p:cNvSpPr/>
            <p:nvPr/>
          </p:nvSpPr>
          <p:spPr>
            <a:xfrm>
              <a:off x="1295640" y="2593800"/>
              <a:ext cx="2057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1" name="Group 107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2" name="AutoShape 108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3" name="AutoShape 109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AutoShape 110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AutoShape 111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6" name="Oval 112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7" name="Oval 113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8" name="Oval 114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Oval 115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0" name="Oval 116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1" name="Text Box 117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2" name="Text Box 118"/>
            <p:cNvSpPr/>
            <p:nvPr/>
          </p:nvSpPr>
          <p:spPr>
            <a:xfrm>
              <a:off x="3657600" y="2593800"/>
              <a:ext cx="2057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3" name="AutoShape 119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4" name="AutoShape 120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5" name="Group 121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36" name="AutoShape 122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7" name="AutoShape 123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AutoShape 124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AutoShape 125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40" name="Group 126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41" name="Oval 127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2" name="Oval 128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Oval 129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4" name="Oval 130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Oval 131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6" name="Text Box 132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7" name="Text Box 133"/>
            <p:cNvSpPr/>
            <p:nvPr/>
          </p:nvSpPr>
          <p:spPr>
            <a:xfrm>
              <a:off x="6019560" y="2593800"/>
              <a:ext cx="2057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AutoShape 134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9" name="AutoShape 135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51" name="Group 97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52" name="Group 3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53" name="Rectangle 4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4" name="Rectangle 5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3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56" name="Group 59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57" name="Group 60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58" name="Freeform 61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custGeom>
                    <a:avLst/>
                    <a:gdLst>
                      <a:gd name="textAreaLeft" fmla="*/ 0 w 2275200"/>
                      <a:gd name="textAreaRight" fmla="*/ 2275560 w 227520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62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63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61" name="Freeform 64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custGeom>
                    <a:avLst/>
                    <a:gdLst>
                      <a:gd name="textAreaLeft" fmla="*/ 0 w 1746000"/>
                      <a:gd name="textAreaRight" fmla="*/ 1746360 w 1746000"/>
                      <a:gd name="textAreaTop" fmla="*/ 360 h 377280"/>
                      <a:gd name="textAreaBottom" fmla="*/ 378000 h 37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65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Group 66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64" name="Oval 67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5" name="Oval 68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6" name="Oval 69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7" name="Oval 70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8" name="Oval 71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Group 72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470" name="Oval 73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74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5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6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Text Box 77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5" name="Text Box 78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94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477" name="Group 41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478" name="Group 42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479" name="Freeform 43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custGeom>
                    <a:avLst/>
                    <a:gdLst>
                      <a:gd name="textAreaLeft" fmla="*/ 0 w 2275200"/>
                      <a:gd name="textAreaRight" fmla="*/ 2275560 w 227520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44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45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482" name="Freeform 46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custGeom>
                    <a:avLst/>
                    <a:gdLst>
                      <a:gd name="textAreaLeft" fmla="*/ 0 w 1746000"/>
                      <a:gd name="textAreaRight" fmla="*/ 1746360 w 174600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47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-360 h 309240"/>
                      <a:gd name="textAreaBottom" fmla="*/ 309240 h 3092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Group 48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485" name="Oval 49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6" name="Oval 50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1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2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3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54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491" name="Oval 55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Oval 56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57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58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6" name="Text Box 80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95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498" name="Group 6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499" name="Group 7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00" name="Freeform 8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custGeom>
                    <a:avLst/>
                    <a:gdLst>
                      <a:gd name="textAreaLeft" fmla="*/ 0 w 2275200"/>
                      <a:gd name="textAreaRight" fmla="*/ 2275560 w 227520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9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0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03" name="Freeform 11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custGeom>
                    <a:avLst/>
                    <a:gdLst>
                      <a:gd name="textAreaLeft" fmla="*/ 0 w 1746000"/>
                      <a:gd name="textAreaRight" fmla="*/ 1746360 w 1746000"/>
                      <a:gd name="textAreaTop" fmla="*/ 360 h 377280"/>
                      <a:gd name="textAreaBottom" fmla="*/ 378000 h 37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12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5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06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7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8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9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0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12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7" name="Text Box 82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96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19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20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21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>
                      <a:gd name="textAreaLeft" fmla="*/ 0 w 2275560"/>
                      <a:gd name="textAreaRight" fmla="*/ 2275920 w 227556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24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>
                      <a:gd name="textAreaLeft" fmla="*/ 0 w 1746360"/>
                      <a:gd name="textAreaRight" fmla="*/ 1746720 w 1746360"/>
                      <a:gd name="textAreaTop" fmla="*/ 360 h 377280"/>
                      <a:gd name="textAreaBottom" fmla="*/ 378000 h 37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Oval 31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7" name="Oval 32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8" name="Oval 33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9" name="Oval 34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0" name="Oval 35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31" name="Group 36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32" name="Oval 37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8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9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5" name="Oval 40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7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85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39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0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1" name="Text Box 88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2" name="Text Box 89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cxnSp>
            <p:nvCxnSpPr>
              <p:cNvPr id="543" name="AutoShape 90"/>
              <p:cNvCxnSpPr>
                <a:stCxn id="539" idx="3"/>
                <a:endCxn id="540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544" name="AutoShape 91"/>
              <p:cNvCxnSpPr>
                <a:stCxn id="540" idx="3"/>
                <a:endCxn id="541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545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547" name="Group 24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48" name="Group 3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49" name="AutoShape 4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50" name="Group 5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51" name="AutoShape 6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f608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38acb">
                        <a:alpha val="0"/>
                      </a:srgbClr>
                    </a:gs>
                    <a:gs pos="50000">
                      <a:srgbClr val="99bfe3"/>
                    </a:gs>
                    <a:gs pos="100000">
                      <a:srgbClr val="438acb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8"/>
                <p:cNvSpPr/>
                <p:nvPr/>
              </p:nvSpPr>
              <p:spPr>
                <a:xfrm>
                  <a:off x="191772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Text Box 9"/>
              <p:cNvSpPr/>
              <p:nvPr/>
            </p:nvSpPr>
            <p:spPr>
              <a:xfrm>
                <a:off x="3052080" y="1717920"/>
                <a:ext cx="42015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10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56" name="AutoShape 11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58" name="AutoShape 13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49d"/>
                    </a:gs>
                    <a:gs pos="100000">
                      <a:srgbClr val="449878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14"/>
                <p:cNvSpPr/>
                <p:nvPr/>
              </p:nvSpPr>
              <p:spPr>
                <a:xfrm>
                  <a:off x="1869840" y="31748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49878">
                        <a:alpha val="0"/>
                      </a:srgbClr>
                    </a:gs>
                    <a:gs pos="100000">
                      <a:srgbClr val="b0d3c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0" name="Text Box 15"/>
                <p:cNvSpPr/>
                <p:nvPr/>
              </p:nvSpPr>
              <p:spPr>
                <a:xfrm>
                  <a:off x="1917720" y="33901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6"/>
              <p:cNvSpPr/>
              <p:nvPr/>
            </p:nvSpPr>
            <p:spPr>
              <a:xfrm>
                <a:off x="3052080" y="3161520"/>
                <a:ext cx="42015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7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63" name="AutoShape 18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64" name="Group 19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65" name="AutoShape 20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8c8cd"/>
                    </a:gs>
                    <a:gs pos="100000">
                      <a:srgbClr val="90a8b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1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0a8b0">
                        <a:alpha val="0"/>
                      </a:srgbClr>
                    </a:gs>
                    <a:gs pos="100000">
                      <a:srgbClr val="c9d5d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22"/>
                <p:cNvSpPr/>
                <p:nvPr/>
              </p:nvSpPr>
              <p:spPr>
                <a:xfrm>
                  <a:off x="191772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Text Box 23"/>
              <p:cNvSpPr/>
              <p:nvPr/>
            </p:nvSpPr>
            <p:spPr>
              <a:xfrm>
                <a:off x="3052080" y="4637520"/>
                <a:ext cx="42015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74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7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f463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76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7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8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9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0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38a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82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8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4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5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6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7" name="Rectangle 20"/>
            <p:cNvSpPr/>
            <p:nvPr/>
          </p:nvSpPr>
          <p:spPr>
            <a:xfrm rot="3418800">
              <a:off x="4592520" y="2010240"/>
              <a:ext cx="873000" cy="966600"/>
            </a:xfrm>
            <a:prstGeom prst="rect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f463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88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89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0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2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93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38a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9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838080" y="2414520"/>
          <a:ext cx="7315200" cy="289872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605" name="Group 23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06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7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8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2baa5"/>
                </a:gs>
                <a:gs pos="100000">
                  <a:srgbClr val="449878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1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b5461"/>
                </a:gs>
                <a:gs pos="100000">
                  <a:srgbClr val="51a0b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5f15"/>
                </a:gs>
                <a:gs pos="100000">
                  <a:srgbClr val="77ae26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3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4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17" name="Group 15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18" name="Freeform 16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5866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9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0" name="Freeform 18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1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22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3" name="Freeform 21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4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626" name="Group 32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27" name="AutoShape 3"/>
            <p:cNvSpPr/>
            <p:nvPr/>
          </p:nvSpPr>
          <p:spPr>
            <a:xfrm>
              <a:off x="2129400" y="2441880"/>
              <a:ext cx="5072760" cy="24750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1918440" y="175248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7bda8"/>
                </a:gs>
                <a:gs pos="50000">
                  <a:srgbClr val="449878"/>
                </a:gs>
                <a:gs pos="100000">
                  <a:srgbClr val="87bda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9" name="Text Box 5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30" name="Group 6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631" name="Group 7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632" name="Group 8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633" name="Oval 9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c6f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Freeform 10"/>
                  <p:cNvSpPr/>
                  <p:nvPr/>
                </p:nvSpPr>
                <p:spPr>
                  <a:xfrm>
                    <a:off x="1375200" y="4161600"/>
                    <a:ext cx="1051560" cy="514440"/>
                  </a:xfrm>
                  <a:custGeom>
                    <a:avLst/>
                    <a:gdLst>
                      <a:gd name="textAreaLeft" fmla="*/ 0 w 1051560"/>
                      <a:gd name="textAreaRight" fmla="*/ 1051920 w 1051560"/>
                      <a:gd name="textAreaTop" fmla="*/ 0 h 514440"/>
                      <a:gd name="textAreaBottom" fmla="*/ 514800 h 5144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Text Box 11"/>
                <p:cNvSpPr/>
                <p:nvPr/>
              </p:nvSpPr>
              <p:spPr>
                <a:xfrm>
                  <a:off x="1317240" y="4827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Oval 12"/>
              <p:cNvSpPr/>
              <p:nvPr/>
            </p:nvSpPr>
            <p:spPr>
              <a:xfrm>
                <a:off x="1359000" y="557820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3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638" name="Group 14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639" name="Group 15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40" name="Oval 16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0a8b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17"/>
                  <p:cNvSpPr/>
                  <p:nvPr/>
                </p:nvSpPr>
                <p:spPr>
                  <a:xfrm>
                    <a:off x="6762240" y="4115520"/>
                    <a:ext cx="1078560" cy="519480"/>
                  </a:xfrm>
                  <a:custGeom>
                    <a:avLst/>
                    <a:gdLst>
                      <a:gd name="textAreaLeft" fmla="*/ 0 w 1078560"/>
                      <a:gd name="textAreaRight" fmla="*/ 1078920 w 1078560"/>
                      <a:gd name="textAreaTop" fmla="*/ 0 h 519480"/>
                      <a:gd name="textAreaBottom" fmla="*/ 519840 h 5194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0a8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Text Box 18"/>
                <p:cNvSpPr/>
                <p:nvPr/>
              </p:nvSpPr>
              <p:spPr>
                <a:xfrm>
                  <a:off x="6682320" y="4737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Oval 19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20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45" name="Group 21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46" name="Oval 22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3"/>
                <p:cNvSpPr/>
                <p:nvPr/>
              </p:nvSpPr>
              <p:spPr>
                <a:xfrm>
                  <a:off x="3127680" y="4159440"/>
                  <a:ext cx="1077480" cy="518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8" name="Text Box 24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49" name="Oval 25"/>
              <p:cNvSpPr/>
              <p:nvPr/>
            </p:nvSpPr>
            <p:spPr>
              <a:xfrm>
                <a:off x="2967120" y="5577840"/>
                <a:ext cx="133668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26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51" name="Group 27"/>
              <p:cNvGrpSpPr/>
              <p:nvPr/>
            </p:nvGrpSpPr>
            <p:grpSpPr>
              <a:xfrm>
                <a:off x="4854600" y="4092840"/>
                <a:ext cx="1397880" cy="1368360"/>
                <a:chOff x="4854600" y="4092840"/>
                <a:chExt cx="1397880" cy="1368360"/>
              </a:xfrm>
            </p:grpSpPr>
            <p:sp>
              <p:nvSpPr>
                <p:cNvPr id="652" name="Oval 28"/>
                <p:cNvSpPr/>
                <p:nvPr/>
              </p:nvSpPr>
              <p:spPr>
                <a:xfrm>
                  <a:off x="4854600" y="4092840"/>
                  <a:ext cx="1397880" cy="136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24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29"/>
                <p:cNvSpPr/>
                <p:nvPr/>
              </p:nvSpPr>
              <p:spPr>
                <a:xfrm>
                  <a:off x="5014440" y="4114440"/>
                  <a:ext cx="1077480" cy="514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Text Box 30"/>
              <p:cNvSpPr/>
              <p:nvPr/>
            </p:nvSpPr>
            <p:spPr>
              <a:xfrm>
                <a:off x="4924440" y="47523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5" name="Oval 31"/>
              <p:cNvSpPr/>
              <p:nvPr/>
            </p:nvSpPr>
            <p:spPr>
              <a:xfrm>
                <a:off x="4854600" y="5536800"/>
                <a:ext cx="1336680" cy="4424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2133720" y="2081160"/>
            <a:ext cx="4724280" cy="685800"/>
            <a:chOff x="2133720" y="2081160"/>
            <a:chExt cx="4724280" cy="685800"/>
          </a:xfrm>
        </p:grpSpPr>
        <p:sp>
          <p:nvSpPr>
            <p:cNvPr id="138" name="AutoShape 5"/>
            <p:cNvSpPr/>
            <p:nvPr/>
          </p:nvSpPr>
          <p:spPr>
            <a:xfrm>
              <a:off x="2514600" y="22003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AutoShape 6"/>
            <p:cNvSpPr/>
            <p:nvPr/>
          </p:nvSpPr>
          <p:spPr>
            <a:xfrm>
              <a:off x="2133720" y="208116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743200" y="22557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289600" y="217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2133720" y="2919240"/>
            <a:ext cx="4724280" cy="685800"/>
            <a:chOff x="2133720" y="2919240"/>
            <a:chExt cx="4724280" cy="685800"/>
          </a:xfrm>
        </p:grpSpPr>
        <p:sp>
          <p:nvSpPr>
            <p:cNvPr id="143" name="AutoShape 10"/>
            <p:cNvSpPr/>
            <p:nvPr/>
          </p:nvSpPr>
          <p:spPr>
            <a:xfrm>
              <a:off x="2514600" y="3038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AutoShape 11"/>
            <p:cNvSpPr/>
            <p:nvPr/>
          </p:nvSpPr>
          <p:spPr>
            <a:xfrm>
              <a:off x="2133720" y="291924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2743200" y="30938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289600" y="301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2133720" y="3757680"/>
            <a:ext cx="4724280" cy="685800"/>
            <a:chOff x="2133720" y="3757680"/>
            <a:chExt cx="4724280" cy="685800"/>
          </a:xfrm>
        </p:grpSpPr>
        <p:sp>
          <p:nvSpPr>
            <p:cNvPr id="148" name="AutoShape 15"/>
            <p:cNvSpPr/>
            <p:nvPr/>
          </p:nvSpPr>
          <p:spPr>
            <a:xfrm>
              <a:off x="2514600" y="3876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d7e9e2"/>
                </a:gs>
                <a:gs pos="100000">
                  <a:srgbClr val="44987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>
              <a:off x="2133720" y="3757680"/>
              <a:ext cx="685800" cy="685800"/>
            </a:xfrm>
            <a:prstGeom prst="diamond">
              <a:avLst/>
            </a:prstGeom>
            <a:solidFill>
              <a:srgbClr val="44987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2743200" y="3932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289600" y="385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2133720" y="4672080"/>
            <a:ext cx="4724280" cy="685800"/>
            <a:chOff x="2133720" y="4672080"/>
            <a:chExt cx="4724280" cy="685800"/>
          </a:xfrm>
        </p:grpSpPr>
        <p:sp>
          <p:nvSpPr>
            <p:cNvPr id="153" name="AutoShape 20"/>
            <p:cNvSpPr/>
            <p:nvPr/>
          </p:nvSpPr>
          <p:spPr>
            <a:xfrm>
              <a:off x="2514600" y="4791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AutoShape 21"/>
            <p:cNvSpPr/>
            <p:nvPr/>
          </p:nvSpPr>
          <p:spPr>
            <a:xfrm>
              <a:off x="2133720" y="46720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2743200" y="4846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289600" y="477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矩形 45"/>
          <p:cNvSpPr/>
          <p:nvPr/>
        </p:nvSpPr>
        <p:spPr>
          <a:xfrm>
            <a:off x="0" y="928800"/>
            <a:ext cx="4929120" cy="71280"/>
          </a:xfrm>
          <a:prstGeom prst="rect">
            <a:avLst/>
          </a:prstGeom>
          <a:gradFill rotWithShape="0">
            <a:gsLst>
              <a:gs pos="0">
                <a:srgbClr val="b6dbe6"/>
              </a:gs>
              <a:gs pos="100000">
                <a:srgbClr val="697f8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grpSp>
        <p:nvGrpSpPr>
          <p:cNvPr id="160" name="椭圆 3"/>
          <p:cNvGrpSpPr/>
          <p:nvPr/>
        </p:nvGrpSpPr>
        <p:grpSpPr>
          <a:xfrm>
            <a:off x="8448840" y="5145120"/>
            <a:ext cx="390240" cy="291960"/>
            <a:chOff x="8448840" y="5145120"/>
            <a:chExt cx="390240" cy="291960"/>
          </a:xfrm>
        </p:grpSpPr>
        <p:pic>
          <p:nvPicPr>
            <p:cNvPr id="161" name="椭圆 3" descr=""/>
            <p:cNvPicPr/>
            <p:nvPr/>
          </p:nvPicPr>
          <p:blipFill>
            <a:blip r:embed="rId1"/>
            <a:stretch/>
          </p:blipFill>
          <p:spPr>
            <a:xfrm>
              <a:off x="8448840" y="5145120"/>
              <a:ext cx="3902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604000" y="5175360"/>
              <a:ext cx="151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" name="椭圆 4"/>
          <p:cNvGrpSpPr/>
          <p:nvPr/>
        </p:nvGrpSpPr>
        <p:grpSpPr>
          <a:xfrm>
            <a:off x="8448840" y="5572080"/>
            <a:ext cx="390240" cy="291960"/>
            <a:chOff x="8448840" y="5572080"/>
            <a:chExt cx="390240" cy="291960"/>
          </a:xfrm>
        </p:grpSpPr>
        <p:pic>
          <p:nvPicPr>
            <p:cNvPr id="164" name="椭圆 4" descr=""/>
            <p:cNvPicPr/>
            <p:nvPr/>
          </p:nvPicPr>
          <p:blipFill>
            <a:blip r:embed="rId2"/>
            <a:stretch/>
          </p:blipFill>
          <p:spPr>
            <a:xfrm>
              <a:off x="8448840" y="5572080"/>
              <a:ext cx="3902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604000" y="5603760"/>
              <a:ext cx="15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" name="椭圆 5"/>
          <p:cNvGrpSpPr/>
          <p:nvPr/>
        </p:nvGrpSpPr>
        <p:grpSpPr>
          <a:xfrm>
            <a:off x="8442360" y="5999040"/>
            <a:ext cx="396720" cy="298440"/>
            <a:chOff x="8442360" y="5999040"/>
            <a:chExt cx="396720" cy="298440"/>
          </a:xfrm>
        </p:grpSpPr>
        <p:pic>
          <p:nvPicPr>
            <p:cNvPr id="167" name="椭圆 5" descr=""/>
            <p:cNvPicPr/>
            <p:nvPr/>
          </p:nvPicPr>
          <p:blipFill>
            <a:blip r:embed="rId3"/>
            <a:stretch/>
          </p:blipFill>
          <p:spPr>
            <a:xfrm>
              <a:off x="8442360" y="5999040"/>
              <a:ext cx="3967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604360" y="6032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70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1238400" y="3372120"/>
              <a:ext cx="2038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3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5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6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7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4a3a"/>
                    </a:gs>
                    <a:gs pos="100000">
                      <a:srgbClr val="44987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acd1c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acb"/>
                  </a:gs>
                  <a:gs pos="100000">
                    <a:srgbClr val="1f40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6ed"/>
                  </a:gs>
                  <a:gs pos="100000">
                    <a:srgbClr val="438ac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48235"/>
                    </a:srgbClr>
                  </a:gs>
                  <a:gs pos="100000">
                    <a:srgbClr val="356da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6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5715000" y="3372120"/>
              <a:ext cx="2038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4ded4"/>
              </a:gs>
              <a:gs pos="100000">
                <a:srgbClr val="4498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1040" y="444600"/>
            <a:ext cx="796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49878"/>
                </a:solidFill>
                <a:uFillTx/>
                <a:latin typeface="Arial"/>
                <a:hlinkClick r:id="rId1"/>
              </a:rPr>
              <a:t>月度工作总结ppt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9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734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100000">
                  <a:srgbClr val="152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20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4d4d4d"/>
              </a:solidFill>
              <a:miter/>
            </a:ln>
          </p:spPr>
        </p:cxnSp>
        <p:sp>
          <p:nvSpPr>
            <p:cNvPr id="20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9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AutoShape 19"/>
            <p:cNvSpPr/>
            <p:nvPr/>
          </p:nvSpPr>
          <p:spPr>
            <a:xfrm>
              <a:off x="3125520" y="5288760"/>
              <a:ext cx="2816280" cy="57276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1f4638"/>
                </a:gs>
                <a:gs pos="100000">
                  <a:srgbClr val="44987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1760" y="3206520"/>
                <a:ext cx="45936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4680" y="4609800"/>
                <a:ext cx="44316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2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4680"/>
                <a:ext cx="20563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3320" cy="1878480"/>
              </a:xfrm>
              <a:prstGeom prst="ellips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ffffff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600" y="2471040"/>
                <a:ext cx="1814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080" cy="1631520"/>
              </a:xfrm>
              <a:prstGeom prst="ellips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255241"/>
                  </a:gs>
                  <a:gs pos="100000">
                    <a:srgbClr val="4498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0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3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3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3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3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54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55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Line 4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68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6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ae26"/>
                  </a:gs>
                  <a:gs pos="50000">
                    <a:srgbClr val="375112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>
                  <a:gd name="textAreaLeft" fmla="*/ 0 w 3343320"/>
                  <a:gd name="textAreaRight" fmla="*/ 3343680 w 334332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49878"/>
                  </a:gs>
                  <a:gs pos="50000">
                    <a:srgbClr val="1f4638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49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50000">
                    <a:srgbClr val="434e51"/>
                  </a:gs>
                  <a:gs pos="100000">
                    <a:srgbClr val="90a8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acb"/>
                  </a:gs>
                  <a:gs pos="50000">
                    <a:srgbClr val="1f405e"/>
                  </a:gs>
                  <a:gs pos="100000">
                    <a:srgbClr val="438ac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>
                  <a:gd name="textAreaLeft" fmla="*/ 0 w 4081680"/>
                  <a:gd name="textAreaRight" fmla="*/ 4082040 w 40816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3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>
                  <a:gd name="textAreaLeft" fmla="*/ 0 w 1838520"/>
                  <a:gd name="textAreaRight" fmla="*/ 1838880 w 183852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567e1c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316e57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0a8b0"/>
                  </a:gs>
                  <a:gs pos="50000">
                    <a:srgbClr val="687a80"/>
                  </a:gs>
                  <a:gs pos="100000">
                    <a:srgbClr val="90a8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38acb"/>
                  </a:gs>
                  <a:gs pos="50000">
                    <a:srgbClr val="316493"/>
                  </a:gs>
                  <a:gs pos="100000">
                    <a:srgbClr val="438ac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83" name="Group 25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84" name="Freeform 3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55a184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5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49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4638"/>
                </a:gs>
                <a:gs pos="50000">
                  <a:srgbClr val="449878"/>
                </a:gs>
                <a:gs pos="100000">
                  <a:srgbClr val="1f4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AutoShape 11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bfcdd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96" name="Group 15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97" name="AutoShape 16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AutoShape 17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84144"/>
                  </a:gs>
                  <a:gs pos="50000">
                    <a:srgbClr val="90a8b0"/>
                  </a:gs>
                  <a:gs pos="100000">
                    <a:srgbClr val="384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9" name="AutoShape 18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AutoShape 19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Text Box 20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912600" y="3374280"/>
                <a:ext cx="20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3" name="Text Box 23"/>
            <p:cNvSpPr/>
            <p:nvPr/>
          </p:nvSpPr>
          <p:spPr>
            <a:xfrm>
              <a:off x="5837040" y="246852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52:28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