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EAC-818D-4812-891E-67898C61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419-42FF-46F6-ABD0-6F47C009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2F2-2E99-4C79-BEE7-F1A9EF96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1F3-8812-4FAA-B28A-DE0C4279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BFEB-D90D-4701-88DD-451299C0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7D94-D0EE-437B-BCD3-9146F3FB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B323-2947-462B-82A1-9752B89E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96F4-0E07-404E-B0B2-ABA00474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F010-F925-46C8-A6C3-E548A06E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275C-ACCC-41E3-ABFC-7BFE9359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0D57-2B11-44D3-AE45-FF524166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416-706C-4EB7-B075-A46B9BD3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DC14-39D9-46FC-AAD7-1EB84FB8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B8A5-CE5F-4130-AED8-EE1A6693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C2F6-3786-4C5B-A7A2-8B9231A9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1688-B3D4-4F53-BBD7-0CDA56D4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29CF-602C-4C4D-A09C-F4757273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421-CB44-4CC5-B560-85676432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D85-63E8-48A6-99B5-9834730E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697-92E3-477B-AFED-4B7F68EE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3EF-9733-461E-A49F-92B4F4CB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DB6-F361-4824-A2F4-CDF6F81C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848-C2F6-42C2-AEE0-C28D8CA8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2AE-3DF3-4058-9E49-C9357BBC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9EAC-D05E-4AF2-866A-6430ED278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B660-5AF6-4C94-B733-AE302164B3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957F-2BD8-445C-A297-4F68473994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3652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151080" y="6094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亮的心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3429000" cy="3362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4196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263600" y="685800"/>
            <a:ext cx="6352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  女儿  儿女  女同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太  太好了 太累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  早晨   很早  早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  天气   生气  空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  明亮   光亮  亮晶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去  回去   来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3772080" cy="20318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665360" y="2895480"/>
            <a:ext cx="581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深了，月亮透过窗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帘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见一个小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睡在床上，身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个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包，里面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装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水果和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855800" y="2209680"/>
            <a:ext cx="581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亮自言自语地说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们去郊游，得去跟太阳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商量商量，让明天有个好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4_23"/>
          <p:cNvPicPr/>
          <p:nvPr/>
        </p:nvPicPr>
        <p:blipFill>
          <a:blip r:embed="rId1"/>
          <a:stretch/>
        </p:blipFill>
        <p:spPr>
          <a:xfrm>
            <a:off x="1066680" y="228600"/>
            <a:ext cx="190512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147040" y="3124080"/>
            <a:ext cx="459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亮又来到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家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窗前，只见一个小女孩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照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顾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病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妈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4952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3886200" cy="1763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76320" y="2209680"/>
            <a:ext cx="89154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说：“珍珍，早点儿睡吧，不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太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，明天你还要去郊游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，我不想去了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天还是和大家一起去玩玩吧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是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说您的病还没好呢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913320" y="1752480"/>
            <a:ext cx="7312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说：“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珍珍，早点儿睡吧，不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太累了，明天你还要去郊游呢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妈妈，我不想去了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明天还是和大家一起去玩玩吧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可是，医生说您的病还没好呢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120320" y="304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清是谁说的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04920" y="228600"/>
            <a:ext cx="3886200" cy="762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53080" y="1828800"/>
            <a:ext cx="6910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亮悄悄地离开了窗户，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想：“我去跟雷公公说说，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还是下雨吧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4_23"/>
          <p:cNvPicPr/>
          <p:nvPr/>
        </p:nvPicPr>
        <p:blipFill>
          <a:blip r:embed="rId1"/>
          <a:stretch/>
        </p:blipFill>
        <p:spPr>
          <a:xfrm>
            <a:off x="914400" y="177840"/>
            <a:ext cx="17524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861640" y="1600200"/>
            <a:ext cx="3496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天后的一个艳阳天，孩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们一个都不少，排着队，愉快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在郊游的路上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78720" y="1905120"/>
            <a:ext cx="670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l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i   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g     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zhu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90120" y="3505320"/>
            <a:ext cx="786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累   户   帘   病   装   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0900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会连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66680" y="2438280"/>
            <a:ext cx="274320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 flipH="1">
            <a:off x="837720" y="2438280"/>
            <a:ext cx="1676520" cy="10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 flipH="1">
            <a:off x="2362320" y="2438280"/>
            <a:ext cx="129528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4648320" y="2514600"/>
            <a:ext cx="83808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6477120" y="2590920"/>
            <a:ext cx="182880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H="1">
            <a:off x="6781680" y="2438280"/>
            <a:ext cx="106704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02:59:54Z</dcterms:created>
  <dc:creator>An</dc:creator>
  <dc:description/>
  <dc:language>en-US</dc:language>
  <cp:lastModifiedBy/>
  <dcterms:modified xsi:type="dcterms:W3CDTF">2015-05-20T04:17:51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