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B6C-62B7-4699-A838-B5143AD5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AE8-279C-4E2C-AEED-9BC352A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CAC-BE93-45D7-8208-0E3FBABC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12A-2C50-46B1-B8B9-083B7532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0E0D-C555-4E78-98E1-3AE79984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4BB-AE3A-4D2A-BF54-E8BAB346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297-E585-49D9-8FD7-956EF0A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0D77-1116-41E8-AA50-6E4925C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70E-7C0B-46F6-A5C2-9035099D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45FF-EF25-437C-AD3F-4D8FEA8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8266-11B7-46DD-8056-D977028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5E2-F345-4164-B12C-ECDE2503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9911-A15A-4A31-8669-9DD465F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56D8-4029-46EC-AFC0-CB85164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851-F151-419F-994E-864006C0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1839-B1CB-4C04-A523-55EB4D0A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9D30-6EFF-4F4A-ABF0-B4A836BC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463-2B8C-4E2B-8512-DAD532C0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AB3-9D04-40B4-99D8-D836CD1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9C1-3077-4392-913A-0F91AD4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00D-DD7B-4318-86C6-95735BF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02C-F985-4891-BD03-137987A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205-4B9C-4419-815F-6D6E648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54C-CEAC-4D2D-A24E-5ED80B9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1F9-6DBB-4BFC-B967-C6D2D0E05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CA7-4197-4A1B-ADC8-E1619A16BC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理数的加法复习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有理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|a|+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结果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    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必定是正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可能是负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不可能是负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正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负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零都可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两个数之和为正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那么这两个数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  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都是正数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都是负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正一负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至少有一个正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个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0,-2,+6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和比他们的绝对值的和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___________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数轴上表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将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向右平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个单位到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则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所表示的实数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如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a|=3,|b|=4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a+b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值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计算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+3)+(-17)=______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若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x+3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2y-3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互为相反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求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+y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值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Object 4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3673440" cy="101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8360" y="3500280"/>
            <a:ext cx="83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计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+(-2)+3+(-4)+---+99+(-1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+2+3+(-4)+---+99+(-1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87700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1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筐苹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以每筐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千克为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超过的千   克数记作正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不足的千克数记位负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记录如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, -4, 2.5, 3, -0.5, 1.5, 3, 1 ,0, -2.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问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筐苹果总共重多少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4360" y="328464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4360" y="3500280"/>
            <a:ext cx="784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练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袋面粉重量如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     102,97,98,101,105,96,100,99,104,98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你能计算其总重量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3:00:22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7:49:2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