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6.gif" ContentType="image/gif"/>
  <Override PartName="/ppt/media/image10.jpeg" ContentType="image/jpeg"/>
  <Override PartName="/ppt/media/image2.gif" ContentType="image/gif"/>
  <Override PartName="/ppt/media/image5.jpeg" ContentType="image/jpeg"/>
  <Override PartName="/ppt/media/image8.png" ContentType="image/png"/>
  <Override PartName="/ppt/media/image14.jpeg" ContentType="image/jpeg"/>
  <Override PartName="/ppt/media/chimes.wav" ContentType="audio/x-wav"/>
  <Override PartName="/ppt/media/image16.jpeg" ContentType="image/jpeg"/>
  <Override PartName="/ppt/media/image4.gif" ContentType="image/gif"/>
  <Override PartName="/ppt/media/image1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3.jpeg" ContentType="image/jpeg"/>
  <Override PartName="/ppt/media/image24.jpeg" ContentType="image/jpeg"/>
  <Override PartName="/ppt/media/image21.png" ContentType="image/png"/>
  <Override PartName="/ppt/media/image13.jpeg" ContentType="image/jpeg"/>
  <Override PartName="/ppt/media/image17.jpeg" ContentType="image/jpeg"/>
  <Override PartName="/ppt/media/image15.jpeg" ContentType="image/jpeg"/>
  <Override PartName="/ppt/media/image20.png" ContentType="image/png"/>
  <Override PartName="/ppt/media/image7.jpeg" ContentType="image/jpeg"/>
  <Override PartName="/ppt/media/image19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DD29-6609-4CF0-8E68-D6E6DD50A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470C-F8E1-4A5B-9A16-67349F16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8A05-ACA3-4FEE-AD2D-6FB68A927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444C-6034-416A-9CCC-A0F4EDEE4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B31D-F411-432E-A690-185CA208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8190-E7C3-48F9-B7B6-759B183B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2B27-B424-42C6-982A-72807305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6130-D03F-4F0E-9F8B-D1BF8185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F232-E291-43F1-9D0C-ACD3B7FC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2F28-9CA1-47EA-9E33-242097DC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3597-3125-49D8-B020-C5864DF0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DF95-AD77-4428-913A-F5A2CB1C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B297-C9CC-4B9D-9277-7D1D105D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43E0-31AD-427E-8BBA-F50B608A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5E1E-628A-4535-A2A6-03880CEE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EBE1-3A50-4352-A749-00EBC762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E80B-9090-4F32-90C9-FFB1C66AF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C83B4-436D-4947-9D11-B89FC7FD7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E2AC9-5903-44A5-AE28-FD508D86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29DFC-0EF3-4569-A2E5-25A1AC8A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0BE1B-E55E-4E8B-B9E6-FDE16B08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7F462-8A9E-4205-8288-66C50DAB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30CF-7156-4E04-AB4D-7F31E57B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8A142-8B1F-424A-9897-57544CA2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B4242-C7DA-4B29-B067-491465E0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202BC-F572-4A36-844C-00824D58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AC5E0-17CD-4D0E-A709-CF5F25C2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894B6-1A8F-4F75-9C10-20EEF546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E30E8-B848-4F2C-A331-D9C37AA2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1716E-4A3C-4CAF-A2C6-ED50C9A89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20B7-7685-4FE2-9B2C-408EBD83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DC31-5155-44BF-BACF-92745C53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8F0E-6ECC-4E84-9DB8-53FF7B87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9AF8-A149-44D7-A8E9-070F6588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1E15-B04E-4BF1-98E6-C77604F1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4D6B-9E30-4A05-89C6-8899D273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F151-FC57-494A-B60C-B8BFFD3FA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0828-50BE-4DB8-BCED-6ED624046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37E9-DB57-4B01-914F-08B4C9A4B0A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F846-1D53-4FD8-B706-8D3F648025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2004.163.com/special/t/tpzx.html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五星红旗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WordArt 3"/>
          <p:cNvSpPr txBox="1"/>
          <p:nvPr/>
        </p:nvSpPr>
        <p:spPr>
          <a:xfrm>
            <a:off x="755640" y="907920"/>
            <a:ext cx="662472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一面五星红旗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11509441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http://cimg.163.com/2004/2004/8/28/20040828041107759be.jpg">
            <a:hlinkClick r:id="rId2"/>
          </p:cNvPr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0" y="0"/>
            <a:ext cx="428616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4"/>
          <a:stretch/>
        </p:blipFill>
        <p:spPr>
          <a:xfrm>
            <a:off x="4511520" y="44280"/>
            <a:ext cx="4464360" cy="3332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5"/>
          <a:stretch/>
        </p:blipFill>
        <p:spPr>
          <a:xfrm>
            <a:off x="4505400" y="3456000"/>
            <a:ext cx="4462560" cy="3332160"/>
          </a:xfrm>
          <a:prstGeom prst="rect">
            <a:avLst/>
          </a:prstGeom>
          <a:ln w="0">
            <a:noFill/>
          </a:ln>
        </p:spPr>
      </p:pic>
      <p:sp>
        <p:nvSpPr>
          <p:cNvPr id="157" name="WordArt 5"/>
          <p:cNvSpPr txBox="1"/>
          <p:nvPr/>
        </p:nvSpPr>
        <p:spPr>
          <a:xfrm>
            <a:off x="971640" y="189000"/>
            <a:ext cx="54864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五星红旗是我的骄傲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雪峰上的红旗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468360" y="2602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00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二年九月二十三日， 中国北极科学考察建站团 ，远赴北极地区的新奥尔松，到达之后，首先拿出的是一面五星红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285840" y="149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1_1-1-21-21_20031015185829"/>
          <p:cNvPicPr/>
          <p:nvPr/>
        </p:nvPicPr>
        <p:blipFill>
          <a:blip r:embed="rId1"/>
          <a:stretch/>
        </p:blipFill>
        <p:spPr>
          <a:xfrm>
            <a:off x="3352680" y="1600200"/>
            <a:ext cx="5791320" cy="52578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0" y="530532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中国航天员杨利伟乘坐“神舟五号”飞船在太空中展示中国国旗和联合国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1_1-1-21-312_20031016164011"/>
          <p:cNvPicPr/>
          <p:nvPr/>
        </p:nvPicPr>
        <p:blipFill>
          <a:blip r:embed="rId2"/>
          <a:stretch/>
        </p:blipFill>
        <p:spPr>
          <a:xfrm>
            <a:off x="0" y="0"/>
            <a:ext cx="5029200" cy="49528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5105520" y="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003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日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各族人民手持国旗欢聚天安门广场，庆祝中国首次载人飞船“神州五号”顺利升上太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8712360" y="6354720"/>
            <a:ext cx="431640" cy="503280"/>
          </a:xfrm>
          <a:custGeom>
            <a:avLst/>
            <a:gdLst>
              <a:gd name="textAreaLeft" fmla="*/ 27000 w 431640"/>
              <a:gd name="textAreaRight" fmla="*/ 405000 w 431640"/>
              <a:gd name="textAreaTop" fmla="*/ 27000 h 503280"/>
              <a:gd name="textAreaBottom" fmla="*/ 47664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50" y="23832"/>
                </a:lnTo>
                <a:lnTo>
                  <a:pt x="20250" y="135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350" y="23832"/>
                </a:lnTo>
                <a:lnTo>
                  <a:pt x="20250" y="2383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350" y="1350"/>
                </a:lnTo>
                <a:lnTo>
                  <a:pt x="1350" y="23832"/>
                </a:lnTo>
                <a:close/>
              </a:path>
              <a:path fill="darken" w="21600" h="25182">
                <a:moveTo>
                  <a:pt x="10800" y="5591"/>
                </a:moveTo>
                <a:lnTo>
                  <a:pt x="13390" y="8216"/>
                </a:lnTo>
                <a:lnTo>
                  <a:pt x="13390" y="6466"/>
                </a:lnTo>
                <a:lnTo>
                  <a:pt x="15175" y="6466"/>
                </a:lnTo>
                <a:lnTo>
                  <a:pt x="15175" y="10001"/>
                </a:lnTo>
                <a:lnTo>
                  <a:pt x="17800" y="12591"/>
                </a:lnTo>
                <a:lnTo>
                  <a:pt x="16138" y="12591"/>
                </a:lnTo>
                <a:lnTo>
                  <a:pt x="16138" y="19819"/>
                </a:lnTo>
                <a:lnTo>
                  <a:pt x="5463" y="19819"/>
                </a:lnTo>
                <a:lnTo>
                  <a:pt x="5463" y="12591"/>
                </a:lnTo>
                <a:lnTo>
                  <a:pt x="3800" y="12591"/>
                </a:lnTo>
                <a:close/>
              </a:path>
              <a:path fill="darkenLess" w="21600" h="25182">
                <a:moveTo>
                  <a:pt x="13390" y="8216"/>
                </a:moveTo>
                <a:lnTo>
                  <a:pt x="13390" y="6466"/>
                </a:lnTo>
                <a:lnTo>
                  <a:pt x="15175" y="6466"/>
                </a:lnTo>
                <a:lnTo>
                  <a:pt x="15175" y="10001"/>
                </a:lnTo>
                <a:close/>
              </a:path>
              <a:path fill="darkenLess" w="21600" h="25182">
                <a:moveTo>
                  <a:pt x="9873" y="16109"/>
                </a:moveTo>
                <a:lnTo>
                  <a:pt x="11728" y="16109"/>
                </a:lnTo>
                <a:lnTo>
                  <a:pt x="11728" y="19819"/>
                </a:lnTo>
                <a:lnTo>
                  <a:pt x="16138" y="19819"/>
                </a:lnTo>
                <a:lnTo>
                  <a:pt x="16138" y="12591"/>
                </a:lnTo>
                <a:lnTo>
                  <a:pt x="5463" y="12591"/>
                </a:lnTo>
                <a:lnTo>
                  <a:pt x="5463" y="19819"/>
                </a:lnTo>
                <a:lnTo>
                  <a:pt x="9873" y="1981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http://cimg.163.com/2004/2004/8/29/20040829062725dd24d.jpg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2514600"/>
            <a:ext cx="4648320" cy="2590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http://all.163.com/sports/29/q06.jpg"/>
          <p:cNvPicPr/>
          <p:nvPr/>
        </p:nvPicPr>
        <p:blipFill>
          <a:blip r:embed="rId2"/>
          <a:stretch/>
        </p:blipFill>
        <p:spPr>
          <a:xfrm>
            <a:off x="0" y="0"/>
            <a:ext cx="4648320" cy="25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http://cimg.163.com/2004/2004/8/29/2004082904481581f2e.jpg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2490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http://cimg.163.com/2004/2004/8/29/200408290627570592a.jpg"/>
          <p:cNvPicPr/>
          <p:nvPr/>
        </p:nvPicPr>
        <p:blipFill>
          <a:blip r:embed="rId4"/>
          <a:stretch/>
        </p:blipFill>
        <p:spPr>
          <a:xfrm>
            <a:off x="4724280" y="2514600"/>
            <a:ext cx="4419720" cy="25909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6"/>
          <p:cNvSpPr/>
          <p:nvPr/>
        </p:nvSpPr>
        <p:spPr>
          <a:xfrm>
            <a:off x="0" y="50576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华文楷体"/>
                <a:ea typeface="华文楷体"/>
              </a:rPr>
              <a:t>2004</a:t>
            </a:r>
            <a:r>
              <a:rPr b="1" lang="zh-CN" sz="2800" spc="-1" strike="noStrike">
                <a:solidFill>
                  <a:srgbClr val="009900"/>
                </a:solidFill>
                <a:latin typeface="华文楷体"/>
                <a:ea typeface="华文楷体"/>
              </a:rPr>
              <a:t>年在雅典奥运会女子排球决赛中，中国队苦战</a:t>
            </a:r>
            <a:r>
              <a:rPr b="1" lang="en-US" sz="2800" spc="-1" strike="noStrike">
                <a:solidFill>
                  <a:srgbClr val="009900"/>
                </a:solidFill>
                <a:latin typeface="华文楷体"/>
                <a:ea typeface="华文楷体"/>
              </a:rPr>
              <a:t>5</a:t>
            </a:r>
            <a:r>
              <a:rPr b="1" lang="zh-CN" sz="2800" spc="-1" strike="noStrike">
                <a:solidFill>
                  <a:srgbClr val="009900"/>
                </a:solidFill>
                <a:latin typeface="华文楷体"/>
                <a:ea typeface="华文楷体"/>
              </a:rPr>
              <a:t>局，以</a:t>
            </a:r>
            <a:r>
              <a:rPr b="1" lang="en-US" sz="2800" spc="-1" strike="noStrike">
                <a:solidFill>
                  <a:srgbClr val="009900"/>
                </a:solidFill>
                <a:latin typeface="华文楷体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09900"/>
                </a:solidFill>
                <a:latin typeface="华文楷体"/>
                <a:ea typeface="华文楷体"/>
              </a:rPr>
              <a:t>比</a:t>
            </a:r>
            <a:r>
              <a:rPr b="1" lang="en-US" sz="2800" spc="-1" strike="noStrike">
                <a:solidFill>
                  <a:srgbClr val="009900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9900"/>
                </a:solidFill>
                <a:latin typeface="华文楷体"/>
                <a:ea typeface="华文楷体"/>
              </a:rPr>
              <a:t>战胜俄罗斯队，时隔</a:t>
            </a:r>
            <a:r>
              <a:rPr b="1" lang="en-US" sz="2800" spc="-1" strike="noStrike">
                <a:solidFill>
                  <a:srgbClr val="009900"/>
                </a:solidFill>
                <a:latin typeface="华文楷体"/>
                <a:ea typeface="华文楷体"/>
              </a:rPr>
              <a:t>20</a:t>
            </a:r>
            <a:r>
              <a:rPr b="1" lang="zh-CN" sz="2800" spc="-1" strike="noStrike">
                <a:solidFill>
                  <a:srgbClr val="009900"/>
                </a:solidFill>
                <a:latin typeface="华文楷体"/>
                <a:ea typeface="华文楷体"/>
              </a:rPr>
              <a:t>年后，重得奥运冠军。姑娘们激动地簇拥着五星红旗在赛场上奔跑着，在冉冉升起的五星红旗下，是多么的骄傲啊！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7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8"/>
          <p:cNvSpPr/>
          <p:nvPr/>
        </p:nvSpPr>
        <p:spPr>
          <a:xfrm>
            <a:off x="4932360" y="10476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2"/>
          <p:cNvGrpSpPr/>
          <p:nvPr/>
        </p:nvGrpSpPr>
        <p:grpSpPr>
          <a:xfrm>
            <a:off x="3851280" y="-674640"/>
            <a:ext cx="3733920" cy="7531920"/>
            <a:chOff x="3851280" y="-674640"/>
            <a:chExt cx="3733920" cy="7531920"/>
          </a:xfrm>
        </p:grpSpPr>
        <p:pic>
          <p:nvPicPr>
            <p:cNvPr id="128" name="Picture 3" descr="五星红旗1"/>
            <p:cNvPicPr/>
            <p:nvPr/>
          </p:nvPicPr>
          <p:blipFill>
            <a:blip r:embed="rId1"/>
            <a:stretch/>
          </p:blipFill>
          <p:spPr>
            <a:xfrm>
              <a:off x="3851280" y="-674640"/>
              <a:ext cx="3733920" cy="39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Rectangle 4"/>
            <p:cNvSpPr/>
            <p:nvPr/>
          </p:nvSpPr>
          <p:spPr>
            <a:xfrm>
              <a:off x="4043520" y="155520"/>
              <a:ext cx="144360" cy="670176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10800000"/>
            </a:gra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WordArt 5"/>
          <p:cNvSpPr txBox="1"/>
          <p:nvPr/>
        </p:nvSpPr>
        <p:spPr>
          <a:xfrm>
            <a:off x="900000" y="5013360"/>
            <a:ext cx="5486400" cy="13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飘扬的五星红旗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1447920" y="1143000"/>
            <a:ext cx="7696080" cy="44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华文琥珀"/>
                <a:ea typeface="华文琥珀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华文琥珀"/>
                <a:ea typeface="华文琥珀"/>
              </a:rPr>
              <a:t>                         </a:t>
            </a:r>
            <a:r>
              <a:rPr b="0" lang="zh-CN" sz="2800" spc="-1" strike="noStrike">
                <a:solidFill>
                  <a:srgbClr val="ff0000"/>
                </a:solidFill>
                <a:latin typeface="华文琥珀"/>
                <a:ea typeface="华文琥珀"/>
              </a:rPr>
              <a:t>自学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自由朗读课文，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读准字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想一想：你读懂了什么？       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借助字典学习理解生字新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同桌之间互相检查生字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人物2"/>
          <p:cNvPicPr/>
          <p:nvPr/>
        </p:nvPicPr>
        <p:blipFill>
          <a:blip r:embed="rId2"/>
          <a:stretch/>
        </p:blipFill>
        <p:spPr>
          <a:xfrm>
            <a:off x="6629400" y="5181480"/>
            <a:ext cx="838080" cy="838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动物1"/>
          <p:cNvPicPr/>
          <p:nvPr/>
        </p:nvPicPr>
        <p:blipFill>
          <a:blip r:embed="rId2"/>
          <a:stretch/>
        </p:blipFill>
        <p:spPr>
          <a:xfrm>
            <a:off x="914400" y="762120"/>
            <a:ext cx="880920" cy="942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3186720" y="14479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摊 奈 凝 竖 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659400" y="2514600"/>
            <a:ext cx="155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把双手一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一脸的无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久久地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凝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竖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起大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拇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021320" y="1676520"/>
            <a:ext cx="820800" cy="5205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我会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1947600" y="1447920"/>
            <a:ext cx="539820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小组合作学习建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请你画出课文中写到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五星红旗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句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并把你感受最深的句子读给小组的同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和小组的同学交流交流，从这个句子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中你知道了什么？还有什么不理解？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空白处画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问题泡泡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90720" y="1828800"/>
            <a:ext cx="72388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摇摇头，吃力地穿上大衣，拿着鲜艳的国旗，趔趔趄趄地向外走去。突然，我摔倒在地上，就什么也不知道了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我会猜"/>
          <p:cNvPicPr/>
          <p:nvPr/>
        </p:nvPicPr>
        <p:blipFill>
          <a:blip r:embed="rId2"/>
          <a:stretch/>
        </p:blipFill>
        <p:spPr>
          <a:xfrm>
            <a:off x="539640" y="189000"/>
            <a:ext cx="169236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914400" y="1515960"/>
            <a:ext cx="7405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醒来的时候，发现自己躺在医院的病房里，身边站着的就是面包店的老板。他见我醒了，冲我竖起大拇指，说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安心养一养，费用由我来付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我会猜"/>
          <p:cNvPicPr/>
          <p:nvPr/>
        </p:nvPicPr>
        <p:blipFill>
          <a:blip r:embed="rId2"/>
          <a:stretch/>
        </p:blipFill>
        <p:spPr>
          <a:xfrm>
            <a:off x="539640" y="189000"/>
            <a:ext cx="169236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NewsMedia_594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20060415181642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12:22:47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5:51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