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1B4-2F2A-42D3-9E84-D3EDFD5C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AE2-24A8-4170-AFA6-D36DA2BA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6F9-CE75-4AA9-B500-CC42B77C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658-BE83-40AE-9D7E-FB1C2F6B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7716-0387-4ACE-BB5E-23E48586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9052-D81D-44F5-8417-E9FBAF29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A21E-C4D5-4D28-9E8E-6CEA8E98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E48C-2770-42DD-A305-04EFED20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AD6B-4F80-47D7-AC7D-007B726B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149F-7186-49A0-B431-58C15F3E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D349-7AB3-4043-852A-EADF81DB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A20-CA1B-479E-90B0-01746F09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6687-ED68-4327-A1BE-8D343E36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50A3-099A-4AF3-B536-41792097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11BD-EDFB-49FD-8241-E62B55C7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4076-A772-4641-AF89-2EE4E88F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BA78-9D46-46E8-9CCF-C23370C6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982-71E0-4486-A8E3-BA24A4A9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548-8419-4969-A8C2-099E8518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6B8-BCD4-4B40-AFB0-C0E6EC6B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31D-29E9-4EA5-9ADD-7356E402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338-DED8-4FC9-93F2-A9912937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04A-57E9-455B-A97B-EB57438A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768-0CC4-4D02-B1F3-BA809819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5F2C-B650-470B-8745-89A1C1EAC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ADE9-4088-49A4-BEF0-30DEE589A5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4B96-11CC-43AC-9520-709DCEA580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:\Documents and Settings\HOME\桌面\b_70F080DA10110C9E.gif"/>
          <p:cNvPicPr/>
          <p:nvPr/>
        </p:nvPicPr>
        <p:blipFill>
          <a:blip r:embed="rId1"/>
          <a:stretch/>
        </p:blipFill>
        <p:spPr>
          <a:xfrm>
            <a:off x="5486400" y="32004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宜昌市李家湖小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雷       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WordArt 10"/>
          <p:cNvSpPr txBox="1"/>
          <p:nvPr/>
        </p:nvSpPr>
        <p:spPr>
          <a:xfrm>
            <a:off x="380880" y="914400"/>
            <a:ext cx="853452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cap="sq" w="12600">
                  <a:solidFill>
                    <a:srgbClr val="ff0033"/>
                  </a:solidFill>
                  <a:miter/>
                </a:ln>
                <a:solidFill>
                  <a:srgbClr val="ff003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月  球  之  谜</a:t>
            </a:r>
            <a:endParaRPr b="0" lang="en-US" sz="9600" spc="1" strike="noStrike">
              <a:ln cap="sq" w="12600">
                <a:solidFill>
                  <a:srgbClr val="ff0033"/>
                </a:solidFill>
                <a:miter/>
              </a:ln>
              <a:solidFill>
                <a:srgbClr val="ff003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"/>
          <p:cNvSpPr/>
          <p:nvPr/>
        </p:nvSpPr>
        <p:spPr>
          <a:xfrm>
            <a:off x="1066680" y="609480"/>
            <a:ext cx="6705720" cy="1143000"/>
          </a:xfrm>
          <a:prstGeom prst="cloudCallout">
            <a:avLst>
              <a:gd name="adj1" fmla="val -20527"/>
              <a:gd name="adj2" fmla="val 70000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Arial"/>
                <a:ea typeface="华文行楷"/>
              </a:rPr>
              <a:t>看看谁记汉字最快，比比谁最棒！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幕  临  悬  曾  奥  努  登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任  撒  藻  旦  项  估  龄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/>
          <p:cNvSpPr/>
          <p:nvPr/>
        </p:nvSpPr>
        <p:spPr>
          <a:xfrm>
            <a:off x="1905120" y="457200"/>
            <a:ext cx="3047760" cy="1295280"/>
          </a:xfrm>
          <a:prstGeom prst="cloudCallout">
            <a:avLst>
              <a:gd name="adj1" fmla="val -19532"/>
              <a:gd name="adj2" fmla="val 69976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读 读 写 写！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夜幕降临　悬挂   皎洁　遐想    奇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曾经　       奥秘   努力　登上    任何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撒在　      水藻　一旦　一项     估计年龄          费解    探索    任何    曾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4"/>
          <p:cNvSpPr/>
          <p:nvPr/>
        </p:nvSpPr>
        <p:spPr>
          <a:xfrm>
            <a:off x="3733920" y="0"/>
            <a:ext cx="1752480" cy="990720"/>
          </a:xfrm>
          <a:prstGeom prst="wedgeEllipseCallout">
            <a:avLst>
              <a:gd name="adj1" fmla="val -44837"/>
              <a:gd name="adj2" fmla="val 70032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</a:rPr>
              <a:t>资料袋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月球起源之谜：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目前，人类关于月球的起源，一共提出了三种假说：月球被捕获说，地月同源说和地球分裂说。到目前为止，三种假说都没有取得强有力的证据，因此产生了第四种假说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──“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月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──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宇宙飞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说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月球年龄之谜：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根据从月球带回的岩石标本，可以测定月球的年龄。经分析发现，与地球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％年龄最大的岩石相比，月球岩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9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％年龄更长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7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年，世界月球研讨会上曾测定一块月球岩石年龄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亿岁，而地球上最古老的岩石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7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亿岁。有些科学家提出，在地球形成之前，月球早已在星际空间形成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4"/>
          <p:cNvSpPr/>
          <p:nvPr/>
        </p:nvSpPr>
        <p:spPr>
          <a:xfrm>
            <a:off x="2895480" y="228600"/>
            <a:ext cx="1752840" cy="838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资料袋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两位宇航员在登上月球后，马上开始了紧张的工作：他们检查了登月器的着陆情况，一切正常；他们拿出铁锹，采集了月壤和月岩的样品；他们从登月舱中取出一块纪念碑，把它竖立在月球上，纪念碑上刻着地球东半球和西半球的图像，上面还刻着：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69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月，太阳系的行星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─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地球上的人类第一次在月球上留下足迹，我们代表全人类，来这里做一次和平的旅行。然后，又在月球表面安装了电视摄像机；又安装了一台太阳风测定装置，用来检测宇宙射线；还安装了用来精确测定月球和地球间距离的激光仪，测定月震的月震仪。他们又取出美国星条旗，神色庄重地把它插在月亮上。这些工作完成后，他们舒了一口气，跟美国总统尼克松进行了月亮和地球间的第一次通话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/>
          <p:cNvSpPr/>
          <p:nvPr/>
        </p:nvSpPr>
        <p:spPr>
          <a:xfrm>
            <a:off x="2971800" y="609480"/>
            <a:ext cx="1676520" cy="6858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资料袋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世纪，人类将移民月球，建立月球村。月球村将利用太阳能取暖，利用月球上发现的水生产蔬菜、粮食，建立各种生活设施。月球村的重要任务是开采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并运回地球，利用这一热能源发电，供应全球所需电能。人类还将开发地球人拜访月球村的旅游业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从“阿波罗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号开始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号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号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号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号都曾目击或拍摄过月面不明飞行物的照片，甚至早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6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，美国的“月球轨道环形器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号就发现，在月面上有一些排列有序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米高的塔状建筑物，随后，苏联的宇宙飞船也发现了这些建筑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/>
          <p:cNvSpPr/>
          <p:nvPr/>
        </p:nvSpPr>
        <p:spPr>
          <a:xfrm>
            <a:off x="1600200" y="609480"/>
            <a:ext cx="5410080" cy="1067040"/>
          </a:xfrm>
          <a:prstGeom prst="cloudCallout">
            <a:avLst>
              <a:gd name="adj1" fmla="val -35564"/>
              <a:gd name="adj2" fmla="val 82888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5105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Arial"/>
                <a:ea typeface="华文行楷"/>
              </a:rPr>
              <a:t>我会收集好多描写月亮的诗句！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床前明月光，疑是地上霜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李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举头望明月，低头思故乡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李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月下飞天镜，云生结海楼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李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举杯邀明月，对影成三人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李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、无言独上西楼，月如钩。    李煜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、明月别枝惊鹊，清风半夜鸣蝉。 辛弃疾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、可怜九月初三夜，露似珍珠月似弓。 白居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月落乌啼霜满天，江枫渔火对愁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....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张继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月上柳梢头，人约黄昏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...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欧阳修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明月几时有，把酒问青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....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苏轼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5" descr="C:\Documents and Settings\HOME\桌面\b_98D33BDA756C464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C:\Documents and Settings\HOME\桌面\xin_210901271631640212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C:\Documents and Settings\HOME\桌面\b_11628703411A75D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C:\Documents and Settings\HOME\桌面\b_9327F82C1D12E1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4" descr="C:\Documents and Settings\HOME\桌面\200506031133451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C:\Documents and Settings\HOME\桌面\2-1-49035_010801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C:\Documents and Settings\HOME\桌面\2005_9_19_75515_4755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C:\Documents and Settings\HOME\桌面\42327282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2:54:36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7:55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